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3016250" cy="4564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CE67-23B8-4C73-8B99-38420B02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868D-9CAA-48DD-B572-7C00DD63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1262-EE0A-4CBA-ADBB-E41BEE36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7481-F1C0-420D-9E05-4ECDFD45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249E-E518-4969-A290-91C750E6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C81B-2762-4588-9683-6AC26555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FA5B-EC2A-417E-816B-D18CFC56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D1B6-B814-4780-9320-9E2C5F0C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E4C6-818F-49B5-9F47-EDA202AD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FF8C-664A-4873-B496-1C0FAD49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55F4-06B6-4FCF-9A0B-5530FD1D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3681-7CAC-4FE9-8D46-CD67D34C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2633-06D1-42F7-B2FB-8CA34F204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6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5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4.png"/><Relationship Id="rId51" Type="http://schemas.openxmlformats.org/officeDocument/2006/relationships/image" Target="../media/image4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5.png"/><Relationship Id="rId5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9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4.png"/><Relationship Id="rId21" Type="http://schemas.openxmlformats.org/officeDocument/2006/relationships/image" Target="../media/image5.png"/><Relationship Id="rId22" Type="http://schemas.openxmlformats.org/officeDocument/2006/relationships/image" Target="../media/image4.png"/><Relationship Id="rId23" Type="http://schemas.openxmlformats.org/officeDocument/2006/relationships/image" Target="../media/image5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4.png"/><Relationship Id="rId21" Type="http://schemas.openxmlformats.org/officeDocument/2006/relationships/image" Target="../media/image5.png"/><Relationship Id="rId22" Type="http://schemas.openxmlformats.org/officeDocument/2006/relationships/image" Target="../media/image4.png"/><Relationship Id="rId23" Type="http://schemas.openxmlformats.org/officeDocument/2006/relationships/image" Target="../media/image5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4.png"/><Relationship Id="rId27" Type="http://schemas.openxmlformats.org/officeDocument/2006/relationships/image" Target="../media/image5.png"/><Relationship Id="rId28" Type="http://schemas.openxmlformats.org/officeDocument/2006/relationships/image" Target="../media/image3.png"/><Relationship Id="rId2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4.png"/><Relationship Id="rId44" Type="http://schemas.openxmlformats.org/officeDocument/2006/relationships/image" Target="../media/image5.png"/><Relationship Id="rId45" Type="http://schemas.openxmlformats.org/officeDocument/2006/relationships/image" Target="../media/image4.png"/><Relationship Id="rId46" Type="http://schemas.openxmlformats.org/officeDocument/2006/relationships/image" Target="../media/image5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3.png"/><Relationship Id="rId62" Type="http://schemas.openxmlformats.org/officeDocument/2006/relationships/image" Target="../media/image3.png"/><Relationship Id="rId63" Type="http://schemas.openxmlformats.org/officeDocument/2006/relationships/image" Target="../media/image2.png"/><Relationship Id="rId6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0840" y="2311560"/>
            <a:ext cx="8280360" cy="2307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Book Antiqua"/>
              </a:rPr>
              <a:t>СТАТИЧЕСК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Book Antiqua"/>
              </a:rPr>
              <a:t>НЕОПРЕДЕЛИМ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227160"/>
            <a:ext cx="828036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ru-RU" sz="5400" spc="-1" strike="noStrike">
                <a:solidFill>
                  <a:srgbClr val="333399"/>
                </a:solidFill>
                <a:latin typeface="New_Zelek"/>
              </a:rPr>
              <a:t>С</a:t>
            </a:r>
            <a:r>
              <a:rPr b="1" lang="ru-RU" sz="4400" spc="-1" strike="noStrike">
                <a:solidFill>
                  <a:srgbClr val="333399"/>
                </a:solidFill>
                <a:latin typeface="New_Zelek"/>
              </a:rPr>
              <a:t>ТРОИТЕЛЬНАЯ МЕХА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New_Zelek"/>
              </a:rPr>
              <a:t>Ч</a:t>
            </a:r>
            <a:r>
              <a:rPr b="1" lang="ru-RU" sz="4400" spc="-1" strike="noStrike">
                <a:solidFill>
                  <a:srgbClr val="333399"/>
                </a:solidFill>
                <a:latin typeface="New_Zelek"/>
              </a:rPr>
              <a:t>асть </a:t>
            </a:r>
            <a:r>
              <a:rPr b="1" lang="en-US" sz="5400" spc="-1" strike="noStrike">
                <a:solidFill>
                  <a:srgbClr val="333399"/>
                </a:solidFill>
                <a:latin typeface="New_Zelek"/>
              </a:rPr>
              <a:t>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417240" y="176040"/>
            <a:ext cx="405000" cy="668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371520"/>
            <a:ext cx="28728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ВГ</a:t>
            </a:r>
            <a:endParaRPr b="1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6160" y="4632480"/>
            <a:ext cx="878508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4400" spc="-1" strike="noStrike">
                <a:solidFill>
                  <a:srgbClr val="333399"/>
                </a:solidFill>
                <a:latin typeface="Book Antiqua"/>
              </a:rPr>
              <a:t>Расчёт деформируемых систе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ok Antiqua"/>
              </a:rPr>
              <a:t>методом перемещ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11640" y="5873760"/>
            <a:ext cx="719280" cy="71928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46560" y="583236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179280" y="665280"/>
            <a:ext cx="8785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) обусловленные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ипом системы (характером работы элемент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>
            <a:hlinkClick r:id="" action="ppaction://hlinkshowjump?jump=nextslide"/>
          </p:cNvPr>
          <p:cNvSpPr/>
          <p:nvPr/>
        </p:nvSpPr>
        <p:spPr>
          <a:xfrm>
            <a:off x="1258920" y="260280"/>
            <a:ext cx="6553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 Black"/>
              </a:rPr>
              <a:t>ОСОБЕННОСТИ РАСЧЁТА ДЕФОРМИРУЕМЫХ СИСТ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 Black"/>
              </a:rPr>
              <a:t>МЕТОДОМ ПЕРЕМЕЩ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451320" y="2228760"/>
            <a:ext cx="215640" cy="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452760" y="22287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2657520" y="2228760"/>
            <a:ext cx="216000" cy="7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2658960" y="22287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631880" y="2228760"/>
            <a:ext cx="21600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633680" y="222876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042920" y="194328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771640" y="19810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733840" y="2187720"/>
            <a:ext cx="71280" cy="7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704960" y="2022480"/>
            <a:ext cx="54000" cy="171360"/>
          </a:xfrm>
          <a:custGeom>
            <a:avLst/>
            <a:gdLst/>
            <a:ahLst/>
            <a:rect l="l" t="t" r="r" b="b"/>
            <a:pathLst>
              <a:path w="34" h="108">
                <a:moveTo>
                  <a:pt x="12" y="0"/>
                </a:moveTo>
                <a:lnTo>
                  <a:pt x="34" y="19"/>
                </a:lnTo>
                <a:lnTo>
                  <a:pt x="0" y="31"/>
                </a:lnTo>
                <a:lnTo>
                  <a:pt x="34" y="55"/>
                </a:lnTo>
                <a:lnTo>
                  <a:pt x="0" y="68"/>
                </a:lnTo>
                <a:lnTo>
                  <a:pt x="34" y="92"/>
                </a:lnTo>
                <a:lnTo>
                  <a:pt x="8" y="10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rot="5400000">
            <a:off x="897840" y="1904760"/>
            <a:ext cx="21600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1039320" y="1830240"/>
            <a:ext cx="180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732040" y="195732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698480" y="219240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698480" y="195588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3525840" y="190800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527280" y="219240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2124000" y="1792440"/>
            <a:ext cx="360360" cy="239760"/>
          </a:xfrm>
          <a:prstGeom prst="rect">
            <a:avLst/>
          </a:prstGeom>
          <a:solidFill>
            <a:srgbClr val="f8f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835280" y="1052640"/>
            <a:ext cx="10080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Ба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rot="2700000">
            <a:off x="1469520" y="1756440"/>
            <a:ext cx="144360" cy="5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rot="18900000">
            <a:off x="2889360" y="1760040"/>
            <a:ext cx="144360" cy="54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2776320" y="1719360"/>
            <a:ext cx="215640" cy="215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509840" y="1719360"/>
            <a:ext cx="215640" cy="215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625760" y="1595520"/>
            <a:ext cx="21564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627200" y="16606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739880" y="1647720"/>
            <a:ext cx="0" cy="21600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701720" y="185580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700280" y="162396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452760" y="3394080"/>
            <a:ext cx="21600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3454560" y="33940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2658960" y="3394080"/>
            <a:ext cx="21600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2660760" y="33940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633680" y="3394080"/>
            <a:ext cx="215640" cy="73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1635120" y="33940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1044720" y="3108240"/>
            <a:ext cx="25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773440" y="31464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565440" y="31464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2735280" y="335268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rot="5400000">
            <a:off x="899640" y="3070080"/>
            <a:ext cx="216000" cy="73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1041480" y="299556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733840" y="312264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1700280" y="3357720"/>
            <a:ext cx="71280" cy="7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1700280" y="3121200"/>
            <a:ext cx="71280" cy="7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3527280" y="307332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529080" y="3357720"/>
            <a:ext cx="71280" cy="7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2125800" y="2957400"/>
            <a:ext cx="360360" cy="239760"/>
          </a:xfrm>
          <a:prstGeom prst="rect">
            <a:avLst/>
          </a:prstGeom>
          <a:solidFill>
            <a:srgbClr val="eefc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rot="2700000">
            <a:off x="1470600" y="2921760"/>
            <a:ext cx="144720" cy="540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rot="18900000">
            <a:off x="2890800" y="2925360"/>
            <a:ext cx="144360" cy="54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2778120" y="2884320"/>
            <a:ext cx="21600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1511280" y="2884320"/>
            <a:ext cx="21600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1739880" y="3186000"/>
            <a:ext cx="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532320" y="1981080"/>
            <a:ext cx="54000" cy="209520"/>
          </a:xfrm>
          <a:custGeom>
            <a:avLst/>
            <a:gdLst/>
            <a:ahLst/>
            <a:rect l="l" t="t" r="r" b="b"/>
            <a:pathLst>
              <a:path w="34" h="132">
                <a:moveTo>
                  <a:pt x="27" y="0"/>
                </a:moveTo>
                <a:lnTo>
                  <a:pt x="1" y="20"/>
                </a:lnTo>
                <a:lnTo>
                  <a:pt x="33" y="42"/>
                </a:lnTo>
                <a:lnTo>
                  <a:pt x="0" y="59"/>
                </a:lnTo>
                <a:lnTo>
                  <a:pt x="34" y="83"/>
                </a:lnTo>
                <a:lnTo>
                  <a:pt x="0" y="96"/>
                </a:lnTo>
                <a:lnTo>
                  <a:pt x="34" y="120"/>
                </a:lnTo>
                <a:lnTo>
                  <a:pt x="17" y="1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95280" y="1268280"/>
            <a:ext cx="38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на податливых (деформируемых) опор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444840" y="1633680"/>
            <a:ext cx="216000" cy="727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3446640" y="16984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559320" y="1692360"/>
            <a:ext cx="0" cy="21564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3519360" y="166212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474840" y="2401920"/>
            <a:ext cx="37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на жёстких (недеформируемых) опор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1692360" y="2989440"/>
            <a:ext cx="231480" cy="2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70" y="95"/>
                </a:moveTo>
                <a:arcTo wR="10800" hR="10800" stAng="-5856608" swAng="12408446"/>
                <a:lnTo>
                  <a:pt x="10800" y="10800"/>
                </a:lnTo>
                <a:close/>
              </a:path>
              <a:path fill="none" w="21600" h="21600">
                <a:moveTo>
                  <a:pt x="9370" y="95"/>
                </a:moveTo>
                <a:arcTo wR="10800" hR="10800" stAng="-5856608" swAng="12408446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736640" y="27338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771640" y="27464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3197160" y="28195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125360" y="29494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222200" y="29494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1320840" y="29494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1420920" y="29494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128600" y="29494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665360" y="2784600"/>
            <a:ext cx="144360" cy="144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 flipH="1">
            <a:off x="1665000" y="2784600"/>
            <a:ext cx="144360" cy="144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705040" y="2784600"/>
            <a:ext cx="144360" cy="144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2704680" y="2784600"/>
            <a:ext cx="144360" cy="144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923760" y="371160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 = a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ru-RU" sz="1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1971720" y="3772080"/>
            <a:ext cx="720720" cy="287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679840" y="3772080"/>
            <a:ext cx="955440" cy="287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1782720" y="3718080"/>
                <a:ext cx="8636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0" name=""/>
              <p:cNvSpPr txBox="1"/>
              <p:nvPr/>
            </p:nvSpPr>
            <p:spPr>
              <a:xfrm>
                <a:off x="2635200" y="3713040"/>
                <a:ext cx="9478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</m:sub>
                    </m:sSub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514440" y="4903920"/>
                <a:ext cx="29178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θ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θ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442800" y="4024440"/>
                <a:ext cx="75276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3" name=""/>
          <p:cNvSpPr/>
          <p:nvPr/>
        </p:nvSpPr>
        <p:spPr>
          <a:xfrm>
            <a:off x="2163600" y="4113360"/>
            <a:ext cx="201636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при силовых воздейст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163600" y="4589640"/>
            <a:ext cx="240840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при заданных смещениях связ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065240" y="4102200"/>
            <a:ext cx="1171440" cy="2156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293840" y="4346640"/>
            <a:ext cx="647640" cy="216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2333520" y="4735440"/>
                <a:ext cx="142416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∋</m:t>
                    </m:r>
                    <m:r>
                      <m:t xml:space="preserve">θ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542880" y="5429160"/>
                <a:ext cx="41004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θ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θ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u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9" name=""/>
              <p:cNvSpPr txBox="1"/>
              <p:nvPr/>
            </p:nvSpPr>
            <p:spPr>
              <a:xfrm>
                <a:off x="1087560" y="4044960"/>
                <a:ext cx="11523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u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0" name=""/>
          <p:cNvSpPr/>
          <p:nvPr/>
        </p:nvSpPr>
        <p:spPr>
          <a:xfrm>
            <a:off x="382680" y="3905280"/>
            <a:ext cx="576000" cy="1181160"/>
          </a:xfrm>
          <a:custGeom>
            <a:avLst/>
            <a:gdLst/>
            <a:ahLst/>
            <a:rect l="l" t="t" r="r" b="b"/>
            <a:pathLst>
              <a:path w="363" h="726">
                <a:moveTo>
                  <a:pt x="363" y="0"/>
                </a:moveTo>
                <a:lnTo>
                  <a:pt x="0" y="0"/>
                </a:lnTo>
                <a:lnTo>
                  <a:pt x="0" y="726"/>
                </a:lnTo>
                <a:lnTo>
                  <a:pt x="91" y="726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65200" y="4578480"/>
            <a:ext cx="71280" cy="388800"/>
          </a:xfrm>
          <a:custGeom>
            <a:avLst/>
            <a:gdLst/>
            <a:ahLst/>
            <a:rect l="l" t="t" r="r" b="b"/>
            <a:pathLst>
              <a:path w="44" h="220">
                <a:moveTo>
                  <a:pt x="0" y="0"/>
                </a:moveTo>
                <a:lnTo>
                  <a:pt x="0" y="140"/>
                </a:lnTo>
                <a:lnTo>
                  <a:pt x="44" y="220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495360" y="5200560"/>
            <a:ext cx="27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При отсутствии смещений связе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43040" y="5761080"/>
            <a:ext cx="1728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Для элемента 1-го тип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353880" y="5986440"/>
                <a:ext cx="25495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j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,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,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j,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5" name=""/>
          <p:cNvSpPr/>
          <p:nvPr/>
        </p:nvSpPr>
        <p:spPr>
          <a:xfrm>
            <a:off x="2900520" y="5757840"/>
            <a:ext cx="1701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Для элемента 2-го тип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994120" y="6012000"/>
                <a:ext cx="159372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j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,</m:t>
                            </m:r>
                            <m:r>
                              <m:t xml:space="preserve">Σ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j,</m:t>
                            </m:r>
                            <m:r>
                              <m:t xml:space="preserve">Σ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304920" y="2449440"/>
            <a:ext cx="4390920" cy="4103640"/>
          </a:xfrm>
          <a:prstGeom prst="rect">
            <a:avLst/>
          </a:prstGeom>
          <a:noFill/>
          <a:ln w="1908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157800" y="1197000"/>
            <a:ext cx="11527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Фе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508720" y="2211480"/>
            <a:ext cx="2376360" cy="718920"/>
          </a:xfrm>
          <a:custGeom>
            <a:avLst/>
            <a:gdLst/>
            <a:ahLst/>
            <a:rect l="l" t="t" r="r" b="b"/>
            <a:pathLst>
              <a:path w="1497" h="453">
                <a:moveTo>
                  <a:pt x="0" y="453"/>
                </a:moveTo>
                <a:lnTo>
                  <a:pt x="409" y="0"/>
                </a:lnTo>
                <a:lnTo>
                  <a:pt x="1089" y="0"/>
                </a:lnTo>
                <a:lnTo>
                  <a:pt x="1497" y="453"/>
                </a:lnTo>
                <a:lnTo>
                  <a:pt x="0" y="453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157800" y="2211480"/>
            <a:ext cx="1079640" cy="718920"/>
          </a:xfrm>
          <a:custGeom>
            <a:avLst/>
            <a:gdLst/>
            <a:ahLst/>
            <a:rect l="l" t="t" r="r" b="b"/>
            <a:pathLst>
              <a:path w="680" h="453">
                <a:moveTo>
                  <a:pt x="0" y="0"/>
                </a:moveTo>
                <a:lnTo>
                  <a:pt x="362" y="453"/>
                </a:lnTo>
                <a:lnTo>
                  <a:pt x="68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626160" y="3165480"/>
            <a:ext cx="216000" cy="730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627960" y="31654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740640" y="29178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6702480" y="312408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700680" y="289404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5407200" y="3203640"/>
            <a:ext cx="215640" cy="730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408640" y="32036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5481720" y="288936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483160" y="316692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487840" y="2962440"/>
            <a:ext cx="54000" cy="209520"/>
          </a:xfrm>
          <a:custGeom>
            <a:avLst/>
            <a:gdLst/>
            <a:ahLst/>
            <a:rect l="l" t="t" r="r" b="b"/>
            <a:pathLst>
              <a:path w="34" h="132">
                <a:moveTo>
                  <a:pt x="27" y="0"/>
                </a:moveTo>
                <a:lnTo>
                  <a:pt x="1" y="20"/>
                </a:lnTo>
                <a:lnTo>
                  <a:pt x="33" y="42"/>
                </a:lnTo>
                <a:lnTo>
                  <a:pt x="0" y="59"/>
                </a:lnTo>
                <a:lnTo>
                  <a:pt x="34" y="83"/>
                </a:lnTo>
                <a:lnTo>
                  <a:pt x="0" y="96"/>
                </a:lnTo>
                <a:lnTo>
                  <a:pt x="34" y="120"/>
                </a:lnTo>
                <a:lnTo>
                  <a:pt x="17" y="1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7759800" y="3198960"/>
            <a:ext cx="215640" cy="727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7761240" y="31989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7834320" y="288432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7835760" y="316224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7840800" y="2951280"/>
            <a:ext cx="54000" cy="209520"/>
          </a:xfrm>
          <a:custGeom>
            <a:avLst/>
            <a:gdLst/>
            <a:ahLst/>
            <a:rect l="l" t="t" r="r" b="b"/>
            <a:pathLst>
              <a:path w="34" h="132">
                <a:moveTo>
                  <a:pt x="27" y="0"/>
                </a:moveTo>
                <a:lnTo>
                  <a:pt x="1" y="20"/>
                </a:lnTo>
                <a:lnTo>
                  <a:pt x="33" y="42"/>
                </a:lnTo>
                <a:lnTo>
                  <a:pt x="0" y="59"/>
                </a:lnTo>
                <a:lnTo>
                  <a:pt x="34" y="83"/>
                </a:lnTo>
                <a:lnTo>
                  <a:pt x="0" y="96"/>
                </a:lnTo>
                <a:lnTo>
                  <a:pt x="34" y="120"/>
                </a:lnTo>
                <a:lnTo>
                  <a:pt x="17" y="1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 rot="5400000">
            <a:off x="5147640" y="2887560"/>
            <a:ext cx="216000" cy="73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 flipH="1">
            <a:off x="5289120" y="2813040"/>
            <a:ext cx="180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H="1">
            <a:off x="5267160" y="292572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254560" y="288432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6126120" y="217332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7197840" y="217332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157800" y="225252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7237440" y="22431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402160" y="2608200"/>
            <a:ext cx="216000" cy="730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403960" y="267336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516640" y="2666880"/>
            <a:ext cx="0" cy="21600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77040" y="2637000"/>
            <a:ext cx="71280" cy="7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7753320" y="2597040"/>
            <a:ext cx="216000" cy="730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7754760" y="26622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7867800" y="2662200"/>
            <a:ext cx="0" cy="21600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7827840" y="262584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6045120" y="1890720"/>
            <a:ext cx="216000" cy="730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046920" y="19558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59600" y="1955880"/>
            <a:ext cx="0" cy="21600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6119640" y="191916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7122960" y="1898640"/>
            <a:ext cx="216000" cy="730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7124760" y="19638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7237440" y="1957320"/>
            <a:ext cx="0" cy="21600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7197840" y="192708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rot="5400000">
            <a:off x="5770080" y="2171520"/>
            <a:ext cx="216000" cy="730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5915160" y="2101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5913360" y="2208240"/>
            <a:ext cx="216000" cy="144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 rot="5400000">
            <a:off x="5882040" y="217080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 rot="5400000">
            <a:off x="6338520" y="2917800"/>
            <a:ext cx="215640" cy="73080"/>
          </a:xfrm>
          <a:prstGeom prst="rect">
            <a:avLst/>
          </a:prstGeom>
          <a:blipFill rotWithShape="0">
            <a:blip r:embed="rId24">
              <a:alphaModFix amt="6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6482880" y="2847960"/>
            <a:ext cx="180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 flipH="1">
            <a:off x="6494400" y="2954160"/>
            <a:ext cx="216000" cy="180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 rot="5400000">
            <a:off x="6450480" y="291708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rot="5400000">
            <a:off x="7436880" y="2172960"/>
            <a:ext cx="216000" cy="730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7505280" y="2097000"/>
            <a:ext cx="180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 flipH="1">
            <a:off x="7264440" y="2209680"/>
            <a:ext cx="216000" cy="180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 rot="5400000">
            <a:off x="7473240" y="2172600"/>
            <a:ext cx="71280" cy="7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rot="5400000">
            <a:off x="8081280" y="2889000"/>
            <a:ext cx="216000" cy="730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8150400" y="281304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7908840" y="2925720"/>
            <a:ext cx="216000" cy="180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 rot="5400000">
            <a:off x="8117280" y="288828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869080" y="1486080"/>
            <a:ext cx="30956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ж.о.с.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– для пространстве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фе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867280" y="1484280"/>
            <a:ext cx="2448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ж.о.с.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– для пло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фе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5479920" y="3309840"/>
            <a:ext cx="24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се элементы – 3-го ти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900000" y="33861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Элементы – 1-го и 2-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ип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5148360" y="3716280"/>
            <a:ext cx="93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 = a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ru-RU" sz="1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221520" y="3776760"/>
            <a:ext cx="871560" cy="287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7093080" y="3776760"/>
            <a:ext cx="1511280" cy="287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6021360" y="3722760"/>
                <a:ext cx="11048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(</m:t>
                    </m:r>
                    <m:r>
                      <m:t xml:space="preserve">Δl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7128000" y="3718080"/>
                <a:ext cx="14428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Δl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5116680" y="5416560"/>
                <a:ext cx="355428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l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Δ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l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5043600" y="4092480"/>
                <a:ext cx="7524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7" name=""/>
          <p:cNvSpPr/>
          <p:nvPr/>
        </p:nvSpPr>
        <p:spPr>
          <a:xfrm>
            <a:off x="6472080" y="4165560"/>
            <a:ext cx="2016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при силовых воздействиях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472080" y="4692600"/>
            <a:ext cx="240840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при заданных смещениях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связ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5724360" y="4149720"/>
            <a:ext cx="792360" cy="216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5727600" y="4414680"/>
            <a:ext cx="792360" cy="216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5823000" y="4086360"/>
                <a:ext cx="55872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2" name=""/>
          <p:cNvSpPr/>
          <p:nvPr/>
        </p:nvSpPr>
        <p:spPr>
          <a:xfrm>
            <a:off x="4908600" y="3933720"/>
            <a:ext cx="277920" cy="1656000"/>
          </a:xfrm>
          <a:custGeom>
            <a:avLst/>
            <a:gdLst/>
            <a:ahLst/>
            <a:rect l="l" t="t" r="r" b="b"/>
            <a:pathLst>
              <a:path w="175" h="725">
                <a:moveTo>
                  <a:pt x="175" y="0"/>
                </a:moveTo>
                <a:lnTo>
                  <a:pt x="0" y="0"/>
                </a:lnTo>
                <a:lnTo>
                  <a:pt x="0" y="723"/>
                </a:lnTo>
                <a:lnTo>
                  <a:pt x="100" y="725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148360" y="4672080"/>
            <a:ext cx="73080" cy="792000"/>
          </a:xfrm>
          <a:custGeom>
            <a:avLst/>
            <a:gdLst/>
            <a:ahLst/>
            <a:rect l="l" t="t" r="r" b="b"/>
            <a:pathLst>
              <a:path w="55" h="477">
                <a:moveTo>
                  <a:pt x="0" y="0"/>
                </a:moveTo>
                <a:lnTo>
                  <a:pt x="1" y="387"/>
                </a:lnTo>
                <a:lnTo>
                  <a:pt x="55" y="477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170080" y="4361040"/>
            <a:ext cx="223200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при изменениях темп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284120" y="4600440"/>
            <a:ext cx="648000" cy="216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344600" y="4541760"/>
            <a:ext cx="654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ru-RU" sz="1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309680" y="4280040"/>
            <a:ext cx="654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ru-RU" sz="1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6459480" y="4437000"/>
            <a:ext cx="223200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при изменениях темп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724360" y="4687920"/>
            <a:ext cx="792360" cy="216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689440" y="4600440"/>
            <a:ext cx="936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700" spc="-1" strike="noStrike" baseline="30000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ru-RU" sz="1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700" spc="-1" strike="noStrike" baseline="-25000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5694480" y="4321080"/>
            <a:ext cx="936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700" spc="-1" strike="noStrike" baseline="30000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ru-RU" sz="1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7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7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5638680" y="4970520"/>
            <a:ext cx="325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,t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 – EA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5965920" y="5908680"/>
            <a:ext cx="1701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Для элемента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-го тип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6084720" y="6165720"/>
                <a:ext cx="138276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A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 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5" name=""/>
          <p:cNvSpPr/>
          <p:nvPr/>
        </p:nvSpPr>
        <p:spPr>
          <a:xfrm>
            <a:off x="7577280" y="1979640"/>
            <a:ext cx="13492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ж.о.с. – жёст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оп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0" dur="indefinite" restart="never" nodeType="tmRoot">
          <p:childTnLst>
            <p:seq>
              <p:cTn id="3861" dur="indefinite" nodeType="mainSeq">
                <p:childTnLst>
                  <p:par>
                    <p:cTn id="3862" fill="hold">
                      <p:stCondLst>
                        <p:cond delay="0"/>
                      </p:stCondLst>
                      <p:childTnLst>
                        <p:par>
                          <p:cTn id="3863" fill="hold">
                            <p:stCondLst>
                              <p:cond delay="0"/>
                            </p:stCondLst>
                            <p:childTnLst>
                              <p:par>
                                <p:cTn id="38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6" dur="80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7" dur="80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8" dur="80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9" fill="hold">
                      <p:stCondLst>
                        <p:cond delay="indefinite"/>
                      </p:stCondLst>
                      <p:childTnLst>
                        <p:par>
                          <p:cTn id="3870" fill="hold">
                            <p:stCondLst>
                              <p:cond delay="0"/>
                            </p:stCondLst>
                            <p:childTnLst>
                              <p:par>
                                <p:cTn id="38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3" dur="1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4" dur="1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5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6" fill="hold">
                      <p:stCondLst>
                        <p:cond delay="indefinite"/>
                      </p:stCondLst>
                      <p:childTnLst>
                        <p:par>
                          <p:cTn id="3877" fill="hold">
                            <p:stCondLst>
                              <p:cond delay="0"/>
                            </p:stCondLst>
                            <p:childTnLst>
                              <p:par>
                                <p:cTn id="38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0" dur="1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1" dur="1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2" dur="1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5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6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7" dur="1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0" dur="10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1" dur="10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2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5" dur="1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6" dur="1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7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0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1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2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5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6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7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0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1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2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5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6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7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0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1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2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5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6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7" dur="1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0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1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2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5" dur="1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6" dur="1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7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0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1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2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5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6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7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0" dur="1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1" dur="1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2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5" dur="1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6" dur="1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7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0" dur="1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1" dur="1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2" dur="1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5" dur="1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6" dur="1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7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1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2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5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6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7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8" fill="hold">
                      <p:stCondLst>
                        <p:cond delay="indefinite"/>
                      </p:stCondLst>
                      <p:childTnLst>
                        <p:par>
                          <p:cTn id="3979" fill="hold">
                            <p:stCondLst>
                              <p:cond delay="0"/>
                            </p:stCondLst>
                            <p:childTnLst>
                              <p:par>
                                <p:cTn id="39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2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5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8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1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4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7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0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3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6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2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5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8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9" fill="hold">
                      <p:stCondLst>
                        <p:cond delay="indefinite"/>
                      </p:stCondLst>
                      <p:childTnLst>
                        <p:par>
                          <p:cTn id="4020" fill="hold">
                            <p:stCondLst>
                              <p:cond delay="0"/>
                            </p:stCondLst>
                            <p:childTnLst>
                              <p:par>
                                <p:cTn id="40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3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4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5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8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9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0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3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4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5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8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9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0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3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4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5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8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9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0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3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4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5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8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9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0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3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4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5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8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9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0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3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4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5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8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9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0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3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4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5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8" dur="1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9" dur="1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0" dur="1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3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4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5" dur="1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8" dur="1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9" dur="1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0" dur="1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3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4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5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8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9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0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5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8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9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0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3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4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5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8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9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0" dur="1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3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4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5" dur="1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8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9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0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3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4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5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8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9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0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3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4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5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8" dur="1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9" dur="1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0" dur="1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3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4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5" dur="1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6" fill="hold">
                      <p:stCondLst>
                        <p:cond delay="indefinite"/>
                      </p:stCondLst>
                      <p:childTnLst>
                        <p:par>
                          <p:cTn id="4167" fill="hold">
                            <p:stCondLst>
                              <p:cond delay="0"/>
                            </p:stCondLst>
                            <p:childTnLst>
                              <p:par>
                                <p:cTn id="4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0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3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6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9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0" fill="hold">
                      <p:stCondLst>
                        <p:cond delay="indefinite"/>
                      </p:stCondLst>
                      <p:childTnLst>
                        <p:par>
                          <p:cTn id="4181" fill="hold">
                            <p:stCondLst>
                              <p:cond delay="0"/>
                            </p:stCondLst>
                            <p:childTnLst>
                              <p:par>
                                <p:cTn id="4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5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9" dur="1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0" dur="1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1" dur="1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4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5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6" dur="1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9" dur="1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0" dur="1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1" dur="1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2" fill="hold">
                      <p:stCondLst>
                        <p:cond delay="indefinite"/>
                      </p:stCondLst>
                      <p:childTnLst>
                        <p:par>
                          <p:cTn id="4203" fill="hold">
                            <p:stCondLst>
                              <p:cond delay="0"/>
                            </p:stCondLst>
                            <p:childTnLst>
                              <p:par>
                                <p:cTn id="4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8" dur="1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1" dur="1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4" dur="1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7" dur="1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20" dur="1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2" fill="hold">
                      <p:stCondLst>
                        <p:cond delay="indefinite"/>
                      </p:stCondLst>
                      <p:childTnLst>
                        <p:par>
                          <p:cTn id="4223" fill="hold">
                            <p:stCondLst>
                              <p:cond delay="0"/>
                            </p:stCondLst>
                            <p:childTnLst>
                              <p:par>
                                <p:cTn id="4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6" dur="80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7" dur="80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8" dur="80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9" fill="hold">
                      <p:stCondLst>
                        <p:cond delay="indefinite"/>
                      </p:stCondLst>
                      <p:childTnLst>
                        <p:par>
                          <p:cTn id="4230" fill="hold">
                            <p:stCondLst>
                              <p:cond delay="0"/>
                            </p:stCondLst>
                            <p:childTnLst>
                              <p:par>
                                <p:cTn id="4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3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4" dur="10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5" dur="1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6" fill="hold">
                      <p:stCondLst>
                        <p:cond delay="indefinite"/>
                      </p:stCondLst>
                      <p:childTnLst>
                        <p:par>
                          <p:cTn id="4237" fill="hold">
                            <p:stCondLst>
                              <p:cond delay="0"/>
                            </p:stCondLst>
                            <p:childTnLst>
                              <p:par>
                                <p:cTn id="4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0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1" dur="1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2" dur="10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5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6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7" dur="1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8" fill="hold">
                      <p:stCondLst>
                        <p:cond delay="indefinite"/>
                      </p:stCondLst>
                      <p:childTnLst>
                        <p:par>
                          <p:cTn id="4249" fill="hold">
                            <p:stCondLst>
                              <p:cond delay="0"/>
                            </p:stCondLst>
                            <p:childTnLst>
                              <p:par>
                                <p:cTn id="4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2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3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4" dur="1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7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8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9" dur="1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0" fill="hold">
                      <p:stCondLst>
                        <p:cond delay="indefinite"/>
                      </p:stCondLst>
                      <p:childTnLst>
                        <p:par>
                          <p:cTn id="4261" fill="hold">
                            <p:stCondLst>
                              <p:cond delay="0"/>
                            </p:stCondLst>
                            <p:childTnLst>
                              <p:par>
                                <p:cTn id="4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4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5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6" dur="1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7" fill="hold">
                      <p:stCondLst>
                        <p:cond delay="indefinite"/>
                      </p:stCondLst>
                      <p:childTnLst>
                        <p:par>
                          <p:cTn id="4268" fill="hold">
                            <p:stCondLst>
                              <p:cond delay="0"/>
                            </p:stCondLst>
                            <p:childTnLst>
                              <p:par>
                                <p:cTn id="4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1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4" dur="1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5" fill="hold">
                      <p:stCondLst>
                        <p:cond delay="indefinite"/>
                      </p:stCondLst>
                      <p:childTnLst>
                        <p:par>
                          <p:cTn id="4276" fill="hold">
                            <p:stCondLst>
                              <p:cond delay="0"/>
                            </p:stCondLst>
                            <p:childTnLst>
                              <p:par>
                                <p:cTn id="42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9" dur="80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0" dur="80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1" dur="80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2" fill="hold">
                      <p:stCondLst>
                        <p:cond delay="indefinite"/>
                      </p:stCondLst>
                      <p:childTnLst>
                        <p:par>
                          <p:cTn id="4283" fill="hold">
                            <p:stCondLst>
                              <p:cond delay="0"/>
                            </p:stCondLst>
                            <p:childTnLst>
                              <p:par>
                                <p:cTn id="4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6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9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0" fill="hold">
                      <p:stCondLst>
                        <p:cond delay="indefinite"/>
                      </p:stCondLst>
                      <p:childTnLst>
                        <p:par>
                          <p:cTn id="4291" fill="hold">
                            <p:stCondLst>
                              <p:cond delay="0"/>
                            </p:stCondLst>
                            <p:childTnLst>
                              <p:par>
                                <p:cTn id="4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4" dur="80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5" dur="80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6" dur="80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7" fill="hold">
                      <p:stCondLst>
                        <p:cond delay="indefinite"/>
                      </p:stCondLst>
                      <p:childTnLst>
                        <p:par>
                          <p:cTn id="4298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1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5" fill="hold">
                      <p:stCondLst>
                        <p:cond delay="indefinite"/>
                      </p:stCondLst>
                      <p:childTnLst>
                        <p:par>
                          <p:cTn id="4306" fill="hold">
                            <p:stCondLst>
                              <p:cond delay="0"/>
                            </p:stCondLst>
                            <p:childTnLst>
                              <p:par>
                                <p:cTn id="4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9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2" dur="1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3" fill="hold">
                      <p:stCondLst>
                        <p:cond delay="indefinite"/>
                      </p:stCondLst>
                      <p:childTnLst>
                        <p:par>
                          <p:cTn id="4314" fill="hold">
                            <p:stCondLst>
                              <p:cond delay="0"/>
                            </p:stCondLst>
                            <p:childTnLst>
                              <p:par>
                                <p:cTn id="4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7" dur="1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8" dur="1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9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2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3" dur="10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7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8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9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0" fill="hold">
                      <p:stCondLst>
                        <p:cond delay="indefinite"/>
                      </p:stCondLst>
                      <p:childTnLst>
                        <p:par>
                          <p:cTn id="4331" fill="hold">
                            <p:stCondLst>
                              <p:cond delay="0"/>
                            </p:stCondLst>
                            <p:childTnLst>
                              <p:par>
                                <p:cTn id="4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4" dur="1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7" dur="1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8" fill="hold">
                      <p:stCondLst>
                        <p:cond delay="indefinite"/>
                      </p:stCondLst>
                      <p:childTnLst>
                        <p:par>
                          <p:cTn id="4339" fill="hold">
                            <p:stCondLst>
                              <p:cond delay="0"/>
                            </p:stCondLst>
                            <p:childTnLst>
                              <p:par>
                                <p:cTn id="4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2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5" dur="2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6" fill="hold">
                      <p:stCondLst>
                        <p:cond delay="indefinite"/>
                      </p:stCondLst>
                      <p:childTnLst>
                        <p:par>
                          <p:cTn id="4347" fill="hold">
                            <p:stCondLst>
                              <p:cond delay="0"/>
                            </p:stCondLst>
                            <p:childTnLst>
                              <p:par>
                                <p:cTn id="4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0" dur="2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3" dur="2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4" fill="hold">
                      <p:stCondLst>
                        <p:cond delay="indefinite"/>
                      </p:stCondLst>
                      <p:childTnLst>
                        <p:par>
                          <p:cTn id="4355" fill="hold">
                            <p:stCondLst>
                              <p:cond delay="0"/>
                            </p:stCondLst>
                            <p:childTnLst>
                              <p:par>
                                <p:cTn id="4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8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9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0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1" fill="hold">
                      <p:stCondLst>
                        <p:cond delay="indefinite"/>
                      </p:stCondLst>
                      <p:childTnLst>
                        <p:par>
                          <p:cTn id="4362" fill="hold">
                            <p:stCondLst>
                              <p:cond delay="0"/>
                            </p:stCondLst>
                            <p:childTnLst>
                              <p:par>
                                <p:cTn id="4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5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6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7" dur="1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8" fill="hold">
                      <p:stCondLst>
                        <p:cond delay="indefinite"/>
                      </p:stCondLst>
                      <p:childTnLst>
                        <p:par>
                          <p:cTn id="4369" fill="hold">
                            <p:stCondLst>
                              <p:cond delay="0"/>
                            </p:stCondLst>
                            <p:childTnLst>
                              <p:par>
                                <p:cTn id="4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2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5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8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1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4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7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0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3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6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9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2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5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1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4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7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0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6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9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2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5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8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1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4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5" fill="hold">
                      <p:stCondLst>
                        <p:cond delay="indefinite"/>
                      </p:stCondLst>
                      <p:childTnLst>
                        <p:par>
                          <p:cTn id="4446" fill="hold">
                            <p:stCondLst>
                              <p:cond delay="0"/>
                            </p:stCondLst>
                            <p:childTnLst>
                              <p:par>
                                <p:cTn id="44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9" dur="80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0" dur="80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1" dur="80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2" fill="hold">
                      <p:stCondLst>
                        <p:cond delay="indefinite"/>
                      </p:stCondLst>
                      <p:childTnLst>
                        <p:par>
                          <p:cTn id="4453" fill="hold">
                            <p:stCondLst>
                              <p:cond delay="0"/>
                            </p:stCondLst>
                            <p:childTnLst>
                              <p:par>
                                <p:cTn id="4454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455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9" dur="80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0" dur="80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1" dur="80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2" fill="hold">
                            <p:stCondLst>
                              <p:cond delay="1200"/>
                            </p:stCondLst>
                            <p:childTnLst>
                              <p:par>
                                <p:cTn id="44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5" dur="80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6" dur="80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7" dur="80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8" fill="hold">
                      <p:stCondLst>
                        <p:cond delay="indefinite"/>
                      </p:stCondLst>
                      <p:childTnLst>
                        <p:par>
                          <p:cTn id="4469" fill="hold">
                            <p:stCondLst>
                              <p:cond delay="0"/>
                            </p:stCondLst>
                            <p:childTnLst>
                              <p:par>
                                <p:cTn id="4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2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5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8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1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4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7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3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6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9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2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5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8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1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4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7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0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3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6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9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2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5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8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1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4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7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3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6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9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2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5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6" fill="hold">
                      <p:stCondLst>
                        <p:cond delay="indefinite"/>
                      </p:stCondLst>
                      <p:childTnLst>
                        <p:par>
                          <p:cTn id="4567" fill="hold">
                            <p:stCondLst>
                              <p:cond delay="0"/>
                            </p:stCondLst>
                            <p:childTnLst>
                              <p:par>
                                <p:cTn id="45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0" dur="80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1" dur="80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2" dur="80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3" fill="hold">
                      <p:stCondLst>
                        <p:cond delay="indefinite"/>
                      </p:stCondLst>
                      <p:childTnLst>
                        <p:par>
                          <p:cTn id="4574" fill="hold">
                            <p:stCondLst>
                              <p:cond delay="0"/>
                            </p:stCondLst>
                            <p:childTnLst>
                              <p:par>
                                <p:cTn id="45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7" dur="10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8" dur="10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9" dur="1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0" fill="hold">
                      <p:stCondLst>
                        <p:cond delay="indefinite"/>
                      </p:stCondLst>
                      <p:childTnLst>
                        <p:par>
                          <p:cTn id="4581" fill="hold">
                            <p:stCondLst>
                              <p:cond delay="0"/>
                            </p:stCondLst>
                            <p:childTnLst>
                              <p:par>
                                <p:cTn id="45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4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5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6" dur="1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9" dur="1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0" dur="1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1" dur="1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2" fill="hold">
                      <p:stCondLst>
                        <p:cond delay="indefinite"/>
                      </p:stCondLst>
                      <p:childTnLst>
                        <p:par>
                          <p:cTn id="4593" fill="hold">
                            <p:stCondLst>
                              <p:cond delay="0"/>
                            </p:stCondLst>
                            <p:childTnLst>
                              <p:par>
                                <p:cTn id="45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6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7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8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1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2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3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4" fill="hold">
                      <p:stCondLst>
                        <p:cond delay="indefinite"/>
                      </p:stCondLst>
                      <p:childTnLst>
                        <p:par>
                          <p:cTn id="4605" fill="hold">
                            <p:stCondLst>
                              <p:cond delay="0"/>
                            </p:stCondLst>
                            <p:childTnLst>
                              <p:par>
                                <p:cTn id="46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8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9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0" dur="1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1" fill="hold">
                      <p:stCondLst>
                        <p:cond delay="indefinite"/>
                      </p:stCondLst>
                      <p:childTnLst>
                        <p:par>
                          <p:cTn id="4612" fill="hold">
                            <p:stCondLst>
                              <p:cond delay="0"/>
                            </p:stCondLst>
                            <p:childTnLst>
                              <p:par>
                                <p:cTn id="4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5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8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9" fill="hold">
                      <p:stCondLst>
                        <p:cond delay="indefinite"/>
                      </p:stCondLst>
                      <p:childTnLst>
                        <p:par>
                          <p:cTn id="4620" fill="hold">
                            <p:stCondLst>
                              <p:cond delay="0"/>
                            </p:stCondLst>
                            <p:childTnLst>
                              <p:par>
                                <p:cTn id="46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3" dur="80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4" dur="80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5" dur="80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6" fill="hold">
                      <p:stCondLst>
                        <p:cond delay="indefinite"/>
                      </p:stCondLst>
                      <p:childTnLst>
                        <p:par>
                          <p:cTn id="4627" fill="hold">
                            <p:stCondLst>
                              <p:cond delay="0"/>
                            </p:stCondLst>
                            <p:childTnLst>
                              <p:par>
                                <p:cTn id="4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3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4" fill="hold">
                      <p:stCondLst>
                        <p:cond delay="indefinite"/>
                      </p:stCondLst>
                      <p:childTnLst>
                        <p:par>
                          <p:cTn id="4635" fill="hold">
                            <p:stCondLst>
                              <p:cond delay="0"/>
                            </p:stCondLst>
                            <p:childTnLst>
                              <p:par>
                                <p:cTn id="4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8" dur="80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9" dur="80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0" dur="80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1" fill="hold">
                      <p:stCondLst>
                        <p:cond delay="indefinite"/>
                      </p:stCondLst>
                      <p:childTnLst>
                        <p:par>
                          <p:cTn id="4642" fill="hold">
                            <p:stCondLst>
                              <p:cond delay="0"/>
                            </p:stCondLst>
                            <p:childTnLst>
                              <p:par>
                                <p:cTn id="4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5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8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9" fill="hold">
                      <p:stCondLst>
                        <p:cond delay="indefinite"/>
                      </p:stCondLst>
                      <p:childTnLst>
                        <p:par>
                          <p:cTn id="4650" fill="hold">
                            <p:stCondLst>
                              <p:cond delay="0"/>
                            </p:stCondLst>
                            <p:childTnLst>
                              <p:par>
                                <p:cTn id="46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3" dur="80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4" dur="80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5" dur="80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6" fill="hold">
                      <p:stCondLst>
                        <p:cond delay="indefinite"/>
                      </p:stCondLst>
                      <p:childTnLst>
                        <p:par>
                          <p:cTn id="4657" fill="hold">
                            <p:stCondLst>
                              <p:cond delay="0"/>
                            </p:stCondLst>
                            <p:childTnLst>
                              <p:par>
                                <p:cTn id="4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0" dur="80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1" dur="80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2" dur="80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3" fill="hold">
                      <p:stCondLst>
                        <p:cond delay="indefinite"/>
                      </p:stCondLst>
                      <p:childTnLst>
                        <p:par>
                          <p:cTn id="4664" fill="hold">
                            <p:stCondLst>
                              <p:cond delay="0"/>
                            </p:stCondLst>
                            <p:childTnLst>
                              <p:par>
                                <p:cTn id="46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7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8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9" dur="1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2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3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4" dur="1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7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8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9" dur="1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0" fill="hold">
                      <p:stCondLst>
                        <p:cond delay="indefinite"/>
                      </p:stCondLst>
                      <p:childTnLst>
                        <p:par>
                          <p:cTn id="4681" fill="hold">
                            <p:stCondLst>
                              <p:cond delay="0"/>
                            </p:stCondLst>
                            <p:childTnLst>
                              <p:par>
                                <p:cTn id="4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4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7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>
            <a:hlinkClick r:id="" action="ppaction://hlinkshowjump?jump=nextslide"/>
          </p:cNvPr>
          <p:cNvSpPr/>
          <p:nvPr/>
        </p:nvSpPr>
        <p:spPr>
          <a:xfrm>
            <a:off x="1258920" y="260280"/>
            <a:ext cx="6553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 Black"/>
              </a:rPr>
              <a:t>ОСОБЕННОСТИ РАСЧЁТА ДЕФОРМИРУЕМЫХ СИСТ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 Black"/>
              </a:rPr>
              <a:t>МЕТОДОМ ПЕРЕМЕЩ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835280" y="979560"/>
            <a:ext cx="45370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Р а м ы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–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при использовании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гипоте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9" name=""/>
              <p:cNvSpPr txBox="1"/>
              <p:nvPr/>
            </p:nvSpPr>
            <p:spPr>
              <a:xfrm>
                <a:off x="6397560" y="907920"/>
                <a:ext cx="7207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≈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30" name=""/>
          <p:cNvSpPr/>
          <p:nvPr/>
        </p:nvSpPr>
        <p:spPr>
          <a:xfrm>
            <a:off x="920880" y="1227240"/>
            <a:ext cx="33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 изменении темп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531800" y="1844640"/>
            <a:ext cx="1765440" cy="673200"/>
          </a:xfrm>
          <a:custGeom>
            <a:avLst/>
            <a:gdLst/>
            <a:ahLst/>
            <a:rect l="l" t="t" r="r" b="b"/>
            <a:pathLst>
              <a:path w="1157" h="450">
                <a:moveTo>
                  <a:pt x="15" y="98"/>
                </a:moveTo>
                <a:cubicBezTo>
                  <a:pt x="24" y="62"/>
                  <a:pt x="34" y="35"/>
                  <a:pt x="72" y="20"/>
                </a:cubicBezTo>
                <a:cubicBezTo>
                  <a:pt x="110" y="5"/>
                  <a:pt x="161" y="9"/>
                  <a:pt x="242" y="7"/>
                </a:cubicBezTo>
                <a:cubicBezTo>
                  <a:pt x="323" y="5"/>
                  <a:pt x="431" y="7"/>
                  <a:pt x="560" y="7"/>
                </a:cubicBezTo>
                <a:cubicBezTo>
                  <a:pt x="689" y="7"/>
                  <a:pt x="918" y="0"/>
                  <a:pt x="1014" y="8"/>
                </a:cubicBezTo>
                <a:cubicBezTo>
                  <a:pt x="1110" y="16"/>
                  <a:pt x="1111" y="21"/>
                  <a:pt x="1134" y="56"/>
                </a:cubicBezTo>
                <a:cubicBezTo>
                  <a:pt x="1157" y="91"/>
                  <a:pt x="1151" y="169"/>
                  <a:pt x="1152" y="218"/>
                </a:cubicBezTo>
                <a:cubicBezTo>
                  <a:pt x="1153" y="267"/>
                  <a:pt x="1152" y="314"/>
                  <a:pt x="1140" y="350"/>
                </a:cubicBezTo>
                <a:cubicBezTo>
                  <a:pt x="1128" y="386"/>
                  <a:pt x="1127" y="418"/>
                  <a:pt x="1080" y="434"/>
                </a:cubicBezTo>
                <a:cubicBezTo>
                  <a:pt x="1033" y="450"/>
                  <a:pt x="925" y="444"/>
                  <a:pt x="858" y="446"/>
                </a:cubicBezTo>
                <a:cubicBezTo>
                  <a:pt x="791" y="448"/>
                  <a:pt x="746" y="446"/>
                  <a:pt x="678" y="446"/>
                </a:cubicBezTo>
                <a:cubicBezTo>
                  <a:pt x="610" y="446"/>
                  <a:pt x="526" y="449"/>
                  <a:pt x="450" y="446"/>
                </a:cubicBezTo>
                <a:cubicBezTo>
                  <a:pt x="374" y="443"/>
                  <a:pt x="289" y="443"/>
                  <a:pt x="222" y="428"/>
                </a:cubicBezTo>
                <a:cubicBezTo>
                  <a:pt x="155" y="413"/>
                  <a:pt x="84" y="389"/>
                  <a:pt x="48" y="356"/>
                </a:cubicBezTo>
                <a:cubicBezTo>
                  <a:pt x="12" y="323"/>
                  <a:pt x="12" y="273"/>
                  <a:pt x="6" y="230"/>
                </a:cubicBezTo>
                <a:cubicBezTo>
                  <a:pt x="0" y="187"/>
                  <a:pt x="13" y="125"/>
                  <a:pt x="15" y="98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531800" y="1806480"/>
            <a:ext cx="1800360" cy="719280"/>
          </a:xfrm>
          <a:custGeom>
            <a:avLst/>
            <a:gdLst/>
            <a:ahLst/>
            <a:rect l="l" t="t" r="r" b="b"/>
            <a:pathLst>
              <a:path w="1225" h="499">
                <a:moveTo>
                  <a:pt x="0" y="0"/>
                </a:moveTo>
                <a:lnTo>
                  <a:pt x="1225" y="0"/>
                </a:lnTo>
                <a:lnTo>
                  <a:pt x="1225" y="4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2468520" y="180648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357280" y="2529000"/>
            <a:ext cx="216000" cy="7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359080" y="25290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433600" y="248760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 rot="5400000">
            <a:off x="1387440" y="1766880"/>
            <a:ext cx="215640" cy="7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 flipH="1">
            <a:off x="1528920" y="169236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3218040" y="2529000"/>
            <a:ext cx="21564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3219480" y="25290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 rot="2700000">
            <a:off x="2215440" y="1621440"/>
            <a:ext cx="144360" cy="5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255760" y="1584360"/>
            <a:ext cx="21600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 rot="2700000">
            <a:off x="3080520" y="1623240"/>
            <a:ext cx="144720" cy="54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3121200" y="1585800"/>
            <a:ext cx="21564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349280" y="2573280"/>
            <a:ext cx="1511280" cy="327600"/>
          </a:xfrm>
          <a:prstGeom prst="rect">
            <a:avLst/>
          </a:prstGeom>
          <a:solidFill>
            <a:srgbClr val="dcff97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nr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1490760" y="1765440"/>
            <a:ext cx="71280" cy="7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345960" y="3319560"/>
            <a:ext cx="1765440" cy="672840"/>
          </a:xfrm>
          <a:custGeom>
            <a:avLst/>
            <a:gdLst/>
            <a:ahLst/>
            <a:rect l="l" t="t" r="r" b="b"/>
            <a:pathLst>
              <a:path w="1157" h="450">
                <a:moveTo>
                  <a:pt x="15" y="98"/>
                </a:moveTo>
                <a:cubicBezTo>
                  <a:pt x="24" y="62"/>
                  <a:pt x="34" y="35"/>
                  <a:pt x="72" y="20"/>
                </a:cubicBezTo>
                <a:cubicBezTo>
                  <a:pt x="110" y="5"/>
                  <a:pt x="161" y="9"/>
                  <a:pt x="242" y="7"/>
                </a:cubicBezTo>
                <a:cubicBezTo>
                  <a:pt x="323" y="5"/>
                  <a:pt x="431" y="7"/>
                  <a:pt x="560" y="7"/>
                </a:cubicBezTo>
                <a:cubicBezTo>
                  <a:pt x="689" y="7"/>
                  <a:pt x="918" y="0"/>
                  <a:pt x="1014" y="8"/>
                </a:cubicBezTo>
                <a:cubicBezTo>
                  <a:pt x="1110" y="16"/>
                  <a:pt x="1111" y="21"/>
                  <a:pt x="1134" y="56"/>
                </a:cubicBezTo>
                <a:cubicBezTo>
                  <a:pt x="1157" y="91"/>
                  <a:pt x="1151" y="169"/>
                  <a:pt x="1152" y="218"/>
                </a:cubicBezTo>
                <a:cubicBezTo>
                  <a:pt x="1153" y="267"/>
                  <a:pt x="1152" y="314"/>
                  <a:pt x="1140" y="350"/>
                </a:cubicBezTo>
                <a:cubicBezTo>
                  <a:pt x="1128" y="386"/>
                  <a:pt x="1127" y="418"/>
                  <a:pt x="1080" y="434"/>
                </a:cubicBezTo>
                <a:cubicBezTo>
                  <a:pt x="1033" y="450"/>
                  <a:pt x="925" y="444"/>
                  <a:pt x="858" y="446"/>
                </a:cubicBezTo>
                <a:cubicBezTo>
                  <a:pt x="791" y="448"/>
                  <a:pt x="746" y="446"/>
                  <a:pt x="678" y="446"/>
                </a:cubicBezTo>
                <a:cubicBezTo>
                  <a:pt x="610" y="446"/>
                  <a:pt x="526" y="449"/>
                  <a:pt x="450" y="446"/>
                </a:cubicBezTo>
                <a:cubicBezTo>
                  <a:pt x="374" y="443"/>
                  <a:pt x="289" y="443"/>
                  <a:pt x="222" y="428"/>
                </a:cubicBezTo>
                <a:cubicBezTo>
                  <a:pt x="155" y="413"/>
                  <a:pt x="84" y="389"/>
                  <a:pt x="48" y="356"/>
                </a:cubicBezTo>
                <a:cubicBezTo>
                  <a:pt x="12" y="323"/>
                  <a:pt x="12" y="273"/>
                  <a:pt x="6" y="230"/>
                </a:cubicBezTo>
                <a:cubicBezTo>
                  <a:pt x="0" y="187"/>
                  <a:pt x="13" y="125"/>
                  <a:pt x="15" y="98"/>
                </a:cubicBez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278000" y="3281400"/>
            <a:ext cx="868320" cy="719280"/>
          </a:xfrm>
          <a:custGeom>
            <a:avLst/>
            <a:gdLst/>
            <a:ahLst/>
            <a:rect l="l" t="t" r="r" b="b"/>
            <a:pathLst>
              <a:path w="547" h="453">
                <a:moveTo>
                  <a:pt x="0" y="0"/>
                </a:moveTo>
                <a:lnTo>
                  <a:pt x="547" y="0"/>
                </a:lnTo>
                <a:lnTo>
                  <a:pt x="547" y="45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1282680" y="328140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171440" y="4003560"/>
            <a:ext cx="21600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173240" y="40035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247760" y="396252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 rot="5400000">
            <a:off x="200880" y="3241440"/>
            <a:ext cx="21600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343080" y="316692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2031840" y="4003560"/>
            <a:ext cx="216000" cy="73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033640" y="40035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 rot="2700000">
            <a:off x="1029240" y="3096360"/>
            <a:ext cx="144720" cy="54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069920" y="3059280"/>
            <a:ext cx="216000" cy="215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 rot="2700000">
            <a:off x="1895040" y="3097800"/>
            <a:ext cx="144360" cy="540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935000" y="3060720"/>
            <a:ext cx="21600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304920" y="324000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362320" y="3319560"/>
            <a:ext cx="1765080" cy="672840"/>
          </a:xfrm>
          <a:custGeom>
            <a:avLst/>
            <a:gdLst/>
            <a:ahLst/>
            <a:rect l="l" t="t" r="r" b="b"/>
            <a:pathLst>
              <a:path w="1157" h="450">
                <a:moveTo>
                  <a:pt x="15" y="98"/>
                </a:moveTo>
                <a:cubicBezTo>
                  <a:pt x="24" y="62"/>
                  <a:pt x="34" y="35"/>
                  <a:pt x="72" y="20"/>
                </a:cubicBezTo>
                <a:cubicBezTo>
                  <a:pt x="110" y="5"/>
                  <a:pt x="161" y="9"/>
                  <a:pt x="242" y="7"/>
                </a:cubicBezTo>
                <a:cubicBezTo>
                  <a:pt x="323" y="5"/>
                  <a:pt x="431" y="7"/>
                  <a:pt x="560" y="7"/>
                </a:cubicBezTo>
                <a:cubicBezTo>
                  <a:pt x="689" y="7"/>
                  <a:pt x="918" y="0"/>
                  <a:pt x="1014" y="8"/>
                </a:cubicBezTo>
                <a:cubicBezTo>
                  <a:pt x="1110" y="16"/>
                  <a:pt x="1111" y="21"/>
                  <a:pt x="1134" y="56"/>
                </a:cubicBezTo>
                <a:cubicBezTo>
                  <a:pt x="1157" y="91"/>
                  <a:pt x="1151" y="169"/>
                  <a:pt x="1152" y="218"/>
                </a:cubicBezTo>
                <a:cubicBezTo>
                  <a:pt x="1153" y="267"/>
                  <a:pt x="1152" y="314"/>
                  <a:pt x="1140" y="350"/>
                </a:cubicBezTo>
                <a:cubicBezTo>
                  <a:pt x="1128" y="386"/>
                  <a:pt x="1127" y="418"/>
                  <a:pt x="1080" y="434"/>
                </a:cubicBezTo>
                <a:cubicBezTo>
                  <a:pt x="1033" y="450"/>
                  <a:pt x="925" y="444"/>
                  <a:pt x="858" y="446"/>
                </a:cubicBezTo>
                <a:cubicBezTo>
                  <a:pt x="791" y="448"/>
                  <a:pt x="746" y="446"/>
                  <a:pt x="678" y="446"/>
                </a:cubicBezTo>
                <a:cubicBezTo>
                  <a:pt x="610" y="446"/>
                  <a:pt x="526" y="449"/>
                  <a:pt x="450" y="446"/>
                </a:cubicBezTo>
                <a:cubicBezTo>
                  <a:pt x="374" y="443"/>
                  <a:pt x="289" y="443"/>
                  <a:pt x="222" y="428"/>
                </a:cubicBezTo>
                <a:cubicBezTo>
                  <a:pt x="155" y="413"/>
                  <a:pt x="84" y="389"/>
                  <a:pt x="48" y="356"/>
                </a:cubicBezTo>
                <a:cubicBezTo>
                  <a:pt x="12" y="323"/>
                  <a:pt x="12" y="273"/>
                  <a:pt x="6" y="230"/>
                </a:cubicBezTo>
                <a:cubicBezTo>
                  <a:pt x="0" y="187"/>
                  <a:pt x="13" y="125"/>
                  <a:pt x="15" y="98"/>
                </a:cubicBez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362320" y="3281400"/>
            <a:ext cx="1800000" cy="719280"/>
          </a:xfrm>
          <a:custGeom>
            <a:avLst/>
            <a:gdLst/>
            <a:ahLst/>
            <a:rect l="l" t="t" r="r" b="b"/>
            <a:pathLst>
              <a:path w="1225" h="499">
                <a:moveTo>
                  <a:pt x="0" y="0"/>
                </a:moveTo>
                <a:lnTo>
                  <a:pt x="1225" y="0"/>
                </a:lnTo>
                <a:lnTo>
                  <a:pt x="1225" y="4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3298680" y="328140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3187800" y="4003560"/>
            <a:ext cx="215640" cy="730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189240" y="40035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3263760" y="396252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rot="5400000">
            <a:off x="2217240" y="3241440"/>
            <a:ext cx="216000" cy="730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 flipH="1">
            <a:off x="2359080" y="316692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048200" y="4003560"/>
            <a:ext cx="216000" cy="730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049640" y="40035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rot="2700000">
            <a:off x="3045600" y="3096360"/>
            <a:ext cx="144720" cy="54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3086280" y="3059280"/>
            <a:ext cx="215640" cy="215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 rot="2700000">
            <a:off x="3911040" y="3097800"/>
            <a:ext cx="144360" cy="540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951360" y="3060720"/>
            <a:ext cx="21600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2320920" y="324000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 rot="8350200">
            <a:off x="1634760" y="2906280"/>
            <a:ext cx="358920" cy="144360"/>
          </a:xfrm>
          <a:prstGeom prst="rightArrow">
            <a:avLst>
              <a:gd name="adj1" fmla="val 41185"/>
              <a:gd name="adj2" fmla="val 827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 rot="2793600">
            <a:off x="2535480" y="2909160"/>
            <a:ext cx="358920" cy="144360"/>
          </a:xfrm>
          <a:prstGeom prst="rightArrow">
            <a:avLst>
              <a:gd name="adj1" fmla="val 41185"/>
              <a:gd name="adj2" fmla="val 827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2643120" y="2028960"/>
            <a:ext cx="503280" cy="358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2684520" y="1979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457280" y="3513240"/>
            <a:ext cx="503280" cy="358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3454560" y="3513240"/>
            <a:ext cx="502920" cy="358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460680" y="345456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1432080" y="3454560"/>
            <a:ext cx="574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68280" y="327960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369720" y="3282840"/>
            <a:ext cx="936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365040" y="3278160"/>
            <a:ext cx="917640" cy="68400"/>
          </a:xfrm>
          <a:custGeom>
            <a:avLst/>
            <a:gdLst/>
            <a:ahLst/>
            <a:rect l="l" t="t" r="r" b="b"/>
            <a:pathLst>
              <a:path w="578" h="43">
                <a:moveTo>
                  <a:pt x="0" y="7"/>
                </a:moveTo>
                <a:cubicBezTo>
                  <a:pt x="23" y="12"/>
                  <a:pt x="95" y="31"/>
                  <a:pt x="141" y="37"/>
                </a:cubicBezTo>
                <a:cubicBezTo>
                  <a:pt x="187" y="43"/>
                  <a:pt x="231" y="43"/>
                  <a:pt x="276" y="40"/>
                </a:cubicBezTo>
                <a:cubicBezTo>
                  <a:pt x="321" y="37"/>
                  <a:pt x="367" y="22"/>
                  <a:pt x="408" y="16"/>
                </a:cubicBezTo>
                <a:cubicBezTo>
                  <a:pt x="449" y="10"/>
                  <a:pt x="497" y="7"/>
                  <a:pt x="525" y="4"/>
                </a:cubicBezTo>
                <a:cubicBezTo>
                  <a:pt x="553" y="1"/>
                  <a:pt x="567" y="1"/>
                  <a:pt x="57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87520" y="3279600"/>
            <a:ext cx="1774800" cy="721080"/>
          </a:xfrm>
          <a:custGeom>
            <a:avLst/>
            <a:gdLst/>
            <a:ahLst/>
            <a:rect l="l" t="t" r="r" b="b"/>
            <a:pathLst>
              <a:path w="1118" h="454">
                <a:moveTo>
                  <a:pt x="0" y="0"/>
                </a:moveTo>
                <a:lnTo>
                  <a:pt x="1118" y="1"/>
                </a:lnTo>
                <a:lnTo>
                  <a:pt x="1118" y="454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3297240" y="3281400"/>
            <a:ext cx="1440" cy="703080"/>
          </a:xfrm>
          <a:custGeom>
            <a:avLst/>
            <a:gdLst/>
            <a:ahLst/>
            <a:rect l="l" t="t" r="r" b="b"/>
            <a:pathLst>
              <a:path w="1" h="443">
                <a:moveTo>
                  <a:pt x="1" y="0"/>
                </a:moveTo>
                <a:lnTo>
                  <a:pt x="0" y="443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392200" y="3060720"/>
            <a:ext cx="1914840" cy="939960"/>
          </a:xfrm>
          <a:custGeom>
            <a:avLst/>
            <a:gdLst/>
            <a:ahLst/>
            <a:rect l="l" t="t" r="r" b="b"/>
            <a:pathLst>
              <a:path w="1206" h="592">
                <a:moveTo>
                  <a:pt x="0" y="128"/>
                </a:moveTo>
                <a:cubicBezTo>
                  <a:pt x="31" y="118"/>
                  <a:pt x="124" y="88"/>
                  <a:pt x="189" y="70"/>
                </a:cubicBezTo>
                <a:cubicBezTo>
                  <a:pt x="254" y="52"/>
                  <a:pt x="330" y="33"/>
                  <a:pt x="393" y="22"/>
                </a:cubicBezTo>
                <a:cubicBezTo>
                  <a:pt x="456" y="11"/>
                  <a:pt x="518" y="4"/>
                  <a:pt x="570" y="2"/>
                </a:cubicBezTo>
                <a:cubicBezTo>
                  <a:pt x="622" y="0"/>
                  <a:pt x="668" y="3"/>
                  <a:pt x="708" y="7"/>
                </a:cubicBezTo>
                <a:cubicBezTo>
                  <a:pt x="748" y="11"/>
                  <a:pt x="777" y="18"/>
                  <a:pt x="810" y="25"/>
                </a:cubicBezTo>
                <a:cubicBezTo>
                  <a:pt x="843" y="32"/>
                  <a:pt x="877" y="44"/>
                  <a:pt x="909" y="52"/>
                </a:cubicBezTo>
                <a:cubicBezTo>
                  <a:pt x="941" y="60"/>
                  <a:pt x="971" y="68"/>
                  <a:pt x="1005" y="73"/>
                </a:cubicBezTo>
                <a:cubicBezTo>
                  <a:pt x="1039" y="78"/>
                  <a:pt x="1080" y="83"/>
                  <a:pt x="1113" y="85"/>
                </a:cubicBezTo>
                <a:cubicBezTo>
                  <a:pt x="1146" y="87"/>
                  <a:pt x="1161" y="91"/>
                  <a:pt x="1203" y="85"/>
                </a:cubicBezTo>
                <a:cubicBezTo>
                  <a:pt x="1204" y="128"/>
                  <a:pt x="1206" y="149"/>
                  <a:pt x="1203" y="178"/>
                </a:cubicBezTo>
                <a:cubicBezTo>
                  <a:pt x="1200" y="207"/>
                  <a:pt x="1197" y="221"/>
                  <a:pt x="1185" y="262"/>
                </a:cubicBezTo>
                <a:cubicBezTo>
                  <a:pt x="1173" y="303"/>
                  <a:pt x="1143" y="377"/>
                  <a:pt x="1131" y="424"/>
                </a:cubicBezTo>
                <a:cubicBezTo>
                  <a:pt x="1119" y="471"/>
                  <a:pt x="1118" y="519"/>
                  <a:pt x="1115" y="547"/>
                </a:cubicBezTo>
                <a:cubicBezTo>
                  <a:pt x="1112" y="575"/>
                  <a:pt x="1115" y="581"/>
                  <a:pt x="1115" y="59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rot="2700000">
            <a:off x="4049280" y="3015360"/>
            <a:ext cx="144360" cy="54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4089240" y="2978280"/>
            <a:ext cx="216000" cy="215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 rot="2700000">
            <a:off x="3123360" y="2878920"/>
            <a:ext cx="144720" cy="540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3164040" y="2841480"/>
            <a:ext cx="21564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3300480" y="3067200"/>
            <a:ext cx="79200" cy="882360"/>
          </a:xfrm>
          <a:custGeom>
            <a:avLst/>
            <a:gdLst/>
            <a:ahLst/>
            <a:rect l="l" t="t" r="r" b="b"/>
            <a:pathLst>
              <a:path w="50" h="556">
                <a:moveTo>
                  <a:pt x="49" y="0"/>
                </a:moveTo>
                <a:cubicBezTo>
                  <a:pt x="49" y="14"/>
                  <a:pt x="50" y="51"/>
                  <a:pt x="49" y="87"/>
                </a:cubicBezTo>
                <a:cubicBezTo>
                  <a:pt x="48" y="123"/>
                  <a:pt x="48" y="174"/>
                  <a:pt x="46" y="216"/>
                </a:cubicBezTo>
                <a:cubicBezTo>
                  <a:pt x="44" y="258"/>
                  <a:pt x="41" y="300"/>
                  <a:pt x="37" y="339"/>
                </a:cubicBezTo>
                <a:cubicBezTo>
                  <a:pt x="33" y="378"/>
                  <a:pt x="28" y="414"/>
                  <a:pt x="22" y="450"/>
                </a:cubicBezTo>
                <a:cubicBezTo>
                  <a:pt x="16" y="486"/>
                  <a:pt x="5" y="534"/>
                  <a:pt x="0" y="5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279440" y="4567320"/>
            <a:ext cx="1800" cy="718920"/>
          </a:xfrm>
          <a:custGeom>
            <a:avLst/>
            <a:gdLst/>
            <a:ahLst/>
            <a:rect l="l" t="t" r="r" b="b"/>
            <a:pathLst>
              <a:path w="1" h="443">
                <a:moveTo>
                  <a:pt x="1" y="0"/>
                </a:moveTo>
                <a:lnTo>
                  <a:pt x="0" y="44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80880" y="4295880"/>
            <a:ext cx="901800" cy="269640"/>
          </a:xfrm>
          <a:custGeom>
            <a:avLst/>
            <a:gdLst/>
            <a:ahLst/>
            <a:rect l="l" t="t" r="r" b="b"/>
            <a:pathLst>
              <a:path w="568" h="170">
                <a:moveTo>
                  <a:pt x="0" y="166"/>
                </a:moveTo>
                <a:lnTo>
                  <a:pt x="567" y="0"/>
                </a:lnTo>
                <a:lnTo>
                  <a:pt x="568" y="170"/>
                </a:lnTo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281240" y="4424400"/>
            <a:ext cx="863640" cy="1443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147760" y="4568760"/>
            <a:ext cx="71640" cy="72072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369720" y="4565520"/>
            <a:ext cx="1775160" cy="720720"/>
          </a:xfrm>
          <a:custGeom>
            <a:avLst/>
            <a:gdLst/>
            <a:ahLst/>
            <a:rect l="l" t="t" r="r" b="b"/>
            <a:pathLst>
              <a:path w="1118" h="454">
                <a:moveTo>
                  <a:pt x="0" y="0"/>
                </a:moveTo>
                <a:lnTo>
                  <a:pt x="1118" y="1"/>
                </a:lnTo>
                <a:lnTo>
                  <a:pt x="1118" y="45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444680" y="4764240"/>
            <a:ext cx="64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406520" y="4776840"/>
            <a:ext cx="647640" cy="43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2395440" y="4365720"/>
            <a:ext cx="901800" cy="196920"/>
          </a:xfrm>
          <a:custGeom>
            <a:avLst/>
            <a:gdLst/>
            <a:ahLst/>
            <a:rect l="l" t="t" r="r" b="b"/>
            <a:pathLst>
              <a:path w="568" h="170">
                <a:moveTo>
                  <a:pt x="0" y="166"/>
                </a:moveTo>
                <a:lnTo>
                  <a:pt x="567" y="0"/>
                </a:lnTo>
                <a:lnTo>
                  <a:pt x="568" y="170"/>
                </a:lnTo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3297240" y="4280040"/>
            <a:ext cx="866880" cy="542880"/>
          </a:xfrm>
          <a:custGeom>
            <a:avLst/>
            <a:gdLst/>
            <a:ahLst/>
            <a:rect l="l" t="t" r="r" b="b"/>
            <a:pathLst>
              <a:path w="546" h="342">
                <a:moveTo>
                  <a:pt x="0" y="181"/>
                </a:moveTo>
                <a:lnTo>
                  <a:pt x="0" y="0"/>
                </a:lnTo>
                <a:lnTo>
                  <a:pt x="546" y="342"/>
                </a:lnTo>
                <a:lnTo>
                  <a:pt x="546" y="182"/>
                </a:lnTo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3297240" y="4575240"/>
            <a:ext cx="144360" cy="720720"/>
          </a:xfrm>
          <a:custGeom>
            <a:avLst/>
            <a:gdLst/>
            <a:ahLst/>
            <a:rect l="l" t="t" r="r" b="b"/>
            <a:pathLst>
              <a:path w="91" h="454">
                <a:moveTo>
                  <a:pt x="0" y="0"/>
                </a:moveTo>
                <a:lnTo>
                  <a:pt x="91" y="0"/>
                </a:lnTo>
                <a:lnTo>
                  <a:pt x="0" y="454"/>
                </a:lnTo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4017960" y="4562640"/>
            <a:ext cx="287280" cy="720720"/>
          </a:xfrm>
          <a:custGeom>
            <a:avLst/>
            <a:gdLst/>
            <a:ahLst/>
            <a:rect l="l" t="t" r="r" b="b"/>
            <a:pathLst>
              <a:path w="181" h="454">
                <a:moveTo>
                  <a:pt x="91" y="0"/>
                </a:moveTo>
                <a:lnTo>
                  <a:pt x="181" y="0"/>
                </a:lnTo>
                <a:lnTo>
                  <a:pt x="0" y="454"/>
                </a:lnTo>
                <a:lnTo>
                  <a:pt x="91" y="454"/>
                </a:lnTo>
              </a:path>
            </a:pathLst>
          </a:custGeom>
          <a:blipFill rotWithShape="0">
            <a:blip r:embed="rId2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2387520" y="4562640"/>
            <a:ext cx="1774800" cy="720720"/>
          </a:xfrm>
          <a:custGeom>
            <a:avLst/>
            <a:gdLst/>
            <a:ahLst/>
            <a:rect l="l" t="t" r="r" b="b"/>
            <a:pathLst>
              <a:path w="1118" h="454">
                <a:moveTo>
                  <a:pt x="0" y="0"/>
                </a:moveTo>
                <a:lnTo>
                  <a:pt x="1118" y="1"/>
                </a:lnTo>
                <a:lnTo>
                  <a:pt x="1118" y="45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3297240" y="4564080"/>
            <a:ext cx="1440" cy="719280"/>
          </a:xfrm>
          <a:custGeom>
            <a:avLst/>
            <a:gdLst/>
            <a:ahLst/>
            <a:rect l="l" t="t" r="r" b="b"/>
            <a:pathLst>
              <a:path w="1" h="443">
                <a:moveTo>
                  <a:pt x="1" y="0"/>
                </a:moveTo>
                <a:lnTo>
                  <a:pt x="0" y="44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483000" y="4764240"/>
            <a:ext cx="64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3444840" y="4776840"/>
            <a:ext cx="608040" cy="43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 rot="5400000">
            <a:off x="1551240" y="4112280"/>
            <a:ext cx="287280" cy="215640"/>
          </a:xfrm>
          <a:prstGeom prst="rightArrow">
            <a:avLst>
              <a:gd name="adj1" fmla="val 48537"/>
              <a:gd name="adj2" fmla="val 55207"/>
            </a:avLst>
          </a:prstGeom>
          <a:solidFill>
            <a:srgbClr val="bbe0e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 rot="5400000">
            <a:off x="3563280" y="4122000"/>
            <a:ext cx="287280" cy="216000"/>
          </a:xfrm>
          <a:prstGeom prst="rightArrow">
            <a:avLst>
              <a:gd name="adj1" fmla="val 48537"/>
              <a:gd name="adj2" fmla="val 55115"/>
            </a:avLst>
          </a:prstGeom>
          <a:solidFill>
            <a:srgbClr val="bbe0e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 rot="8350200">
            <a:off x="3225600" y="5277960"/>
            <a:ext cx="358560" cy="144720"/>
          </a:xfrm>
          <a:prstGeom prst="rightArrow">
            <a:avLst>
              <a:gd name="adj1" fmla="val 41185"/>
              <a:gd name="adj2" fmla="val 824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rot="2793600">
            <a:off x="1893240" y="5264640"/>
            <a:ext cx="358920" cy="144720"/>
          </a:xfrm>
          <a:prstGeom prst="rightArrow">
            <a:avLst>
              <a:gd name="adj1" fmla="val 41185"/>
              <a:gd name="adj2" fmla="val 825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1568520" y="5470560"/>
            <a:ext cx="1800000" cy="440640"/>
          </a:xfrm>
          <a:prstGeom prst="rect">
            <a:avLst/>
          </a:prstGeom>
          <a:solidFill>
            <a:srgbClr val="dcff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M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n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+ M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 rot="5400000">
            <a:off x="1696320" y="5894280"/>
            <a:ext cx="216000" cy="196920"/>
          </a:xfrm>
          <a:prstGeom prst="rightArrow">
            <a:avLst>
              <a:gd name="adj1" fmla="val 48537"/>
              <a:gd name="adj2" fmla="val 45455"/>
            </a:avLst>
          </a:prstGeom>
          <a:solidFill>
            <a:srgbClr val="bbe0e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616040" y="6033960"/>
            <a:ext cx="43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2021040" y="6157800"/>
            <a:ext cx="215640" cy="196920"/>
          </a:xfrm>
          <a:prstGeom prst="rightArrow">
            <a:avLst>
              <a:gd name="adj1" fmla="val 48537"/>
              <a:gd name="adj2" fmla="val 45379"/>
            </a:avLst>
          </a:prstGeom>
          <a:solidFill>
            <a:srgbClr val="bbe0e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2217600" y="6033960"/>
            <a:ext cx="36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2558880" y="6157800"/>
            <a:ext cx="216000" cy="196920"/>
          </a:xfrm>
          <a:prstGeom prst="rightArrow">
            <a:avLst>
              <a:gd name="adj1" fmla="val 48537"/>
              <a:gd name="adj2" fmla="val 45455"/>
            </a:avLst>
          </a:prstGeom>
          <a:solidFill>
            <a:srgbClr val="bbe0e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755800" y="6033960"/>
            <a:ext cx="36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3057480" y="5857920"/>
            <a:ext cx="36036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3043080" y="5910120"/>
            <a:ext cx="71640" cy="648000"/>
          </a:xfrm>
          <a:custGeom>
            <a:avLst/>
            <a:gdLst>
              <a:gd name="textAreaLeft" fmla="*/ 45720 w 71640"/>
              <a:gd name="textAreaRight" fmla="*/ 72000 w 71640"/>
              <a:gd name="textAreaTop" fmla="*/ 16560 h 648000"/>
              <a:gd name="textAreaBottom" fmla="*/ 63144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305320" y="122544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 смещениях связ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5772240" y="1805040"/>
            <a:ext cx="1800000" cy="718920"/>
          </a:xfrm>
          <a:custGeom>
            <a:avLst/>
            <a:gdLst/>
            <a:ahLst/>
            <a:rect l="l" t="t" r="r" b="b"/>
            <a:pathLst>
              <a:path w="1225" h="499">
                <a:moveTo>
                  <a:pt x="0" y="0"/>
                </a:moveTo>
                <a:lnTo>
                  <a:pt x="1225" y="0"/>
                </a:lnTo>
                <a:lnTo>
                  <a:pt x="1225" y="4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708600" y="1805040"/>
            <a:ext cx="0" cy="71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97720" y="2527200"/>
            <a:ext cx="216000" cy="7308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6599160" y="25272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673680" y="2486160"/>
            <a:ext cx="71640" cy="7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 rot="5400000">
            <a:off x="5627160" y="1765080"/>
            <a:ext cx="216000" cy="7308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5769000" y="169056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7458120" y="2527200"/>
            <a:ext cx="216000" cy="7308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7459560" y="25272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 rot="2700000">
            <a:off x="6455520" y="1620000"/>
            <a:ext cx="144720" cy="54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496200" y="1582560"/>
            <a:ext cx="21564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rot="2700000">
            <a:off x="7320960" y="1621440"/>
            <a:ext cx="144360" cy="5400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7361280" y="1584360"/>
            <a:ext cx="21600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5730840" y="176364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896160" y="2027160"/>
            <a:ext cx="509400" cy="358920"/>
          </a:xfrm>
          <a:prstGeom prst="ellipse">
            <a:avLst/>
          </a:prstGeom>
          <a:solidFill>
            <a:srgbClr val="dcff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899400" y="1946160"/>
            <a:ext cx="612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6813720" y="2743200"/>
            <a:ext cx="215640" cy="7308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815160" y="27432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6889680" y="270180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 rot="1198800">
            <a:off x="7705800" y="2662200"/>
            <a:ext cx="216000" cy="7308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719840" y="2617920"/>
            <a:ext cx="216000" cy="8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6751800" y="253044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7653240" y="252396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6921360" y="253044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832880" y="25239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6726240" y="2251080"/>
            <a:ext cx="493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6865920" y="2473200"/>
            <a:ext cx="493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526160" y="2193840"/>
            <a:ext cx="493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780320" y="2416320"/>
            <a:ext cx="493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8010360" y="2523960"/>
            <a:ext cx="432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7878600" y="2681280"/>
            <a:ext cx="503280" cy="190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8329680" y="2521080"/>
            <a:ext cx="66600" cy="331560"/>
          </a:xfrm>
          <a:custGeom>
            <a:avLst/>
            <a:gdLst/>
            <a:ahLst/>
            <a:rect l="l" t="t" r="r" b="b"/>
            <a:pathLst>
              <a:path w="42" h="209">
                <a:moveTo>
                  <a:pt x="40" y="0"/>
                </a:moveTo>
                <a:cubicBezTo>
                  <a:pt x="40" y="11"/>
                  <a:pt x="42" y="40"/>
                  <a:pt x="40" y="64"/>
                </a:cubicBezTo>
                <a:cubicBezTo>
                  <a:pt x="38" y="88"/>
                  <a:pt x="35" y="120"/>
                  <a:pt x="28" y="144"/>
                </a:cubicBezTo>
                <a:cubicBezTo>
                  <a:pt x="21" y="168"/>
                  <a:pt x="6" y="196"/>
                  <a:pt x="0" y="209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8327880" y="2517840"/>
            <a:ext cx="493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4402080" y="1413000"/>
            <a:ext cx="0" cy="518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402160" y="2610000"/>
            <a:ext cx="1368360" cy="582480"/>
          </a:xfrm>
          <a:prstGeom prst="rect">
            <a:avLst/>
          </a:prstGeom>
          <a:solidFill>
            <a:srgbClr val="dcff97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(c)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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4599000" y="3289320"/>
            <a:ext cx="1800360" cy="1440"/>
          </a:xfrm>
          <a:custGeom>
            <a:avLst/>
            <a:gdLst/>
            <a:ahLst/>
            <a:rect l="l" t="t" r="r" b="b"/>
            <a:pathLst>
              <a:path w="1134" h="1">
                <a:moveTo>
                  <a:pt x="0" y="0"/>
                </a:moveTo>
                <a:lnTo>
                  <a:pt x="113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522760" y="328932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5411880" y="4011480"/>
            <a:ext cx="215640" cy="7308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413320" y="40114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5487840" y="397044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rot="5400000">
            <a:off x="4441320" y="3249360"/>
            <a:ext cx="216000" cy="7308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 flipH="1">
            <a:off x="4583160" y="317484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275520" y="4011480"/>
            <a:ext cx="215640" cy="7308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6273720" y="40114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 rot="2700000">
            <a:off x="5270040" y="3104280"/>
            <a:ext cx="144360" cy="5400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310360" y="3067200"/>
            <a:ext cx="215640" cy="215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 rot="2700000">
            <a:off x="6135120" y="3105720"/>
            <a:ext cx="144360" cy="5400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6175440" y="3068640"/>
            <a:ext cx="21600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4545000" y="324792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5710320" y="3511440"/>
            <a:ext cx="509400" cy="358920"/>
          </a:xfrm>
          <a:prstGeom prst="ellipse">
            <a:avLst/>
          </a:prstGeom>
          <a:solidFill>
            <a:srgbClr val="dcff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5789520" y="3478320"/>
            <a:ext cx="3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rot="1198800">
            <a:off x="6262560" y="4006800"/>
            <a:ext cx="216000" cy="7308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276960" y="3971880"/>
            <a:ext cx="216000" cy="8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391440" y="4008600"/>
            <a:ext cx="431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6369120" y="4005360"/>
            <a:ext cx="420480" cy="156960"/>
          </a:xfrm>
          <a:custGeom>
            <a:avLst/>
            <a:gdLst/>
            <a:ahLst/>
            <a:rect l="l" t="t" r="r" b="b"/>
            <a:pathLst>
              <a:path w="265" h="99">
                <a:moveTo>
                  <a:pt x="0" y="0"/>
                </a:moveTo>
                <a:lnTo>
                  <a:pt x="265" y="99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6754680" y="4005360"/>
            <a:ext cx="34920" cy="150840"/>
          </a:xfrm>
          <a:custGeom>
            <a:avLst/>
            <a:gdLst/>
            <a:ahLst/>
            <a:rect l="l" t="t" r="r" b="b"/>
            <a:pathLst>
              <a:path w="22" h="95">
                <a:moveTo>
                  <a:pt x="22" y="0"/>
                </a:moveTo>
                <a:cubicBezTo>
                  <a:pt x="21" y="7"/>
                  <a:pt x="22" y="25"/>
                  <a:pt x="18" y="41"/>
                </a:cubicBezTo>
                <a:cubicBezTo>
                  <a:pt x="14" y="57"/>
                  <a:pt x="4" y="84"/>
                  <a:pt x="0" y="95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6723000" y="3924360"/>
            <a:ext cx="493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6524640" y="3289320"/>
            <a:ext cx="1800360" cy="719280"/>
          </a:xfrm>
          <a:custGeom>
            <a:avLst/>
            <a:gdLst/>
            <a:ahLst/>
            <a:rect l="l" t="t" r="r" b="b"/>
            <a:pathLst>
              <a:path w="1225" h="499">
                <a:moveTo>
                  <a:pt x="0" y="0"/>
                </a:moveTo>
                <a:lnTo>
                  <a:pt x="1225" y="0"/>
                </a:lnTo>
                <a:lnTo>
                  <a:pt x="1225" y="4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7461360" y="328932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7350120" y="4011480"/>
            <a:ext cx="216000" cy="7308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7351560" y="40114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7426440" y="397044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 rot="5400000">
            <a:off x="6379560" y="3249360"/>
            <a:ext cx="216000" cy="7308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6521040" y="3174840"/>
            <a:ext cx="180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8210520" y="4011480"/>
            <a:ext cx="216000" cy="7308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8211960" y="40114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rot="2700000">
            <a:off x="7208280" y="3104280"/>
            <a:ext cx="144360" cy="5400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7248600" y="3067200"/>
            <a:ext cx="216000" cy="215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rot="2700000">
            <a:off x="8073360" y="3105720"/>
            <a:ext cx="144360" cy="5400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8113680" y="3068640"/>
            <a:ext cx="21600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483240" y="324792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648560" y="3511440"/>
            <a:ext cx="509760" cy="358920"/>
          </a:xfrm>
          <a:prstGeom prst="ellipse">
            <a:avLst/>
          </a:prstGeom>
          <a:solidFill>
            <a:srgbClr val="dcff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7732800" y="3468600"/>
            <a:ext cx="3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566120" y="4227480"/>
            <a:ext cx="215640" cy="7308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7567560" y="42274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642080" y="418608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504200" y="401472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8408880" y="4008600"/>
            <a:ext cx="1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7674120" y="401472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8585280" y="40086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7566120" y="3757680"/>
            <a:ext cx="493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7618320" y="3957480"/>
            <a:ext cx="493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8505720" y="3755880"/>
            <a:ext cx="497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8474040" y="4160880"/>
            <a:ext cx="43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6384960" y="3284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384960" y="329076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6384960" y="3290760"/>
            <a:ext cx="58680" cy="720720"/>
          </a:xfrm>
          <a:custGeom>
            <a:avLst/>
            <a:gdLst/>
            <a:ahLst/>
            <a:rect l="l" t="t" r="r" b="b"/>
            <a:pathLst>
              <a:path w="37" h="454">
                <a:moveTo>
                  <a:pt x="0" y="0"/>
                </a:moveTo>
                <a:cubicBezTo>
                  <a:pt x="1" y="11"/>
                  <a:pt x="4" y="47"/>
                  <a:pt x="7" y="69"/>
                </a:cubicBezTo>
                <a:cubicBezTo>
                  <a:pt x="10" y="91"/>
                  <a:pt x="12" y="100"/>
                  <a:pt x="17" y="131"/>
                </a:cubicBezTo>
                <a:cubicBezTo>
                  <a:pt x="22" y="162"/>
                  <a:pt x="33" y="217"/>
                  <a:pt x="35" y="253"/>
                </a:cubicBezTo>
                <a:cubicBezTo>
                  <a:pt x="37" y="289"/>
                  <a:pt x="34" y="318"/>
                  <a:pt x="31" y="345"/>
                </a:cubicBezTo>
                <a:cubicBezTo>
                  <a:pt x="28" y="372"/>
                  <a:pt x="20" y="397"/>
                  <a:pt x="15" y="415"/>
                </a:cubicBezTo>
                <a:cubicBezTo>
                  <a:pt x="10" y="433"/>
                  <a:pt x="3" y="446"/>
                  <a:pt x="0" y="45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8474040" y="4164120"/>
            <a:ext cx="216000" cy="7308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8475840" y="41641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8589960" y="4054320"/>
            <a:ext cx="163440" cy="238320"/>
          </a:xfrm>
          <a:custGeom>
            <a:avLst/>
            <a:gdLst/>
            <a:ahLst/>
            <a:rect l="l" t="t" r="r" b="b"/>
            <a:pathLst>
              <a:path w="103" h="150">
                <a:moveTo>
                  <a:pt x="0" y="0"/>
                </a:moveTo>
                <a:cubicBezTo>
                  <a:pt x="11" y="4"/>
                  <a:pt x="50" y="14"/>
                  <a:pt x="66" y="26"/>
                </a:cubicBezTo>
                <a:cubicBezTo>
                  <a:pt x="82" y="38"/>
                  <a:pt x="93" y="54"/>
                  <a:pt x="98" y="70"/>
                </a:cubicBezTo>
                <a:cubicBezTo>
                  <a:pt x="103" y="86"/>
                  <a:pt x="100" y="109"/>
                  <a:pt x="94" y="122"/>
                </a:cubicBezTo>
                <a:cubicBezTo>
                  <a:pt x="88" y="135"/>
                  <a:pt x="69" y="144"/>
                  <a:pt x="63" y="15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6570720" y="3281400"/>
            <a:ext cx="1760400" cy="723960"/>
          </a:xfrm>
          <a:custGeom>
            <a:avLst/>
            <a:gdLst/>
            <a:ahLst/>
            <a:rect l="l" t="t" r="r" b="b"/>
            <a:pathLst>
              <a:path w="1109" h="456">
                <a:moveTo>
                  <a:pt x="0" y="0"/>
                </a:moveTo>
                <a:lnTo>
                  <a:pt x="1109" y="3"/>
                </a:lnTo>
                <a:lnTo>
                  <a:pt x="1109" y="456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7466040" y="328140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1" y="0"/>
                </a:moveTo>
                <a:lnTo>
                  <a:pt x="0" y="429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548400" y="3301920"/>
            <a:ext cx="2044800" cy="857160"/>
          </a:xfrm>
          <a:custGeom>
            <a:avLst/>
            <a:gdLst/>
            <a:ahLst/>
            <a:rect l="l" t="t" r="r" b="b"/>
            <a:pathLst>
              <a:path w="1288" h="540">
                <a:moveTo>
                  <a:pt x="0" y="0"/>
                </a:moveTo>
                <a:cubicBezTo>
                  <a:pt x="26" y="10"/>
                  <a:pt x="100" y="40"/>
                  <a:pt x="159" y="57"/>
                </a:cubicBezTo>
                <a:cubicBezTo>
                  <a:pt x="218" y="74"/>
                  <a:pt x="292" y="90"/>
                  <a:pt x="354" y="99"/>
                </a:cubicBezTo>
                <a:cubicBezTo>
                  <a:pt x="416" y="108"/>
                  <a:pt x="487" y="112"/>
                  <a:pt x="531" y="114"/>
                </a:cubicBezTo>
                <a:cubicBezTo>
                  <a:pt x="575" y="116"/>
                  <a:pt x="589" y="115"/>
                  <a:pt x="621" y="114"/>
                </a:cubicBezTo>
                <a:cubicBezTo>
                  <a:pt x="653" y="113"/>
                  <a:pt x="687" y="111"/>
                  <a:pt x="726" y="108"/>
                </a:cubicBezTo>
                <a:cubicBezTo>
                  <a:pt x="765" y="105"/>
                  <a:pt x="815" y="97"/>
                  <a:pt x="858" y="93"/>
                </a:cubicBezTo>
                <a:cubicBezTo>
                  <a:pt x="901" y="89"/>
                  <a:pt x="951" y="84"/>
                  <a:pt x="987" y="81"/>
                </a:cubicBezTo>
                <a:cubicBezTo>
                  <a:pt x="1023" y="78"/>
                  <a:pt x="1052" y="76"/>
                  <a:pt x="1074" y="75"/>
                </a:cubicBezTo>
                <a:cubicBezTo>
                  <a:pt x="1096" y="74"/>
                  <a:pt x="1090" y="76"/>
                  <a:pt x="1122" y="76"/>
                </a:cubicBezTo>
                <a:cubicBezTo>
                  <a:pt x="1118" y="124"/>
                  <a:pt x="1121" y="121"/>
                  <a:pt x="1126" y="148"/>
                </a:cubicBezTo>
                <a:cubicBezTo>
                  <a:pt x="1131" y="175"/>
                  <a:pt x="1138" y="206"/>
                  <a:pt x="1152" y="237"/>
                </a:cubicBezTo>
                <a:cubicBezTo>
                  <a:pt x="1166" y="268"/>
                  <a:pt x="1194" y="305"/>
                  <a:pt x="1212" y="336"/>
                </a:cubicBezTo>
                <a:cubicBezTo>
                  <a:pt x="1230" y="367"/>
                  <a:pt x="1251" y="397"/>
                  <a:pt x="1263" y="423"/>
                </a:cubicBezTo>
                <a:cubicBezTo>
                  <a:pt x="1275" y="449"/>
                  <a:pt x="1280" y="473"/>
                  <a:pt x="1284" y="492"/>
                </a:cubicBezTo>
                <a:cubicBezTo>
                  <a:pt x="1288" y="511"/>
                  <a:pt x="1287" y="530"/>
                  <a:pt x="1287" y="5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7467480" y="3497400"/>
            <a:ext cx="190800" cy="690480"/>
          </a:xfrm>
          <a:custGeom>
            <a:avLst/>
            <a:gdLst/>
            <a:ahLst/>
            <a:rect l="l" t="t" r="r" b="b"/>
            <a:pathLst>
              <a:path w="120" h="435">
                <a:moveTo>
                  <a:pt x="0" y="0"/>
                </a:moveTo>
                <a:cubicBezTo>
                  <a:pt x="0" y="9"/>
                  <a:pt x="1" y="29"/>
                  <a:pt x="3" y="54"/>
                </a:cubicBezTo>
                <a:cubicBezTo>
                  <a:pt x="5" y="79"/>
                  <a:pt x="8" y="120"/>
                  <a:pt x="15" y="153"/>
                </a:cubicBezTo>
                <a:cubicBezTo>
                  <a:pt x="22" y="186"/>
                  <a:pt x="33" y="220"/>
                  <a:pt x="45" y="255"/>
                </a:cubicBezTo>
                <a:cubicBezTo>
                  <a:pt x="57" y="290"/>
                  <a:pt x="75" y="333"/>
                  <a:pt x="87" y="363"/>
                </a:cubicBezTo>
                <a:cubicBezTo>
                  <a:pt x="99" y="393"/>
                  <a:pt x="113" y="420"/>
                  <a:pt x="120" y="43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 rot="2700000">
            <a:off x="7209720" y="3297960"/>
            <a:ext cx="144360" cy="540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7250040" y="3260880"/>
            <a:ext cx="216000" cy="215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 rot="2700000">
            <a:off x="8073360" y="3232800"/>
            <a:ext cx="144360" cy="5400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8113680" y="3195720"/>
            <a:ext cx="216000" cy="215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rot="7882200">
            <a:off x="5806080" y="2959560"/>
            <a:ext cx="358920" cy="144720"/>
          </a:xfrm>
          <a:prstGeom prst="rightArrow">
            <a:avLst>
              <a:gd name="adj1" fmla="val 41185"/>
              <a:gd name="adj2" fmla="val 825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 rot="2793600">
            <a:off x="6610680" y="2955240"/>
            <a:ext cx="358920" cy="144360"/>
          </a:xfrm>
          <a:prstGeom prst="rightArrow">
            <a:avLst>
              <a:gd name="adj1" fmla="val 41185"/>
              <a:gd name="adj2" fmla="val 827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5519880" y="4568760"/>
            <a:ext cx="1440" cy="719280"/>
          </a:xfrm>
          <a:custGeom>
            <a:avLst/>
            <a:gdLst/>
            <a:ahLst/>
            <a:rect l="l" t="t" r="r" b="b"/>
            <a:pathLst>
              <a:path w="1" h="443">
                <a:moveTo>
                  <a:pt x="1" y="0"/>
                </a:moveTo>
                <a:lnTo>
                  <a:pt x="0" y="44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5697360" y="4761000"/>
            <a:ext cx="641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5616720" y="4773600"/>
            <a:ext cx="647640" cy="43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6564240" y="4558680"/>
            <a:ext cx="901800" cy="237960"/>
          </a:xfrm>
          <a:custGeom>
            <a:avLst/>
            <a:gdLst/>
            <a:ahLst/>
            <a:rect l="l" t="t" r="r" b="b"/>
            <a:pathLst>
              <a:path w="568" h="170">
                <a:moveTo>
                  <a:pt x="0" y="166"/>
                </a:moveTo>
                <a:lnTo>
                  <a:pt x="567" y="0"/>
                </a:lnTo>
                <a:lnTo>
                  <a:pt x="568" y="170"/>
                </a:lnTo>
              </a:path>
            </a:pathLst>
          </a:custGeom>
          <a:blipFill rotWithShape="0">
            <a:blip r:embed="rId50">
              <a:alphaModFix amt="41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7462800" y="4493520"/>
            <a:ext cx="866880" cy="120600"/>
          </a:xfrm>
          <a:custGeom>
            <a:avLst/>
            <a:gdLst/>
            <a:ahLst/>
            <a:rect l="l" t="t" r="r" b="b"/>
            <a:pathLst>
              <a:path w="546" h="342">
                <a:moveTo>
                  <a:pt x="0" y="181"/>
                </a:moveTo>
                <a:lnTo>
                  <a:pt x="0" y="0"/>
                </a:lnTo>
                <a:lnTo>
                  <a:pt x="546" y="342"/>
                </a:lnTo>
                <a:lnTo>
                  <a:pt x="546" y="182"/>
                </a:lnTo>
              </a:path>
            </a:pathLst>
          </a:custGeom>
          <a:blipFill rotWithShape="0">
            <a:blip r:embed="rId5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 flipH="1">
            <a:off x="7320960" y="4562640"/>
            <a:ext cx="144360" cy="711000"/>
          </a:xfrm>
          <a:custGeom>
            <a:avLst/>
            <a:gdLst/>
            <a:ahLst/>
            <a:rect l="l" t="t" r="r" b="b"/>
            <a:pathLst>
              <a:path w="91" h="454">
                <a:moveTo>
                  <a:pt x="0" y="0"/>
                </a:moveTo>
                <a:lnTo>
                  <a:pt x="91" y="0"/>
                </a:lnTo>
                <a:lnTo>
                  <a:pt x="0" y="454"/>
                </a:lnTo>
              </a:path>
            </a:pathLst>
          </a:custGeom>
          <a:blipFill rotWithShape="0">
            <a:blip r:embed="rId52">
              <a:alphaModFix amt="46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 flipH="1">
            <a:off x="8139960" y="4557600"/>
            <a:ext cx="384120" cy="719280"/>
          </a:xfrm>
          <a:custGeom>
            <a:avLst/>
            <a:gdLst/>
            <a:ahLst/>
            <a:rect l="l" t="t" r="r" b="b"/>
            <a:pathLst>
              <a:path w="181" h="454">
                <a:moveTo>
                  <a:pt x="91" y="0"/>
                </a:moveTo>
                <a:lnTo>
                  <a:pt x="181" y="0"/>
                </a:lnTo>
                <a:lnTo>
                  <a:pt x="0" y="454"/>
                </a:lnTo>
                <a:lnTo>
                  <a:pt x="91" y="454"/>
                </a:lnTo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6556320" y="4559400"/>
            <a:ext cx="1774800" cy="720720"/>
          </a:xfrm>
          <a:custGeom>
            <a:avLst/>
            <a:gdLst/>
            <a:ahLst/>
            <a:rect l="l" t="t" r="r" b="b"/>
            <a:pathLst>
              <a:path w="1118" h="454">
                <a:moveTo>
                  <a:pt x="0" y="0"/>
                </a:moveTo>
                <a:lnTo>
                  <a:pt x="1118" y="1"/>
                </a:lnTo>
                <a:lnTo>
                  <a:pt x="1118" y="45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7466040" y="4560840"/>
            <a:ext cx="1440" cy="719280"/>
          </a:xfrm>
          <a:custGeom>
            <a:avLst/>
            <a:gdLst/>
            <a:ahLst/>
            <a:rect l="l" t="t" r="r" b="b"/>
            <a:pathLst>
              <a:path w="1" h="443">
                <a:moveTo>
                  <a:pt x="1" y="0"/>
                </a:moveTo>
                <a:lnTo>
                  <a:pt x="0" y="44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7683480" y="4761000"/>
            <a:ext cx="641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7613640" y="4773600"/>
            <a:ext cx="608040" cy="43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 rot="5400000">
            <a:off x="5774040" y="4206240"/>
            <a:ext cx="287640" cy="215640"/>
          </a:xfrm>
          <a:prstGeom prst="rightArrow">
            <a:avLst>
              <a:gd name="adj1" fmla="val 48537"/>
              <a:gd name="adj2" fmla="val 55276"/>
            </a:avLst>
          </a:prstGeom>
          <a:solidFill>
            <a:srgbClr val="bbe0e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 rot="5400000">
            <a:off x="7214040" y="4205880"/>
            <a:ext cx="287640" cy="216000"/>
          </a:xfrm>
          <a:prstGeom prst="rightArrow">
            <a:avLst>
              <a:gd name="adj1" fmla="val 48537"/>
              <a:gd name="adj2" fmla="val 55184"/>
            </a:avLst>
          </a:prstGeom>
          <a:solidFill>
            <a:srgbClr val="bbe0e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 rot="8350200">
            <a:off x="7392600" y="5275080"/>
            <a:ext cx="358920" cy="144360"/>
          </a:xfrm>
          <a:prstGeom prst="rightArrow">
            <a:avLst>
              <a:gd name="adj1" fmla="val 41185"/>
              <a:gd name="adj2" fmla="val 827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 rot="2793600">
            <a:off x="6102720" y="5261760"/>
            <a:ext cx="358920" cy="144360"/>
          </a:xfrm>
          <a:prstGeom prst="rightArrow">
            <a:avLst>
              <a:gd name="adj1" fmla="val 41185"/>
              <a:gd name="adj2" fmla="val 827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5745240" y="5473800"/>
            <a:ext cx="1800000" cy="440640"/>
          </a:xfrm>
          <a:prstGeom prst="rect">
            <a:avLst/>
          </a:prstGeom>
          <a:solidFill>
            <a:srgbClr val="dcff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+ 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 rot="5400000">
            <a:off x="5928840" y="5891040"/>
            <a:ext cx="216000" cy="196920"/>
          </a:xfrm>
          <a:prstGeom prst="rightArrow">
            <a:avLst>
              <a:gd name="adj1" fmla="val 48537"/>
              <a:gd name="adj2" fmla="val 45455"/>
            </a:avLst>
          </a:prstGeom>
          <a:solidFill>
            <a:srgbClr val="bbe0e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5848200" y="6031080"/>
            <a:ext cx="43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6253200" y="6154560"/>
            <a:ext cx="216000" cy="196920"/>
          </a:xfrm>
          <a:prstGeom prst="rightArrow">
            <a:avLst>
              <a:gd name="adj1" fmla="val 48537"/>
              <a:gd name="adj2" fmla="val 45455"/>
            </a:avLst>
          </a:prstGeom>
          <a:solidFill>
            <a:srgbClr val="bbe0e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450120" y="6031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6791400" y="6154560"/>
            <a:ext cx="216000" cy="196920"/>
          </a:xfrm>
          <a:prstGeom prst="rightArrow">
            <a:avLst>
              <a:gd name="adj1" fmla="val 48537"/>
              <a:gd name="adj2" fmla="val 45455"/>
            </a:avLst>
          </a:prstGeom>
          <a:solidFill>
            <a:srgbClr val="bbe0e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988320" y="6031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7289640" y="5854680"/>
            <a:ext cx="36036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7275600" y="5907240"/>
            <a:ext cx="71280" cy="647640"/>
          </a:xfrm>
          <a:custGeom>
            <a:avLst/>
            <a:gdLst>
              <a:gd name="textAreaLeft" fmla="*/ 45720 w 71280"/>
              <a:gd name="textAreaRight" fmla="*/ 71640 w 71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235560" y="4562640"/>
            <a:ext cx="432000" cy="720720"/>
          </a:xfrm>
          <a:custGeom>
            <a:avLst/>
            <a:gdLst/>
            <a:ahLst/>
            <a:rect l="l" t="t" r="r" b="b"/>
            <a:pathLst>
              <a:path w="272" h="454">
                <a:moveTo>
                  <a:pt x="90" y="0"/>
                </a:moveTo>
                <a:lnTo>
                  <a:pt x="0" y="0"/>
                </a:lnTo>
                <a:lnTo>
                  <a:pt x="272" y="454"/>
                </a:lnTo>
                <a:lnTo>
                  <a:pt x="90" y="454"/>
                </a:lnTo>
              </a:path>
            </a:pathLst>
          </a:custGeom>
          <a:blipFill rotWithShape="0">
            <a:blip r:embed="rId5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4610160" y="4562640"/>
            <a:ext cx="1774800" cy="720720"/>
          </a:xfrm>
          <a:custGeom>
            <a:avLst/>
            <a:gdLst/>
            <a:ahLst/>
            <a:rect l="l" t="t" r="r" b="b"/>
            <a:pathLst>
              <a:path w="1118" h="454">
                <a:moveTo>
                  <a:pt x="0" y="0"/>
                </a:moveTo>
                <a:lnTo>
                  <a:pt x="1118" y="1"/>
                </a:lnTo>
                <a:lnTo>
                  <a:pt x="1118" y="45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179280" y="665280"/>
            <a:ext cx="8785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) обусловленные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ипом системы (характером работы элемент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8" dur="indefinite" restart="never" nodeType="tmRoot">
          <p:childTnLst>
            <p:seq>
              <p:cTn id="4689" dur="indefinite" nodeType="mainSeq">
                <p:childTnLst>
                  <p:par>
                    <p:cTn id="4690" fill="hold">
                      <p:stCondLst>
                        <p:cond delay="0"/>
                      </p:stCondLst>
                      <p:childTnLst>
                        <p:par>
                          <p:cTn id="4691" fill="hold">
                            <p:stCondLst>
                              <p:cond delay="0"/>
                            </p:stCondLst>
                            <p:childTnLst>
                              <p:par>
                                <p:cTn id="46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4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5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6" dur="10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9" dur="80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0" dur="80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1" dur="80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2" fill="hold">
                      <p:stCondLst>
                        <p:cond delay="indefinite"/>
                      </p:stCondLst>
                      <p:childTnLst>
                        <p:par>
                          <p:cTn id="4703" fill="hold">
                            <p:stCondLst>
                              <p:cond delay="0"/>
                            </p:stCondLst>
                            <p:childTnLst>
                              <p:par>
                                <p:cTn id="47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6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7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8" dur="10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1" dur="10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2" dur="10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3" dur="1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6" dur="1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7" dur="1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8" dur="1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1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2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3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6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7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8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1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2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3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6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7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8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1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2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3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6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7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8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1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2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3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6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7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8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1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2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3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6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7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8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1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2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3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4" fill="hold">
                      <p:stCondLst>
                        <p:cond delay="indefinite"/>
                      </p:stCondLst>
                      <p:childTnLst>
                        <p:par>
                          <p:cTn id="4775" fill="hold">
                            <p:stCondLst>
                              <p:cond delay="0"/>
                            </p:stCondLst>
                            <p:childTnLst>
                              <p:par>
                                <p:cTn id="47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8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1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4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7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8" fill="hold">
                      <p:stCondLst>
                        <p:cond delay="indefinite"/>
                      </p:stCondLst>
                      <p:childTnLst>
                        <p:par>
                          <p:cTn id="4789" fill="hold">
                            <p:stCondLst>
                              <p:cond delay="0"/>
                            </p:stCondLst>
                            <p:childTnLst>
                              <p:par>
                                <p:cTn id="47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2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3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4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5" fill="hold">
                      <p:stCondLst>
                        <p:cond delay="indefinite"/>
                      </p:stCondLst>
                      <p:childTnLst>
                        <p:par>
                          <p:cTn id="4796" fill="hold">
                            <p:stCondLst>
                              <p:cond delay="0"/>
                            </p:stCondLst>
                            <p:childTnLst>
                              <p:par>
                                <p:cTn id="47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9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0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1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4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5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6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9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0" dur="1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1" dur="1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4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5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6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9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0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1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4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5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6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9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0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1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4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5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6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9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0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1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4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5" dur="10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6" dur="10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9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0" dur="10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1" dur="10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4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5" dur="10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6" dur="10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9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0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1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4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5" dur="1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6" dur="1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9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0" dur="10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1" dur="10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4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5" dur="1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6" dur="1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9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0" dur="10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1" dur="10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4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5" dur="1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6" dur="10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9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0" dur="1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1" dur="1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4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5" dur="1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6" dur="1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9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0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1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4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5" dur="1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6" dur="1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9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0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1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4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5" dur="1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6" dur="1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9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0" dur="10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1" dur="10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4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5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6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9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0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1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4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5" dur="1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6" dur="10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9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0" dur="10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1" dur="10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4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5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6" dur="1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9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0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1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4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5" dur="10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6" dur="10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9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0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1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4" dur="1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5" dur="10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6" dur="10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9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0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1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4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5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6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9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0" dur="1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1" dur="1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2" fill="hold">
                      <p:stCondLst>
                        <p:cond delay="indefinite"/>
                      </p:stCondLst>
                      <p:childTnLst>
                        <p:par>
                          <p:cTn id="4983" fill="hold">
                            <p:stCondLst>
                              <p:cond delay="0"/>
                            </p:stCondLst>
                            <p:childTnLst>
                              <p:par>
                                <p:cTn id="49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5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9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2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3" fill="hold">
                      <p:stCondLst>
                        <p:cond delay="indefinite"/>
                      </p:stCondLst>
                      <p:childTnLst>
                        <p:par>
                          <p:cTn id="4994" fill="hold">
                            <p:stCondLst>
                              <p:cond delay="0"/>
                            </p:stCondLst>
                            <p:childTnLst>
                              <p:par>
                                <p:cTn id="49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7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0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3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6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9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2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5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8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20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23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26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29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2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5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7" fill="hold">
                      <p:stCondLst>
                        <p:cond delay="indefinite"/>
                      </p:stCondLst>
                      <p:childTnLst>
                        <p:par>
                          <p:cTn id="5038" fill="hold">
                            <p:stCondLst>
                              <p:cond delay="0"/>
                            </p:stCondLst>
                            <p:childTnLst>
                              <p:par>
                                <p:cTn id="50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1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2" dur="10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3" dur="10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6" dur="1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7" dur="10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8" dur="10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1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2" dur="10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3" dur="10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6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7" dur="10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8" dur="10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1" dur="1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2" dur="10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3" dur="10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6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7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8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1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2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3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6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7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8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9" fill="hold">
                      <p:stCondLst>
                        <p:cond delay="indefinite"/>
                      </p:stCondLst>
                      <p:childTnLst>
                        <p:par>
                          <p:cTn id="5080" fill="hold">
                            <p:stCondLst>
                              <p:cond delay="0"/>
                            </p:stCondLst>
                            <p:childTnLst>
                              <p:par>
                                <p:cTn id="50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3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4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5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8" dur="1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9" dur="1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0" dur="1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3" dur="1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4" dur="10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5" dur="10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8" dur="1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9" dur="1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0" dur="1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3" dur="1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4" dur="1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5" dur="1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8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9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0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3" dur="1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4" dur="1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5" dur="1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8" dur="10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9" dur="1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0" dur="1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3" dur="1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4" dur="1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5" dur="1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6" fill="hold">
                      <p:stCondLst>
                        <p:cond delay="indefinite"/>
                      </p:stCondLst>
                      <p:childTnLst>
                        <p:par>
                          <p:cTn id="5127" fill="hold">
                            <p:stCondLst>
                              <p:cond delay="0"/>
                            </p:stCondLst>
                            <p:childTnLst>
                              <p:par>
                                <p:cTn id="5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0" dur="1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1" dur="10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2" dur="10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5" dur="1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6" dur="1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7" dur="1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0" dur="1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1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2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3" fill="hold">
                      <p:stCondLst>
                        <p:cond delay="indefinite"/>
                      </p:stCondLst>
                      <p:childTnLst>
                        <p:par>
                          <p:cTn id="5144" fill="hold">
                            <p:stCondLst>
                              <p:cond delay="0"/>
                            </p:stCondLst>
                            <p:childTnLst>
                              <p:par>
                                <p:cTn id="5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7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8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9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2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3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4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5" fill="hold">
                      <p:stCondLst>
                        <p:cond delay="indefinite"/>
                      </p:stCondLst>
                      <p:childTnLst>
                        <p:par>
                          <p:cTn id="5156" fill="hold">
                            <p:stCondLst>
                              <p:cond delay="0"/>
                            </p:stCondLst>
                            <p:childTnLst>
                              <p:par>
                                <p:cTn id="5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9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0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1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4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5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6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7" fill="hold">
                      <p:stCondLst>
                        <p:cond delay="indefinite"/>
                      </p:stCondLst>
                      <p:childTnLst>
                        <p:par>
                          <p:cTn id="5168" fill="hold">
                            <p:stCondLst>
                              <p:cond delay="0"/>
                            </p:stCondLst>
                            <p:childTnLst>
                              <p:par>
                                <p:cTn id="5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1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2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3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6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7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8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1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2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3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6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7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8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9" fill="hold">
                      <p:stCondLst>
                        <p:cond delay="indefinite"/>
                      </p:stCondLst>
                      <p:childTnLst>
                        <p:par>
                          <p:cTn id="5190" fill="hold">
                            <p:stCondLst>
                              <p:cond delay="0"/>
                            </p:stCondLst>
                            <p:childTnLst>
                              <p:par>
                                <p:cTn id="5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3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4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5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8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9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0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3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4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5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8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9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0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3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4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5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8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9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0" dur="1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3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4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5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8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9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0" dur="1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3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4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5" dur="1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8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9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0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3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4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5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8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9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0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3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4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5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8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9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0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3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4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5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8" dur="1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9" dur="1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0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3" dur="1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4" dur="1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5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8" dur="1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9" dur="1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80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3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4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85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8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9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0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3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4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5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8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9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0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3" dur="1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4" dur="1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5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8" dur="1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9" dur="1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0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3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4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5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8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9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20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3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4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25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8" dur="10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9" dur="10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0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3" dur="10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4" dur="10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5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8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9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0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3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4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5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8" dur="1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9" dur="1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0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3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4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5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8" dur="1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9" dur="1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0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3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4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5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6" fill="hold">
                      <p:stCondLst>
                        <p:cond delay="indefinite"/>
                      </p:stCondLst>
                      <p:childTnLst>
                        <p:par>
                          <p:cTn id="5367" fill="hold">
                            <p:stCondLst>
                              <p:cond delay="0"/>
                            </p:stCondLst>
                            <p:childTnLst>
                              <p:par>
                                <p:cTn id="5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0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1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2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3" fill="hold">
                      <p:stCondLst>
                        <p:cond delay="indefinite"/>
                      </p:stCondLst>
                      <p:childTnLst>
                        <p:par>
                          <p:cTn id="5374" fill="hold">
                            <p:stCondLst>
                              <p:cond delay="0"/>
                            </p:stCondLst>
                            <p:childTnLst>
                              <p:par>
                                <p:cTn id="53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7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8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9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2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3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4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7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8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9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2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3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4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7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8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9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2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3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4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7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8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9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2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3" dur="10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4" dur="10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7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8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9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2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3" dur="1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4" dur="1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7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8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9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2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3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4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7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8" dur="1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9" dur="1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2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3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4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7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8" dur="1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9" dur="1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2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3" dur="1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4" dur="1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7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8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9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2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3" dur="10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4" dur="10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7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8" dur="1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9" dur="1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2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3" dur="1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4" dur="1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7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8" dur="10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9" dur="10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2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3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4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7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8" dur="1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9" dur="1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2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3" dur="10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4" dur="10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7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8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9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2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3" dur="10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4" dur="10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7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8" dur="10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9" dur="10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2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3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4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7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8" dur="10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9" dur="10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2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3" dur="1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4" dur="1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7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8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9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2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3" dur="1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4" dur="1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7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8" dur="10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9" dur="10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2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3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4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7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8" dur="1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9" dur="1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2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3" dur="10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4" dur="10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7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8" dur="10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9" dur="10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2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3" dur="10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4" dur="10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7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8" dur="1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9" dur="1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2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3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4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7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8" dur="10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9" dur="10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2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3" dur="1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4" dur="1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7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8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9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2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3" dur="10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4" dur="10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7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8" dur="10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9" dur="10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2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3" dur="10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4" dur="10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7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8" dur="10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9" dur="10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2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3" dur="10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4" dur="10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7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8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9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2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3" dur="10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4" dur="10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7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8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9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2" dur="1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3" dur="1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4" dur="1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7" dur="1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8" dur="1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9" dur="1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2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3" dur="10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4" dur="10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7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8" dur="10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9" dur="10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0" fill="hold">
                      <p:stCondLst>
                        <p:cond delay="indefinite"/>
                      </p:stCondLst>
                      <p:childTnLst>
                        <p:par>
                          <p:cTn id="5651" fill="hold">
                            <p:stCondLst>
                              <p:cond delay="0"/>
                            </p:stCondLst>
                            <p:childTnLst>
                              <p:par>
                                <p:cTn id="56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3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6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59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3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6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7" fill="hold">
                      <p:stCondLst>
                        <p:cond delay="indefinite"/>
                      </p:stCondLst>
                      <p:childTnLst>
                        <p:par>
                          <p:cTn id="5668" fill="hold">
                            <p:stCondLst>
                              <p:cond delay="0"/>
                            </p:stCondLst>
                            <p:childTnLst>
                              <p:par>
                                <p:cTn id="5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1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4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7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0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3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6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9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2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94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97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0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3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6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9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12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15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7" fill="hold">
                      <p:stCondLst>
                        <p:cond delay="indefinite"/>
                      </p:stCondLst>
                      <p:childTnLst>
                        <p:par>
                          <p:cTn id="5718" fill="hold">
                            <p:stCondLst>
                              <p:cond delay="0"/>
                            </p:stCondLst>
                            <p:childTnLst>
                              <p:par>
                                <p:cTn id="57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1" dur="10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2" dur="10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3" dur="10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6" dur="1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7" dur="1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8" dur="1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1" dur="1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2" dur="10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3" dur="10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6" dur="10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7" dur="10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8" dur="10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1" dur="10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2" dur="10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3" dur="10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6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7" dur="10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8" dur="10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9" fill="hold">
                      <p:stCondLst>
                        <p:cond delay="indefinite"/>
                      </p:stCondLst>
                      <p:childTnLst>
                        <p:par>
                          <p:cTn id="5750" fill="hold">
                            <p:stCondLst>
                              <p:cond delay="0"/>
                            </p:stCondLst>
                            <p:childTnLst>
                              <p:par>
                                <p:cTn id="57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3" dur="1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4" dur="10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5" dur="10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8" dur="1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9" dur="10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0" dur="10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3" dur="1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4" dur="1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5" dur="1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8" dur="10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9" dur="10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0" dur="10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3" dur="1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4" dur="10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5" dur="10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8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9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0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3" dur="1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4" dur="10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5" dur="10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8" dur="1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9" dur="10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0" dur="10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3" dur="1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4" dur="10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5" dur="10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6" fill="hold">
                      <p:stCondLst>
                        <p:cond delay="indefinite"/>
                      </p:stCondLst>
                      <p:childTnLst>
                        <p:par>
                          <p:cTn id="5797" fill="hold">
                            <p:stCondLst>
                              <p:cond delay="0"/>
                            </p:stCondLst>
                            <p:childTnLst>
                              <p:par>
                                <p:cTn id="57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0" dur="1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1" dur="10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2" dur="10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5" dur="1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6" dur="10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7" dur="10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0" dur="1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1" dur="1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2" dur="1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3" fill="hold">
                      <p:stCondLst>
                        <p:cond delay="indefinite"/>
                      </p:stCondLst>
                      <p:childTnLst>
                        <p:par>
                          <p:cTn id="5814" fill="hold">
                            <p:stCondLst>
                              <p:cond delay="0"/>
                            </p:stCondLst>
                            <p:childTnLst>
                              <p:par>
                                <p:cTn id="58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7" dur="1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8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9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2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3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4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5" fill="hold">
                      <p:stCondLst>
                        <p:cond delay="indefinite"/>
                      </p:stCondLst>
                      <p:childTnLst>
                        <p:par>
                          <p:cTn id="5826" fill="hold">
                            <p:stCondLst>
                              <p:cond delay="0"/>
                            </p:stCondLst>
                            <p:childTnLst>
                              <p:par>
                                <p:cTn id="58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9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0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1" dur="1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4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5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6" dur="1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7" fill="hold">
                      <p:stCondLst>
                        <p:cond delay="indefinite"/>
                      </p:stCondLst>
                      <p:childTnLst>
                        <p:par>
                          <p:cTn id="5838" fill="hold">
                            <p:stCondLst>
                              <p:cond delay="0"/>
                            </p:stCondLst>
                            <p:childTnLst>
                              <p:par>
                                <p:cTn id="58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1" dur="10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2" dur="10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3" dur="10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6" dur="10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7" dur="10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8" dur="10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1" dur="10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2" dur="10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3" dur="1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6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7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8" dur="10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>
            <a:hlinkClick r:id="" action="ppaction://hlinkshowjump?jump=nextslide"/>
          </p:cNvPr>
          <p:cNvSpPr/>
          <p:nvPr/>
        </p:nvSpPr>
        <p:spPr>
          <a:xfrm>
            <a:off x="250920" y="260280"/>
            <a:ext cx="86421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90033"/>
                </a:solidFill>
                <a:latin typeface="Arial Black"/>
              </a:rPr>
              <a:t>ИСПОЛЬЗОВАНИЕ ГРУППОВЫХ ОСНОВНЫХ НЕИЗВЕСТНЫ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90033"/>
                </a:solidFill>
                <a:latin typeface="Arial Black"/>
              </a:rPr>
              <a:t>(ЛИНЕЙНЫХ ПРЕОБРАЗОВАНИЙ НЕИЗВЕСТНЫХ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90033"/>
                </a:solidFill>
                <a:latin typeface="Arial Black"/>
              </a:rPr>
              <a:t>В РАСЧЁТАХ ДЕФОРМИРУЕМЫХ СИСТЕМ МЕТОДОМ ПЕРЕМЕЩЕН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324000" y="1052640"/>
            <a:ext cx="8496000" cy="810000"/>
          </a:xfrm>
          <a:prstGeom prst="rect">
            <a:avLst/>
          </a:prstGeom>
          <a:solidFill>
            <a:srgbClr val="c9f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Групповыми основными неизвестными метода перемещений называю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линейные комбинации перемещений расчётных узлов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группы углов поворота и линейных перемещени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890640" y="1916280"/>
            <a:ext cx="75690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ереход  от исходных неизвестных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 новым (групповым) неизвестным     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6" name=""/>
              <p:cNvSpPr txBox="1"/>
              <p:nvPr/>
            </p:nvSpPr>
            <p:spPr>
              <a:xfrm>
                <a:off x="7991640" y="1927080"/>
                <a:ext cx="277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7" name=""/>
              <p:cNvSpPr txBox="1"/>
              <p:nvPr/>
            </p:nvSpPr>
            <p:spPr>
              <a:xfrm>
                <a:off x="414360" y="2706840"/>
                <a:ext cx="2979720" cy="18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η</m:t>
                              </m:r>
                              <m:sSub>
                                <m:e>
                                  <m:r>
                                    <m:t xml:space="preserve"> 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58" name=""/>
          <p:cNvSpPr/>
          <p:nvPr/>
        </p:nvSpPr>
        <p:spPr>
          <a:xfrm>
            <a:off x="3278160" y="3506760"/>
            <a:ext cx="18115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матрица линей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пре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неизвест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9" name=""/>
              <p:cNvSpPr txBox="1"/>
              <p:nvPr/>
            </p:nvSpPr>
            <p:spPr>
              <a:xfrm>
                <a:off x="5029200" y="2657520"/>
                <a:ext cx="384660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η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60" name=""/>
          <p:cNvSpPr/>
          <p:nvPr/>
        </p:nvSpPr>
        <p:spPr>
          <a:xfrm>
            <a:off x="6408720" y="4597560"/>
            <a:ext cx="1249560" cy="439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538440" y="4135320"/>
            <a:ext cx="1224000" cy="37944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560760" y="4181400"/>
                <a:ext cx="115092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η 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6443640" y="4600440"/>
                <a:ext cx="12240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η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564" name=""/>
          <p:cNvSpPr/>
          <p:nvPr/>
        </p:nvSpPr>
        <p:spPr>
          <a:xfrm>
            <a:off x="204840" y="47847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нонические уравне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3429000" y="4772160"/>
                <a:ext cx="14558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 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6" name=""/>
          <p:cNvSpPr/>
          <p:nvPr/>
        </p:nvSpPr>
        <p:spPr>
          <a:xfrm>
            <a:off x="174600" y="5068800"/>
            <a:ext cx="548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Коэффициенты и свободные члены уравнени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7" name=""/>
              <p:cNvSpPr txBox="1"/>
              <p:nvPr/>
            </p:nvSpPr>
            <p:spPr>
              <a:xfrm>
                <a:off x="5518080" y="5033880"/>
                <a:ext cx="32511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r>
                          <m:t xml:space="preserve">K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 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68" name=""/>
          <p:cNvSpPr/>
          <p:nvPr/>
        </p:nvSpPr>
        <p:spPr>
          <a:xfrm>
            <a:off x="217440" y="5448240"/>
            <a:ext cx="41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Групповые основные неизвестные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4270320" y="5445000"/>
                <a:ext cx="44690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K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a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u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0" name=""/>
          <p:cNvSpPr/>
          <p:nvPr/>
        </p:nvSpPr>
        <p:spPr>
          <a:xfrm>
            <a:off x="212760" y="58690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комые усил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1" name=""/>
              <p:cNvSpPr txBox="1"/>
              <p:nvPr/>
            </p:nvSpPr>
            <p:spPr>
              <a:xfrm>
                <a:off x="2438280" y="5823000"/>
                <a:ext cx="55897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K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a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2" name=""/>
          <p:cNvSpPr/>
          <p:nvPr/>
        </p:nvSpPr>
        <p:spPr>
          <a:xfrm rot="16200000">
            <a:off x="3011400" y="6114960"/>
            <a:ext cx="108000" cy="324000"/>
          </a:xfrm>
          <a:custGeom>
            <a:avLst/>
            <a:gdLst>
              <a:gd name="textAreaLeft" fmla="*/ 0 w 108000"/>
              <a:gd name="textAreaRight" fmla="*/ 38880 w 108000"/>
              <a:gd name="textAreaTop" fmla="*/ 8280 h 324000"/>
              <a:gd name="textAreaBottom" fmla="*/ 31572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3" name=""/>
              <p:cNvSpPr txBox="1"/>
              <p:nvPr/>
            </p:nvSpPr>
            <p:spPr>
              <a:xfrm>
                <a:off x="2827440" y="6276960"/>
                <a:ext cx="45864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574" name=""/>
          <p:cNvSpPr/>
          <p:nvPr/>
        </p:nvSpPr>
        <p:spPr>
          <a:xfrm rot="16200000">
            <a:off x="5021280" y="6116040"/>
            <a:ext cx="107640" cy="324000"/>
          </a:xfrm>
          <a:custGeom>
            <a:avLst/>
            <a:gdLst>
              <a:gd name="textAreaLeft" fmla="*/ 0 w 107640"/>
              <a:gd name="textAreaRight" fmla="*/ 38880 w 107640"/>
              <a:gd name="textAreaTop" fmla="*/ 8280 h 324000"/>
              <a:gd name="textAreaBottom" fmla="*/ 31572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5" name=""/>
              <p:cNvSpPr txBox="1"/>
              <p:nvPr/>
            </p:nvSpPr>
            <p:spPr>
              <a:xfrm>
                <a:off x="4836960" y="6278400"/>
                <a:ext cx="45900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576" name=""/>
          <p:cNvSpPr/>
          <p:nvPr/>
        </p:nvSpPr>
        <p:spPr>
          <a:xfrm>
            <a:off x="3132000" y="2251080"/>
            <a:ext cx="3240360" cy="431640"/>
          </a:xfrm>
          <a:prstGeom prst="rect">
            <a:avLst/>
          </a:prstGeom>
          <a:solidFill>
            <a:srgbClr val="81f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7" name=""/>
              <p:cNvSpPr txBox="1"/>
              <p:nvPr/>
            </p:nvSpPr>
            <p:spPr>
              <a:xfrm>
                <a:off x="3203640" y="2205000"/>
                <a:ext cx="30956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т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⋅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9" dur="indefinite" restart="never" nodeType="tmRoot">
          <p:childTnLst>
            <p:seq>
              <p:cTn id="5860" dur="indefinite" nodeType="mainSeq">
                <p:childTnLst>
                  <p:par>
                    <p:cTn id="5861" fill="hold">
                      <p:stCondLst>
                        <p:cond delay="0"/>
                      </p:stCondLst>
                      <p:childTnLst>
                        <p:par>
                          <p:cTn id="5862" fill="hold">
                            <p:stCondLst>
                              <p:cond delay="0"/>
                            </p:stCondLst>
                            <p:childTnLst>
                              <p:par>
                                <p:cTn id="58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5" dur="10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6" dur="10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7" dur="10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8" fill="hold">
                      <p:stCondLst>
                        <p:cond delay="indefinite"/>
                      </p:stCondLst>
                      <p:childTnLst>
                        <p:par>
                          <p:cTn id="5869" fill="hold">
                            <p:stCondLst>
                              <p:cond delay="0"/>
                            </p:stCondLst>
                            <p:childTnLst>
                              <p:par>
                                <p:cTn id="58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2" dur="80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3" dur="80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4" dur="80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5" fill="hold">
                      <p:stCondLst>
                        <p:cond delay="indefinite"/>
                      </p:stCondLst>
                      <p:childTnLst>
                        <p:par>
                          <p:cTn id="5876" fill="hold">
                            <p:stCondLst>
                              <p:cond delay="0"/>
                            </p:stCondLst>
                            <p:childTnLst>
                              <p:par>
                                <p:cTn id="58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9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2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3" fill="hold">
                      <p:stCondLst>
                        <p:cond delay="indefinite"/>
                      </p:stCondLst>
                      <p:childTnLst>
                        <p:par>
                          <p:cTn id="5884" fill="hold">
                            <p:stCondLst>
                              <p:cond delay="0"/>
                            </p:stCondLst>
                            <p:childTnLst>
                              <p:par>
                                <p:cTn id="58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7" dur="1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8" dur="1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9" dur="1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2" dur="1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3" dur="1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4" dur="10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5" fill="hold">
                      <p:stCondLst>
                        <p:cond delay="indefinite"/>
                      </p:stCondLst>
                      <p:childTnLst>
                        <p:par>
                          <p:cTn id="5896" fill="hold">
                            <p:stCondLst>
                              <p:cond delay="0"/>
                            </p:stCondLst>
                            <p:childTnLst>
                              <p:par>
                                <p:cTn id="58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9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0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1" dur="10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4" dur="1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5" dur="1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6" dur="1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7" fill="hold">
                      <p:stCondLst>
                        <p:cond delay="indefinite"/>
                      </p:stCondLst>
                      <p:childTnLst>
                        <p:par>
                          <p:cTn id="5908" fill="hold">
                            <p:stCondLst>
                              <p:cond delay="0"/>
                            </p:stCondLst>
                            <p:childTnLst>
                              <p:par>
                                <p:cTn id="59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1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4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5" fill="hold">
                      <p:stCondLst>
                        <p:cond delay="indefinite"/>
                      </p:stCondLst>
                      <p:childTnLst>
                        <p:par>
                          <p:cTn id="5916" fill="hold">
                            <p:stCondLst>
                              <p:cond delay="0"/>
                            </p:stCondLst>
                            <p:childTnLst>
                              <p:par>
                                <p:cTn id="59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9" dur="1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0" dur="1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1" dur="1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2" fill="hold">
                      <p:stCondLst>
                        <p:cond delay="indefinite"/>
                      </p:stCondLst>
                      <p:childTnLst>
                        <p:par>
                          <p:cTn id="5923" fill="hold">
                            <p:stCondLst>
                              <p:cond delay="0"/>
                            </p:stCondLst>
                            <p:childTnLst>
                              <p:par>
                                <p:cTn id="59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6" dur="10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7" dur="10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8" dur="10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1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2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3" dur="10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4" fill="hold">
                      <p:stCondLst>
                        <p:cond delay="indefinite"/>
                      </p:stCondLst>
                      <p:childTnLst>
                        <p:par>
                          <p:cTn id="5935" fill="hold">
                            <p:stCondLst>
                              <p:cond delay="0"/>
                            </p:stCondLst>
                            <p:childTnLst>
                              <p:par>
                                <p:cTn id="5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8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9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0" dur="1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3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4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5" dur="1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6" fill="hold">
                      <p:stCondLst>
                        <p:cond delay="indefinite"/>
                      </p:stCondLst>
                      <p:childTnLst>
                        <p:par>
                          <p:cTn id="5947" fill="hold">
                            <p:stCondLst>
                              <p:cond delay="0"/>
                            </p:stCondLst>
                            <p:childTnLst>
                              <p:par>
                                <p:cTn id="59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0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1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2" dur="1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5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6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7" dur="1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8" fill="hold">
                      <p:stCondLst>
                        <p:cond delay="indefinite"/>
                      </p:stCondLst>
                      <p:childTnLst>
                        <p:par>
                          <p:cTn id="5959" fill="hold">
                            <p:stCondLst>
                              <p:cond delay="0"/>
                            </p:stCondLst>
                            <p:childTnLst>
                              <p:par>
                                <p:cTn id="59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2" dur="10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3" dur="10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4" dur="10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7" dur="10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8" dur="10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9" dur="10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0" fill="hold">
                      <p:stCondLst>
                        <p:cond delay="indefinite"/>
                      </p:stCondLst>
                      <p:childTnLst>
                        <p:par>
                          <p:cTn id="5971" fill="hold">
                            <p:stCondLst>
                              <p:cond delay="0"/>
                            </p:stCondLst>
                            <p:childTnLst>
                              <p:par>
                                <p:cTn id="59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4" dur="1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5" dur="1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76" dur="10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9" dur="1000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0" dur="1000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1" dur="10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2" fill="hold">
                      <p:stCondLst>
                        <p:cond delay="indefinite"/>
                      </p:stCondLst>
                      <p:childTnLst>
                        <p:par>
                          <p:cTn id="5983" fill="hold">
                            <p:stCondLst>
                              <p:cond delay="0"/>
                            </p:stCondLst>
                            <p:childTnLst>
                              <p:par>
                                <p:cTn id="59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6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9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0" fill="hold">
                      <p:stCondLst>
                        <p:cond delay="indefinite"/>
                      </p:stCondLst>
                      <p:childTnLst>
                        <p:par>
                          <p:cTn id="5991" fill="hold">
                            <p:stCondLst>
                              <p:cond delay="0"/>
                            </p:stCondLst>
                            <p:childTnLst>
                              <p:par>
                                <p:cTn id="59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4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7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">
            <a:hlinkClick r:id="" action="ppaction://hlinkshowjump?jump=nextslide"/>
          </p:cNvPr>
          <p:cNvSpPr/>
          <p:nvPr/>
        </p:nvSpPr>
        <p:spPr>
          <a:xfrm>
            <a:off x="212760" y="260280"/>
            <a:ext cx="871380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 Black"/>
              </a:rPr>
              <a:t>ИСПОЛЬЗОВАНИЕ ГРУППОВЫХ ОСНОВНЫХ НЕИЗВЕС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 Black"/>
              </a:rPr>
              <a:t>МЕТОДА ПЕРЕМЕЩЕНИЙ В РАСЧЁТАХ СИММЕТРИЧНЫХ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684360" y="193680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3492360" y="194940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4356000" y="795240"/>
            <a:ext cx="4319640" cy="5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сновная система с исходными основными неизвестными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…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… 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]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т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250920" y="2997360"/>
            <a:ext cx="43210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вязь между исходными неизвестными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 новыми (</a:t>
            </a: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групповыми</a:t>
            </a: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) неизвестными   </a:t>
            </a: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4098960" y="3281400"/>
                <a:ext cx="27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585" name=""/>
          <p:cNvSpPr/>
          <p:nvPr/>
        </p:nvSpPr>
        <p:spPr>
          <a:xfrm>
            <a:off x="2700360" y="5121360"/>
            <a:ext cx="4032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Матрицы линейного преобразования неизвестны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4500720" y="2924280"/>
            <a:ext cx="4189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90033"/>
                </a:solidFill>
                <a:latin typeface="Arial Narrow"/>
              </a:rPr>
              <a:t>Новые (групповые) основные неизвестные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312840" y="5308560"/>
                <a:ext cx="38797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η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i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8" name=""/>
              <p:cNvSpPr txBox="1"/>
              <p:nvPr/>
            </p:nvSpPr>
            <p:spPr>
              <a:xfrm>
                <a:off x="736560" y="3971880"/>
                <a:ext cx="3203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{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  <m: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  <m: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,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9" name=""/>
          <p:cNvSpPr/>
          <p:nvPr/>
        </p:nvSpPr>
        <p:spPr>
          <a:xfrm flipH="1" rot="5397000">
            <a:off x="4030920" y="5760000"/>
            <a:ext cx="503280" cy="142920"/>
          </a:xfrm>
          <a:prstGeom prst="triangle">
            <a:avLst>
              <a:gd name="adj" fmla="val 50000"/>
            </a:avLst>
          </a:prstGeom>
          <a:solidFill>
            <a:srgbClr val="8fcc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1619280" y="3614760"/>
            <a:ext cx="124920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7102440" y="6289560"/>
            <a:ext cx="1224000" cy="32400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7128000" y="6292800"/>
                <a:ext cx="115092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η 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1733400" y="3624120"/>
                <a:ext cx="9716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η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594" name=""/>
          <p:cNvSpPr/>
          <p:nvPr/>
        </p:nvSpPr>
        <p:spPr>
          <a:xfrm>
            <a:off x="1663560" y="24764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2843280" y="2484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2246400" y="1468440"/>
            <a:ext cx="0" cy="13129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2193840" y="1403280"/>
            <a:ext cx="108000" cy="25236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2063880" y="1341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874800" y="1935000"/>
            <a:ext cx="792000" cy="574920"/>
          </a:xfrm>
          <a:custGeom>
            <a:avLst/>
            <a:gdLst/>
            <a:ahLst/>
            <a:rect l="l" t="t" r="r" b="b"/>
            <a:pathLst>
              <a:path w="499" h="362">
                <a:moveTo>
                  <a:pt x="0" y="0"/>
                </a:moveTo>
                <a:lnTo>
                  <a:pt x="499" y="0"/>
                </a:lnTo>
                <a:lnTo>
                  <a:pt x="499" y="3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 flipH="1">
            <a:off x="2843280" y="1943280"/>
            <a:ext cx="792000" cy="574560"/>
          </a:xfrm>
          <a:custGeom>
            <a:avLst/>
            <a:gdLst/>
            <a:ahLst/>
            <a:rect l="l" t="t" r="r" b="b"/>
            <a:pathLst>
              <a:path w="499" h="362">
                <a:moveTo>
                  <a:pt x="0" y="0"/>
                </a:moveTo>
                <a:lnTo>
                  <a:pt x="499" y="0"/>
                </a:lnTo>
                <a:lnTo>
                  <a:pt x="499" y="3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5005440" y="193680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7896240" y="1933560"/>
            <a:ext cx="276120" cy="3240"/>
          </a:xfrm>
          <a:custGeom>
            <a:avLst/>
            <a:gdLst/>
            <a:ahLst/>
            <a:rect l="l" t="t" r="r" b="b"/>
            <a:pathLst>
              <a:path w="174" h="2">
                <a:moveTo>
                  <a:pt x="0" y="0"/>
                </a:moveTo>
                <a:lnTo>
                  <a:pt x="174" y="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5985000" y="24764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7164360" y="2484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6567480" y="1468440"/>
            <a:ext cx="0" cy="13129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6515280" y="1403280"/>
            <a:ext cx="107640" cy="25236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6384960" y="1341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5195880" y="1935000"/>
            <a:ext cx="792000" cy="574920"/>
          </a:xfrm>
          <a:custGeom>
            <a:avLst/>
            <a:gdLst/>
            <a:ahLst/>
            <a:rect l="l" t="t" r="r" b="b"/>
            <a:pathLst>
              <a:path w="499" h="362">
                <a:moveTo>
                  <a:pt x="0" y="0"/>
                </a:moveTo>
                <a:lnTo>
                  <a:pt x="499" y="0"/>
                </a:lnTo>
                <a:lnTo>
                  <a:pt x="499" y="3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7165800" y="1938240"/>
            <a:ext cx="768600" cy="574920"/>
          </a:xfrm>
          <a:custGeom>
            <a:avLst/>
            <a:gdLst/>
            <a:ahLst/>
            <a:rect l="l" t="t" r="r" b="b"/>
            <a:pathLst>
              <a:path w="484" h="362">
                <a:moveTo>
                  <a:pt x="484" y="0"/>
                </a:moveTo>
                <a:lnTo>
                  <a:pt x="0" y="0"/>
                </a:lnTo>
                <a:lnTo>
                  <a:pt x="0" y="3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rot="2700000">
            <a:off x="5736600" y="1756440"/>
            <a:ext cx="144360" cy="5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rot="18900000">
            <a:off x="7273800" y="1769760"/>
            <a:ext cx="144720" cy="5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 flipH="1">
            <a:off x="7161120" y="1728720"/>
            <a:ext cx="21600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776920" y="1719360"/>
            <a:ext cx="216000" cy="215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 rot="5400000">
            <a:off x="6155640" y="1896840"/>
            <a:ext cx="21600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 flipH="1">
            <a:off x="6232680" y="182556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 flipH="1">
            <a:off x="6016680" y="1935000"/>
            <a:ext cx="21744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 rot="5086200">
            <a:off x="5993280" y="189288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 rot="5086200">
            <a:off x="6194880" y="189756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 rot="5400000">
            <a:off x="6777000" y="1897200"/>
            <a:ext cx="216000" cy="72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 flipH="1">
            <a:off x="6913080" y="1825560"/>
            <a:ext cx="180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 flipH="1">
            <a:off x="6899400" y="1943280"/>
            <a:ext cx="21744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 rot="5086200">
            <a:off x="6876360" y="1900800"/>
            <a:ext cx="71280" cy="7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 rot="5086200">
            <a:off x="7077600" y="1905840"/>
            <a:ext cx="71640" cy="7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5924520" y="1646280"/>
            <a:ext cx="73080" cy="288720"/>
          </a:xfrm>
          <a:prstGeom prst="line">
            <a:avLst/>
          </a:prstGeom>
          <a:ln w="64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 flipH="1">
            <a:off x="7159320" y="1666800"/>
            <a:ext cx="36360" cy="255600"/>
          </a:xfrm>
          <a:prstGeom prst="line">
            <a:avLst/>
          </a:prstGeom>
          <a:ln w="64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5810400" y="1676520"/>
            <a:ext cx="114120" cy="75960"/>
          </a:xfrm>
          <a:custGeom>
            <a:avLst/>
            <a:gdLst/>
            <a:ahLst/>
            <a:rect l="l" t="t" r="r" b="b"/>
            <a:pathLst>
              <a:path w="72" h="48">
                <a:moveTo>
                  <a:pt x="0" y="48"/>
                </a:moveTo>
                <a:cubicBezTo>
                  <a:pt x="4" y="43"/>
                  <a:pt x="15" y="26"/>
                  <a:pt x="27" y="18"/>
                </a:cubicBezTo>
                <a:cubicBezTo>
                  <a:pt x="39" y="10"/>
                  <a:pt x="63" y="4"/>
                  <a:pt x="72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 flipH="1">
            <a:off x="7192800" y="1695600"/>
            <a:ext cx="136800" cy="71280"/>
          </a:xfrm>
          <a:custGeom>
            <a:avLst/>
            <a:gdLst/>
            <a:ahLst/>
            <a:rect l="l" t="t" r="r" b="b"/>
            <a:pathLst>
              <a:path w="72" h="48">
                <a:moveTo>
                  <a:pt x="0" y="48"/>
                </a:moveTo>
                <a:cubicBezTo>
                  <a:pt x="4" y="43"/>
                  <a:pt x="15" y="26"/>
                  <a:pt x="27" y="18"/>
                </a:cubicBezTo>
                <a:cubicBezTo>
                  <a:pt x="39" y="10"/>
                  <a:pt x="63" y="4"/>
                  <a:pt x="72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6184800" y="1908000"/>
            <a:ext cx="0" cy="287640"/>
          </a:xfrm>
          <a:prstGeom prst="line">
            <a:avLst/>
          </a:prstGeom>
          <a:ln w="64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7050240" y="1920960"/>
            <a:ext cx="0" cy="287280"/>
          </a:xfrm>
          <a:prstGeom prst="line">
            <a:avLst/>
          </a:prstGeom>
          <a:ln w="64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6012000" y="2166840"/>
            <a:ext cx="17928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 flipH="1">
            <a:off x="7047000" y="2166840"/>
            <a:ext cx="10800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5951520" y="211788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5537160" y="1384200"/>
            <a:ext cx="43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7137360" y="1382760"/>
            <a:ext cx="574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6705720" y="2114640"/>
            <a:ext cx="574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5003640" y="396720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7894800" y="3963960"/>
            <a:ext cx="276120" cy="3240"/>
          </a:xfrm>
          <a:custGeom>
            <a:avLst/>
            <a:gdLst/>
            <a:ahLst/>
            <a:rect l="l" t="t" r="r" b="b"/>
            <a:pathLst>
              <a:path w="174" h="2">
                <a:moveTo>
                  <a:pt x="0" y="0"/>
                </a:moveTo>
                <a:lnTo>
                  <a:pt x="174" y="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5983200" y="45068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7162920" y="45147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6566040" y="3498840"/>
            <a:ext cx="0" cy="13129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6513480" y="3433680"/>
            <a:ext cx="108000" cy="25236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6383160" y="33717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5194440" y="3965400"/>
            <a:ext cx="792000" cy="574920"/>
          </a:xfrm>
          <a:custGeom>
            <a:avLst/>
            <a:gdLst/>
            <a:ahLst/>
            <a:rect l="l" t="t" r="r" b="b"/>
            <a:pathLst>
              <a:path w="499" h="362">
                <a:moveTo>
                  <a:pt x="0" y="0"/>
                </a:moveTo>
                <a:lnTo>
                  <a:pt x="499" y="0"/>
                </a:lnTo>
                <a:lnTo>
                  <a:pt x="499" y="3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7164360" y="3968640"/>
            <a:ext cx="768240" cy="574920"/>
          </a:xfrm>
          <a:custGeom>
            <a:avLst/>
            <a:gdLst/>
            <a:ahLst/>
            <a:rect l="l" t="t" r="r" b="b"/>
            <a:pathLst>
              <a:path w="484" h="362">
                <a:moveTo>
                  <a:pt x="484" y="0"/>
                </a:moveTo>
                <a:lnTo>
                  <a:pt x="0" y="0"/>
                </a:lnTo>
                <a:lnTo>
                  <a:pt x="0" y="3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 rot="2700000">
            <a:off x="5735160" y="3786840"/>
            <a:ext cx="144360" cy="5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 rot="18900000">
            <a:off x="7272360" y="3800160"/>
            <a:ext cx="144360" cy="54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 flipH="1">
            <a:off x="7159680" y="3759120"/>
            <a:ext cx="21600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5775480" y="3749760"/>
            <a:ext cx="215640" cy="215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 rot="5400000">
            <a:off x="6154200" y="3927240"/>
            <a:ext cx="21600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 flipH="1">
            <a:off x="6230520" y="3855960"/>
            <a:ext cx="180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 flipH="1">
            <a:off x="6014520" y="3965400"/>
            <a:ext cx="2178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 rot="5086200">
            <a:off x="5991480" y="392328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 rot="5086200">
            <a:off x="6193080" y="392796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 rot="5400000">
            <a:off x="6774840" y="3927240"/>
            <a:ext cx="21600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 flipH="1">
            <a:off x="6912000" y="385596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 flipH="1">
            <a:off x="6897600" y="3973680"/>
            <a:ext cx="21744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 rot="5086200">
            <a:off x="6874200" y="393120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 rot="5086200">
            <a:off x="7075800" y="393588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5867280" y="3516480"/>
            <a:ext cx="115920" cy="441000"/>
          </a:xfrm>
          <a:prstGeom prst="line">
            <a:avLst/>
          </a:prstGeom>
          <a:ln w="64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 flipH="1">
            <a:off x="7157880" y="3378240"/>
            <a:ext cx="144720" cy="576360"/>
          </a:xfrm>
          <a:prstGeom prst="line">
            <a:avLst/>
          </a:prstGeom>
          <a:ln w="64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5808600" y="3706920"/>
            <a:ext cx="114480" cy="75960"/>
          </a:xfrm>
          <a:custGeom>
            <a:avLst/>
            <a:gdLst/>
            <a:ahLst/>
            <a:rect l="l" t="t" r="r" b="b"/>
            <a:pathLst>
              <a:path w="72" h="48">
                <a:moveTo>
                  <a:pt x="0" y="48"/>
                </a:moveTo>
                <a:cubicBezTo>
                  <a:pt x="4" y="43"/>
                  <a:pt x="15" y="26"/>
                  <a:pt x="27" y="18"/>
                </a:cubicBezTo>
                <a:cubicBezTo>
                  <a:pt x="39" y="10"/>
                  <a:pt x="63" y="4"/>
                  <a:pt x="72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 flipH="1">
            <a:off x="7224840" y="3726000"/>
            <a:ext cx="118800" cy="71280"/>
          </a:xfrm>
          <a:custGeom>
            <a:avLst/>
            <a:gdLst/>
            <a:ahLst/>
            <a:rect l="l" t="t" r="r" b="b"/>
            <a:pathLst>
              <a:path w="72" h="48">
                <a:moveTo>
                  <a:pt x="0" y="48"/>
                </a:moveTo>
                <a:cubicBezTo>
                  <a:pt x="4" y="43"/>
                  <a:pt x="15" y="26"/>
                  <a:pt x="27" y="18"/>
                </a:cubicBezTo>
                <a:cubicBezTo>
                  <a:pt x="39" y="10"/>
                  <a:pt x="63" y="4"/>
                  <a:pt x="72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6146640" y="3938760"/>
            <a:ext cx="0" cy="287280"/>
          </a:xfrm>
          <a:prstGeom prst="line">
            <a:avLst/>
          </a:prstGeom>
          <a:ln w="64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7010280" y="3952800"/>
            <a:ext cx="0" cy="432000"/>
          </a:xfrm>
          <a:prstGeom prst="line">
            <a:avLst/>
          </a:prstGeom>
          <a:ln w="64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6000840" y="4197240"/>
            <a:ext cx="14436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 flipH="1">
            <a:off x="7010280" y="4197240"/>
            <a:ext cx="14472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 flipH="1">
            <a:off x="7399440" y="3435480"/>
            <a:ext cx="79200" cy="108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 flipH="1">
            <a:off x="5992560" y="3516480"/>
            <a:ext cx="28440" cy="441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5891040" y="3554280"/>
            <a:ext cx="125640" cy="12960"/>
          </a:xfrm>
          <a:custGeom>
            <a:avLst/>
            <a:gdLst/>
            <a:ahLst/>
            <a:rect l="l" t="t" r="r" b="b"/>
            <a:pathLst>
              <a:path w="79" h="8">
                <a:moveTo>
                  <a:pt x="0" y="8"/>
                </a:moveTo>
                <a:cubicBezTo>
                  <a:pt x="5" y="7"/>
                  <a:pt x="20" y="2"/>
                  <a:pt x="33" y="1"/>
                </a:cubicBezTo>
                <a:cubicBezTo>
                  <a:pt x="46" y="0"/>
                  <a:pt x="70" y="1"/>
                  <a:pt x="79" y="1"/>
                </a:cubicBezTo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 rot="2595600">
            <a:off x="7303680" y="3423960"/>
            <a:ext cx="136440" cy="50760"/>
          </a:xfrm>
          <a:custGeom>
            <a:avLst/>
            <a:gdLst/>
            <a:ahLst/>
            <a:rect l="l" t="t" r="r" b="b"/>
            <a:pathLst>
              <a:path w="72" h="48">
                <a:moveTo>
                  <a:pt x="0" y="48"/>
                </a:moveTo>
                <a:cubicBezTo>
                  <a:pt x="4" y="43"/>
                  <a:pt x="15" y="26"/>
                  <a:pt x="27" y="18"/>
                </a:cubicBezTo>
                <a:cubicBezTo>
                  <a:pt x="39" y="10"/>
                  <a:pt x="63" y="4"/>
                  <a:pt x="72" y="0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6151680" y="4197240"/>
            <a:ext cx="90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6242040" y="4092480"/>
            <a:ext cx="0" cy="14292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7016760" y="4340160"/>
            <a:ext cx="90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7107120" y="4235400"/>
            <a:ext cx="0" cy="14292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5979960" y="4216320"/>
                <a:ext cx="2383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6786720" y="4071960"/>
                <a:ext cx="2379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7" name=""/>
              <p:cNvSpPr txBox="1"/>
              <p:nvPr/>
            </p:nvSpPr>
            <p:spPr>
              <a:xfrm>
                <a:off x="5614920" y="3456000"/>
                <a:ext cx="27144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7299360" y="3529080"/>
                <a:ext cx="27144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5883120" y="3255840"/>
                <a:ext cx="40644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7315200" y="3156120"/>
                <a:ext cx="40644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6789600" y="4302000"/>
                <a:ext cx="3733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2" name=""/>
              <p:cNvSpPr txBox="1"/>
              <p:nvPr/>
            </p:nvSpPr>
            <p:spPr>
              <a:xfrm>
                <a:off x="6208560" y="4116240"/>
                <a:ext cx="3733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712800" y="4510080"/>
                <a:ext cx="3476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{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  <m: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4" name=""/>
              <p:cNvSpPr txBox="1"/>
              <p:nvPr/>
            </p:nvSpPr>
            <p:spPr>
              <a:xfrm>
                <a:off x="4376880" y="5313240"/>
                <a:ext cx="45162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i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5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5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5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5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5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5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8" dur="indefinite" restart="never" nodeType="tmRoot">
          <p:childTnLst>
            <p:seq>
              <p:cTn id="5999" dur="indefinite" nodeType="mainSeq">
                <p:childTnLst>
                  <p:par>
                    <p:cTn id="6000" fill="hold">
                      <p:stCondLst>
                        <p:cond delay="0"/>
                      </p:stCondLst>
                      <p:childTnLst>
                        <p:par>
                          <p:cTn id="6001" fill="hold">
                            <p:stCondLst>
                              <p:cond delay="0"/>
                            </p:stCondLst>
                            <p:childTnLst>
                              <p:par>
                                <p:cTn id="60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4" dur="80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5" dur="80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6" dur="80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7" fill="hold">
                      <p:stCondLst>
                        <p:cond delay="indefinite"/>
                      </p:stCondLst>
                      <p:childTnLst>
                        <p:par>
                          <p:cTn id="6008" fill="hold">
                            <p:stCondLst>
                              <p:cond delay="0"/>
                            </p:stCondLst>
                            <p:childTnLst>
                              <p:par>
                                <p:cTn id="60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1" dur="10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2" dur="10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3" dur="10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6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7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8" dur="1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1" dur="1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2" dur="1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3" dur="1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6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7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8" dur="1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1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2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3" dur="10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6" dur="10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7" dur="10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8" dur="10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1" dur="10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2" dur="10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3" dur="10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6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7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8" dur="1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1" dur="1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2" dur="1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3" dur="10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4" fill="hold">
                      <p:stCondLst>
                        <p:cond delay="indefinite"/>
                      </p:stCondLst>
                      <p:childTnLst>
                        <p:par>
                          <p:cTn id="6055" fill="hold">
                            <p:stCondLst>
                              <p:cond delay="0"/>
                            </p:stCondLst>
                            <p:childTnLst>
                              <p:par>
                                <p:cTn id="60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8" dur="80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9" dur="80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0" dur="80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1" fill="hold">
                      <p:stCondLst>
                        <p:cond delay="indefinite"/>
                      </p:stCondLst>
                      <p:childTnLst>
                        <p:par>
                          <p:cTn id="6062" fill="hold">
                            <p:stCondLst>
                              <p:cond delay="0"/>
                            </p:stCondLst>
                            <p:childTnLst>
                              <p:par>
                                <p:cTn id="60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5" dur="1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6" dur="10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7" dur="10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0" dur="1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1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2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5" dur="1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6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7" dur="1000" fill="hold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0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1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2" dur="1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5" dur="1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6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7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0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1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2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5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6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7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0" dur="10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1" dur="10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2" dur="10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5" dur="10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6" dur="10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7" dur="10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0" dur="10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1" dur="10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2" dur="10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5" dur="10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6" dur="10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7" dur="10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0" dur="1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1" dur="10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2" dur="10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5" dur="10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6" dur="10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7" dur="10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0" dur="1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1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2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5" dur="10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6" dur="10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7" dur="10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0" dur="1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1" dur="10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2" dur="10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5" dur="1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6" dur="10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7" dur="10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0" dur="10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1" dur="100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2" dur="100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5" dur="10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6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7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0" dur="10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1" dur="10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2" dur="10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5" dur="1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6" dur="10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7" dur="10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0" dur="10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1" dur="10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2" dur="10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5" dur="10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6" dur="10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7" dur="10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0" dur="10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1" dur="10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2" dur="10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5" dur="10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6" dur="10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7" dur="10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0" dur="10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1" dur="1000" fill="hold"/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2" dur="1000" fill="hold"/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5" dur="10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6" dur="10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7" dur="10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0" dur="10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1" dur="10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2" dur="10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5" dur="10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6" dur="10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7" dur="10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0" dur="10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1" dur="10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2" dur="10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5" dur="10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6" dur="10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7" dur="10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0" dur="1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1" dur="10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2" dur="10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5" dur="10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6" dur="10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7" dur="10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0" dur="10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1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2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5" dur="1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6" dur="10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7" dur="10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8" fill="hold">
                      <p:stCondLst>
                        <p:cond delay="indefinite"/>
                      </p:stCondLst>
                      <p:childTnLst>
                        <p:par>
                          <p:cTn id="6239" fill="hold">
                            <p:stCondLst>
                              <p:cond delay="0"/>
                            </p:stCondLst>
                            <p:childTnLst>
                              <p:par>
                                <p:cTn id="6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2" dur="80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3" dur="80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4" dur="80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5" fill="hold">
                      <p:stCondLst>
                        <p:cond delay="indefinite"/>
                      </p:stCondLst>
                      <p:childTnLst>
                        <p:par>
                          <p:cTn id="6246" fill="hold">
                            <p:stCondLst>
                              <p:cond delay="0"/>
                            </p:stCondLst>
                            <p:childTnLst>
                              <p:par>
                                <p:cTn id="6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9" dur="10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0" dur="10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1" dur="10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4" dur="10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5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6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9" dur="1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0" dur="10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1" dur="10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4" dur="10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5" dur="10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6" dur="10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9" dur="10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0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1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4" dur="1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5" dur="1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6" dur="1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9" dur="10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0" dur="1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1" dur="1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4" dur="10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5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6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9" dur="10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0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1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4" dur="10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5" dur="10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6" dur="10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9" dur="10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0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1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4" dur="10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5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6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9" dur="1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0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1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4" dur="10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5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6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9" dur="10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0" dur="1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1" dur="1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4" dur="10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5" dur="1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6" dur="1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9" dur="10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0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1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4" dur="1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5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6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9" dur="10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0" dur="10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1" dur="10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4" dur="10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5" dur="10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6" dur="10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9" dur="10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0" dur="1000" fill="hold"/>
                                        <p:tgtEl>
                                          <p:spTgt spid="1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1" dur="1000" fill="hold"/>
                                        <p:tgtEl>
                                          <p:spTgt spid="1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4" dur="10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5" dur="10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6" dur="10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9" dur="1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0" dur="1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1" dur="1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4" dur="10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5" dur="10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6" dur="10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9" dur="10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0" dur="10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1" dur="10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4" dur="10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5" dur="10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6" dur="10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9" dur="1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0" dur="10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1" dur="10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4" dur="10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5" dur="10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6" dur="10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9" dur="10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0" dur="10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1" dur="10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4" dur="10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5" dur="10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6" dur="10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9" dur="10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0" dur="10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1" dur="10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4" dur="10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5" dur="10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6" dur="10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9" dur="10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0" dur="10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1" dur="10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4" dur="10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5" dur="10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6" dur="10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9" dur="10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0" dur="10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1" dur="10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4" dur="10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5" dur="1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6" dur="1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9" dur="10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0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1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4" dur="10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5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6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9" dur="10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0" dur="1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1" dur="1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4" dur="10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5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6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9" dur="10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0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1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4" dur="10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5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6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9" dur="10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0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1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4" dur="1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5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6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9" dur="10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0" dur="10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1" dur="10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4" dur="10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5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6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9" dur="10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0" dur="10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1" dur="10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2" fill="hold">
                      <p:stCondLst>
                        <p:cond delay="indefinite"/>
                      </p:stCondLst>
                      <p:childTnLst>
                        <p:par>
                          <p:cTn id="6483" fill="hold">
                            <p:stCondLst>
                              <p:cond delay="0"/>
                            </p:stCondLst>
                            <p:childTnLst>
                              <p:par>
                                <p:cTn id="6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6" dur="1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7" dur="1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8" dur="10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1" dur="10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2" dur="10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3" dur="10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4" fill="hold">
                      <p:stCondLst>
                        <p:cond delay="indefinite"/>
                      </p:stCondLst>
                      <p:childTnLst>
                        <p:par>
                          <p:cTn id="6495" fill="hold">
                            <p:stCondLst>
                              <p:cond delay="0"/>
                            </p:stCondLst>
                            <p:childTnLst>
                              <p:par>
                                <p:cTn id="64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8" dur="10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9" dur="1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0" dur="1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3" dur="10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4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5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6" fill="hold">
                      <p:stCondLst>
                        <p:cond delay="indefinite"/>
                      </p:stCondLst>
                      <p:childTnLst>
                        <p:par>
                          <p:cTn id="6507" fill="hold">
                            <p:stCondLst>
                              <p:cond delay="0"/>
                            </p:stCondLst>
                            <p:childTnLst>
                              <p:par>
                                <p:cTn id="6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0" dur="1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1" dur="1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2" dur="10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3" fill="hold">
                      <p:stCondLst>
                        <p:cond delay="indefinite"/>
                      </p:stCondLst>
                      <p:childTnLst>
                        <p:par>
                          <p:cTn id="6514" fill="hold">
                            <p:stCondLst>
                              <p:cond delay="0"/>
                            </p:stCondLst>
                            <p:childTnLst>
                              <p:par>
                                <p:cTn id="6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7" dur="10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8" dur="10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9" dur="10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0" fill="hold">
                      <p:stCondLst>
                        <p:cond delay="indefinite"/>
                      </p:stCondLst>
                      <p:childTnLst>
                        <p:par>
                          <p:cTn id="6521" fill="hold">
                            <p:stCondLst>
                              <p:cond delay="0"/>
                            </p:stCondLst>
                            <p:childTnLst>
                              <p:par>
                                <p:cTn id="6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24" dur="80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25" dur="80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6" dur="80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7" fill="hold">
                      <p:stCondLst>
                        <p:cond delay="indefinite"/>
                      </p:stCondLst>
                      <p:childTnLst>
                        <p:par>
                          <p:cTn id="6528" fill="hold">
                            <p:stCondLst>
                              <p:cond delay="0"/>
                            </p:stCondLst>
                            <p:childTnLst>
                              <p:par>
                                <p:cTn id="6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1" dur="10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2" fill="hold">
                      <p:stCondLst>
                        <p:cond delay="indefinite"/>
                      </p:stCondLst>
                      <p:childTnLst>
                        <p:par>
                          <p:cTn id="6533" fill="hold">
                            <p:stCondLst>
                              <p:cond delay="0"/>
                            </p:stCondLst>
                            <p:childTnLst>
                              <p:par>
                                <p:cTn id="65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6" dur="1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7" dur="1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8" dur="10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1" dur="10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2" dur="10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3" dur="10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4" fill="hold">
                      <p:stCondLst>
                        <p:cond delay="indefinite"/>
                      </p:stCondLst>
                      <p:childTnLst>
                        <p:par>
                          <p:cTn id="6545" fill="hold">
                            <p:stCondLst>
                              <p:cond delay="0"/>
                            </p:stCondLst>
                            <p:childTnLst>
                              <p:par>
                                <p:cTn id="6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8" dur="1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9" dur="1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0" dur="10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3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4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5" dur="1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4390920" y="1190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Канонические уравне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7" name=""/>
              <p:cNvSpPr txBox="1"/>
              <p:nvPr/>
            </p:nvSpPr>
            <p:spPr>
              <a:xfrm>
                <a:off x="7010280" y="1168560"/>
                <a:ext cx="15638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8" name=""/>
          <p:cNvSpPr/>
          <p:nvPr/>
        </p:nvSpPr>
        <p:spPr>
          <a:xfrm>
            <a:off x="5111640" y="1558800"/>
            <a:ext cx="15112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В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основ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неизвестны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9" name=""/>
              <p:cNvSpPr txBox="1"/>
              <p:nvPr/>
            </p:nvSpPr>
            <p:spPr>
              <a:xfrm>
                <a:off x="6541920" y="1552680"/>
                <a:ext cx="117000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m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0" name=""/>
          <p:cNvSpPr/>
          <p:nvPr/>
        </p:nvSpPr>
        <p:spPr>
          <a:xfrm flipH="1" rot="10838400">
            <a:off x="6044760" y="2261520"/>
            <a:ext cx="1008000" cy="206280"/>
          </a:xfrm>
          <a:prstGeom prst="triangle">
            <a:avLst>
              <a:gd name="adj" fmla="val 50000"/>
            </a:avLst>
          </a:prstGeom>
          <a:solidFill>
            <a:srgbClr val="8fcc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1" name=""/>
              <p:cNvSpPr txBox="1"/>
              <p:nvPr/>
            </p:nvSpPr>
            <p:spPr>
              <a:xfrm>
                <a:off x="5049720" y="2532240"/>
                <a:ext cx="17766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s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,as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s,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s,a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2" name=""/>
              <p:cNvSpPr txBox="1"/>
              <p:nvPr/>
            </p:nvSpPr>
            <p:spPr>
              <a:xfrm>
                <a:off x="7091280" y="2517840"/>
                <a:ext cx="14400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Σ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3" name=""/>
              <p:cNvSpPr txBox="1"/>
              <p:nvPr/>
            </p:nvSpPr>
            <p:spPr>
              <a:xfrm>
                <a:off x="5619600" y="3367080"/>
                <a:ext cx="14493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,s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4" name=""/>
          <p:cNvSpPr/>
          <p:nvPr/>
        </p:nvSpPr>
        <p:spPr>
          <a:xfrm rot="13172400">
            <a:off x="5311800" y="3677760"/>
            <a:ext cx="287280" cy="478080"/>
          </a:xfrm>
          <a:prstGeom prst="upArrow">
            <a:avLst>
              <a:gd name="adj1" fmla="val 37157"/>
              <a:gd name="adj2" fmla="val 78262"/>
            </a:avLst>
          </a:prstGeom>
          <a:solidFill>
            <a:srgbClr val="6699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 rot="3861600">
            <a:off x="5959440" y="3949200"/>
            <a:ext cx="208080" cy="478080"/>
          </a:xfrm>
          <a:prstGeom prst="upArrow">
            <a:avLst>
              <a:gd name="adj1" fmla="val 49870"/>
              <a:gd name="adj2" fmla="val 96349"/>
            </a:avLst>
          </a:prstGeom>
          <a:solidFill>
            <a:srgbClr val="6699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 rot="6568200">
            <a:off x="5961960" y="4278240"/>
            <a:ext cx="208080" cy="477720"/>
          </a:xfrm>
          <a:prstGeom prst="upArrow">
            <a:avLst>
              <a:gd name="adj1" fmla="val 49870"/>
              <a:gd name="adj2" fmla="val 96276"/>
            </a:avLst>
          </a:prstGeom>
          <a:solidFill>
            <a:srgbClr val="6699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4124160" y="4149720"/>
            <a:ext cx="1690920" cy="431640"/>
          </a:xfrm>
          <a:prstGeom prst="rect">
            <a:avLst/>
          </a:prstGeom>
          <a:solidFill>
            <a:srgbClr val="d2e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8" name=""/>
              <p:cNvSpPr txBox="1"/>
              <p:nvPr/>
            </p:nvSpPr>
            <p:spPr>
              <a:xfrm>
                <a:off x="4205160" y="4179960"/>
                <a:ext cx="1563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9" name=""/>
          <p:cNvSpPr/>
          <p:nvPr/>
        </p:nvSpPr>
        <p:spPr>
          <a:xfrm>
            <a:off x="6292800" y="3868560"/>
            <a:ext cx="2495520" cy="459000"/>
          </a:xfrm>
          <a:prstGeom prst="rect">
            <a:avLst/>
          </a:prstGeom>
          <a:solidFill>
            <a:srgbClr val="f1a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6294600" y="4371840"/>
            <a:ext cx="2493720" cy="45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6637320" y="3895560"/>
                <a:ext cx="184932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sΣ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2" name=""/>
              <p:cNvSpPr txBox="1"/>
              <p:nvPr/>
            </p:nvSpPr>
            <p:spPr>
              <a:xfrm>
                <a:off x="6388200" y="4400640"/>
                <a:ext cx="2324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,as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i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,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3" name="">
            <a:hlinkClick r:id="" action="ppaction://hlinkshowjump?jump=nextslide"/>
          </p:cNvPr>
          <p:cNvSpPr/>
          <p:nvPr/>
        </p:nvSpPr>
        <p:spPr>
          <a:xfrm>
            <a:off x="212760" y="260280"/>
            <a:ext cx="871380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 Black"/>
              </a:rPr>
              <a:t>ИСПОЛЬЗОВАНИЕ ГРУППОВЫХ ОСНОВНЫХ НЕИЗВЕС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 Black"/>
              </a:rPr>
              <a:t>МЕТОДА ПЕРЕМЕЩЕНИЙ В РАСЧЁТАХ СИММЕТРИЧНЫХ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311040" y="890640"/>
            <a:ext cx="4189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90033"/>
                </a:solidFill>
                <a:latin typeface="Arial Narrow"/>
              </a:rPr>
              <a:t>Новые (групповые) основные неизвестные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824040" y="202392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3774960" y="2017800"/>
            <a:ext cx="144720" cy="1440"/>
          </a:xfrm>
          <a:custGeom>
            <a:avLst/>
            <a:gdLst/>
            <a:ahLst/>
            <a:rect l="l" t="t" r="r" b="b"/>
            <a:pathLst>
              <a:path w="174" h="2">
                <a:moveTo>
                  <a:pt x="0" y="0"/>
                </a:moveTo>
                <a:lnTo>
                  <a:pt x="174" y="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1793880" y="25639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2973240" y="25718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2376360" y="1555920"/>
            <a:ext cx="0" cy="12049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2324160" y="1490760"/>
            <a:ext cx="108000" cy="25236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2193840" y="14288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004760" y="2022480"/>
            <a:ext cx="792360" cy="574560"/>
          </a:xfrm>
          <a:custGeom>
            <a:avLst/>
            <a:gdLst/>
            <a:ahLst/>
            <a:rect l="l" t="t" r="r" b="b"/>
            <a:pathLst>
              <a:path w="499" h="362">
                <a:moveTo>
                  <a:pt x="0" y="0"/>
                </a:moveTo>
                <a:lnTo>
                  <a:pt x="499" y="0"/>
                </a:lnTo>
                <a:lnTo>
                  <a:pt x="499" y="3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2975040" y="2025720"/>
            <a:ext cx="768240" cy="574560"/>
          </a:xfrm>
          <a:custGeom>
            <a:avLst/>
            <a:gdLst/>
            <a:ahLst/>
            <a:rect l="l" t="t" r="r" b="b"/>
            <a:pathLst>
              <a:path w="484" h="362">
                <a:moveTo>
                  <a:pt x="484" y="0"/>
                </a:moveTo>
                <a:lnTo>
                  <a:pt x="0" y="0"/>
                </a:lnTo>
                <a:lnTo>
                  <a:pt x="0" y="3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 rot="2700000">
            <a:off x="1544760" y="1844280"/>
            <a:ext cx="144720" cy="5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 rot="18900000">
            <a:off x="3083040" y="1856880"/>
            <a:ext cx="144360" cy="5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 flipH="1">
            <a:off x="2970000" y="1816200"/>
            <a:ext cx="215640" cy="215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1585800" y="1806480"/>
            <a:ext cx="21600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 rot="5400000">
            <a:off x="1965240" y="1984320"/>
            <a:ext cx="21564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 flipH="1">
            <a:off x="2041560" y="191304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flipH="1">
            <a:off x="1825560" y="2022480"/>
            <a:ext cx="21744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rot="5086200">
            <a:off x="1802160" y="198000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 rot="5086200">
            <a:off x="2003760" y="198504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 rot="5400000">
            <a:off x="2585880" y="1984320"/>
            <a:ext cx="21564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 flipH="1">
            <a:off x="2722680" y="191304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 flipH="1">
            <a:off x="2708280" y="2030400"/>
            <a:ext cx="21744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rot="5086200">
            <a:off x="2684880" y="198792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 rot="5086200">
            <a:off x="2886480" y="199296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1677960" y="1573200"/>
            <a:ext cx="115920" cy="441360"/>
          </a:xfrm>
          <a:prstGeom prst="line">
            <a:avLst/>
          </a:prstGeom>
          <a:ln w="64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 flipH="1">
            <a:off x="2968200" y="1434960"/>
            <a:ext cx="144360" cy="576360"/>
          </a:xfrm>
          <a:prstGeom prst="line">
            <a:avLst/>
          </a:prstGeom>
          <a:ln w="64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1619280" y="1763640"/>
            <a:ext cx="114120" cy="76320"/>
          </a:xfrm>
          <a:custGeom>
            <a:avLst/>
            <a:gdLst/>
            <a:ahLst/>
            <a:rect l="l" t="t" r="r" b="b"/>
            <a:pathLst>
              <a:path w="72" h="48">
                <a:moveTo>
                  <a:pt x="0" y="48"/>
                </a:moveTo>
                <a:cubicBezTo>
                  <a:pt x="4" y="43"/>
                  <a:pt x="15" y="26"/>
                  <a:pt x="27" y="18"/>
                </a:cubicBezTo>
                <a:cubicBezTo>
                  <a:pt x="39" y="10"/>
                  <a:pt x="63" y="4"/>
                  <a:pt x="72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 flipH="1">
            <a:off x="3034440" y="1782720"/>
            <a:ext cx="119160" cy="71640"/>
          </a:xfrm>
          <a:custGeom>
            <a:avLst/>
            <a:gdLst/>
            <a:ahLst/>
            <a:rect l="l" t="t" r="r" b="b"/>
            <a:pathLst>
              <a:path w="72" h="48">
                <a:moveTo>
                  <a:pt x="0" y="48"/>
                </a:moveTo>
                <a:cubicBezTo>
                  <a:pt x="4" y="43"/>
                  <a:pt x="15" y="26"/>
                  <a:pt x="27" y="18"/>
                </a:cubicBezTo>
                <a:cubicBezTo>
                  <a:pt x="39" y="10"/>
                  <a:pt x="63" y="4"/>
                  <a:pt x="72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1957320" y="1995480"/>
            <a:ext cx="0" cy="287280"/>
          </a:xfrm>
          <a:prstGeom prst="line">
            <a:avLst/>
          </a:prstGeom>
          <a:ln w="64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2820960" y="2009880"/>
            <a:ext cx="0" cy="431640"/>
          </a:xfrm>
          <a:prstGeom prst="line">
            <a:avLst/>
          </a:prstGeom>
          <a:ln w="64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1811160" y="2254320"/>
            <a:ext cx="14472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 flipH="1">
            <a:off x="2820600" y="2254320"/>
            <a:ext cx="14436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 flipH="1">
            <a:off x="3209400" y="1492200"/>
            <a:ext cx="79560" cy="108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 flipH="1">
            <a:off x="1803240" y="1573200"/>
            <a:ext cx="28800" cy="44136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701720" y="1611360"/>
            <a:ext cx="125640" cy="12600"/>
          </a:xfrm>
          <a:custGeom>
            <a:avLst/>
            <a:gdLst/>
            <a:ahLst/>
            <a:rect l="l" t="t" r="r" b="b"/>
            <a:pathLst>
              <a:path w="79" h="8">
                <a:moveTo>
                  <a:pt x="0" y="8"/>
                </a:moveTo>
                <a:cubicBezTo>
                  <a:pt x="5" y="7"/>
                  <a:pt x="20" y="2"/>
                  <a:pt x="33" y="1"/>
                </a:cubicBezTo>
                <a:cubicBezTo>
                  <a:pt x="46" y="0"/>
                  <a:pt x="70" y="1"/>
                  <a:pt x="79" y="1"/>
                </a:cubicBezTo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 rot="2595600">
            <a:off x="3114360" y="1480680"/>
            <a:ext cx="136440" cy="50760"/>
          </a:xfrm>
          <a:custGeom>
            <a:avLst/>
            <a:gdLst/>
            <a:ahLst/>
            <a:rect l="l" t="t" r="r" b="b"/>
            <a:pathLst>
              <a:path w="72" h="48">
                <a:moveTo>
                  <a:pt x="0" y="48"/>
                </a:moveTo>
                <a:cubicBezTo>
                  <a:pt x="4" y="43"/>
                  <a:pt x="15" y="26"/>
                  <a:pt x="27" y="18"/>
                </a:cubicBezTo>
                <a:cubicBezTo>
                  <a:pt x="39" y="10"/>
                  <a:pt x="63" y="4"/>
                  <a:pt x="72" y="0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962000" y="2254320"/>
            <a:ext cx="907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2052720" y="2149560"/>
            <a:ext cx="0" cy="14292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827440" y="2397240"/>
            <a:ext cx="90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2917800" y="2292480"/>
            <a:ext cx="0" cy="14292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1790640" y="2273400"/>
                <a:ext cx="2383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2568600" y="2128680"/>
                <a:ext cx="2379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1415880" y="1514520"/>
                <a:ext cx="2718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7" name=""/>
              <p:cNvSpPr txBox="1"/>
              <p:nvPr/>
            </p:nvSpPr>
            <p:spPr>
              <a:xfrm>
                <a:off x="3100320" y="1571760"/>
                <a:ext cx="27144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1693800" y="1312920"/>
                <a:ext cx="40644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3157560" y="1241280"/>
                <a:ext cx="40644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2013120" y="2141640"/>
                <a:ext cx="37296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2581200" y="2357280"/>
                <a:ext cx="3729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2" name=""/>
          <p:cNvSpPr/>
          <p:nvPr/>
        </p:nvSpPr>
        <p:spPr>
          <a:xfrm>
            <a:off x="4759200" y="4759200"/>
            <a:ext cx="367200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При симметричном воздейств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нагрузке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4761000" y="5527800"/>
            <a:ext cx="3671640" cy="10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и обратносимметричном (антисимметричном) воздейств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(нагрузке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5862600" y="5146560"/>
                <a:ext cx="9637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  <m:r>
                          <m:rPr>
                            <m:lit/>
                            <m:nor/>
                          </m:rPr>
                          <m:t xml:space="preserve">,Σ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5911920" y="6221520"/>
                <a:ext cx="8301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sΣ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6" name=""/>
          <p:cNvSpPr/>
          <p:nvPr/>
        </p:nvSpPr>
        <p:spPr>
          <a:xfrm rot="5400000">
            <a:off x="6995520" y="5100480"/>
            <a:ext cx="208080" cy="477720"/>
          </a:xfrm>
          <a:prstGeom prst="upArrow">
            <a:avLst>
              <a:gd name="adj1" fmla="val 49870"/>
              <a:gd name="adj2" fmla="val 96276"/>
            </a:avLst>
          </a:prstGeom>
          <a:solidFill>
            <a:srgbClr val="6699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rot="5400000">
            <a:off x="6990840" y="6165720"/>
            <a:ext cx="208080" cy="477720"/>
          </a:xfrm>
          <a:prstGeom prst="upArrow">
            <a:avLst>
              <a:gd name="adj1" fmla="val 49870"/>
              <a:gd name="adj2" fmla="val 96276"/>
            </a:avLst>
          </a:prstGeom>
          <a:solidFill>
            <a:srgbClr val="6699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7451640" y="6199200"/>
                <a:ext cx="10080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7391520" y="5130720"/>
                <a:ext cx="10810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i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0" name=""/>
          <p:cNvSpPr/>
          <p:nvPr/>
        </p:nvSpPr>
        <p:spPr>
          <a:xfrm>
            <a:off x="846000" y="3881520"/>
            <a:ext cx="1447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3780000" y="3878280"/>
            <a:ext cx="144360" cy="1440"/>
          </a:xfrm>
          <a:custGeom>
            <a:avLst/>
            <a:gdLst/>
            <a:ahLst/>
            <a:rect l="l" t="t" r="r" b="b"/>
            <a:pathLst>
              <a:path w="174" h="2">
                <a:moveTo>
                  <a:pt x="0" y="0"/>
                </a:moveTo>
                <a:lnTo>
                  <a:pt x="174" y="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1806480" y="44211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2986200" y="4429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2389320" y="3411360"/>
            <a:ext cx="0" cy="12589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2336760" y="3346560"/>
            <a:ext cx="108000" cy="25236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2206800" y="32846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1017720" y="3879720"/>
            <a:ext cx="792000" cy="574920"/>
          </a:xfrm>
          <a:custGeom>
            <a:avLst/>
            <a:gdLst/>
            <a:ahLst/>
            <a:rect l="l" t="t" r="r" b="b"/>
            <a:pathLst>
              <a:path w="499" h="362">
                <a:moveTo>
                  <a:pt x="0" y="0"/>
                </a:moveTo>
                <a:lnTo>
                  <a:pt x="499" y="0"/>
                </a:lnTo>
                <a:lnTo>
                  <a:pt x="499" y="3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987640" y="3882960"/>
            <a:ext cx="768240" cy="574920"/>
          </a:xfrm>
          <a:custGeom>
            <a:avLst/>
            <a:gdLst/>
            <a:ahLst/>
            <a:rect l="l" t="t" r="r" b="b"/>
            <a:pathLst>
              <a:path w="484" h="362">
                <a:moveTo>
                  <a:pt x="484" y="0"/>
                </a:moveTo>
                <a:lnTo>
                  <a:pt x="0" y="0"/>
                </a:lnTo>
                <a:lnTo>
                  <a:pt x="0" y="3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 rot="2700000">
            <a:off x="1558440" y="3701160"/>
            <a:ext cx="144360" cy="5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 rot="18900000">
            <a:off x="3095640" y="3714480"/>
            <a:ext cx="144360" cy="54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2982960" y="3673440"/>
            <a:ext cx="21600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598760" y="3664080"/>
            <a:ext cx="215640" cy="215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 rot="5400000">
            <a:off x="1977480" y="3841560"/>
            <a:ext cx="21600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 flipH="1">
            <a:off x="2053800" y="3770280"/>
            <a:ext cx="180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1837800" y="3879720"/>
            <a:ext cx="2178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 rot="5086200">
            <a:off x="1814760" y="383760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 rot="5086200">
            <a:off x="2016360" y="384228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 rot="5400000">
            <a:off x="2598120" y="3841560"/>
            <a:ext cx="21600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 flipH="1">
            <a:off x="2735280" y="37702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 flipH="1">
            <a:off x="2720880" y="3887640"/>
            <a:ext cx="21744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rot="5086200">
            <a:off x="2697480" y="384552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 rot="5086200">
            <a:off x="2899080" y="385020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736640" y="3573360"/>
            <a:ext cx="79560" cy="298440"/>
          </a:xfrm>
          <a:prstGeom prst="line">
            <a:avLst/>
          </a:prstGeom>
          <a:ln w="64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 flipH="1">
            <a:off x="2980800" y="3573360"/>
            <a:ext cx="78120" cy="295200"/>
          </a:xfrm>
          <a:prstGeom prst="line">
            <a:avLst/>
          </a:prstGeom>
          <a:ln w="64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631880" y="3621240"/>
            <a:ext cx="114480" cy="75960"/>
          </a:xfrm>
          <a:custGeom>
            <a:avLst/>
            <a:gdLst/>
            <a:ahLst/>
            <a:rect l="l" t="t" r="r" b="b"/>
            <a:pathLst>
              <a:path w="72" h="48">
                <a:moveTo>
                  <a:pt x="0" y="48"/>
                </a:moveTo>
                <a:cubicBezTo>
                  <a:pt x="4" y="43"/>
                  <a:pt x="15" y="26"/>
                  <a:pt x="27" y="18"/>
                </a:cubicBezTo>
                <a:cubicBezTo>
                  <a:pt x="39" y="10"/>
                  <a:pt x="63" y="4"/>
                  <a:pt x="72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 flipH="1">
            <a:off x="3048120" y="3639960"/>
            <a:ext cx="118800" cy="71640"/>
          </a:xfrm>
          <a:custGeom>
            <a:avLst/>
            <a:gdLst/>
            <a:ahLst/>
            <a:rect l="l" t="t" r="r" b="b"/>
            <a:pathLst>
              <a:path w="72" h="48">
                <a:moveTo>
                  <a:pt x="0" y="48"/>
                </a:moveTo>
                <a:cubicBezTo>
                  <a:pt x="4" y="43"/>
                  <a:pt x="15" y="26"/>
                  <a:pt x="27" y="18"/>
                </a:cubicBezTo>
                <a:cubicBezTo>
                  <a:pt x="39" y="10"/>
                  <a:pt x="63" y="4"/>
                  <a:pt x="72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7" name=""/>
              <p:cNvSpPr txBox="1"/>
              <p:nvPr/>
            </p:nvSpPr>
            <p:spPr>
              <a:xfrm>
                <a:off x="1441440" y="3359160"/>
                <a:ext cx="5605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8" name=""/>
              <p:cNvSpPr txBox="1"/>
              <p:nvPr/>
            </p:nvSpPr>
            <p:spPr>
              <a:xfrm>
                <a:off x="3100320" y="3367080"/>
                <a:ext cx="5605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9" name=""/>
          <p:cNvSpPr/>
          <p:nvPr/>
        </p:nvSpPr>
        <p:spPr>
          <a:xfrm>
            <a:off x="793800" y="3971880"/>
            <a:ext cx="792000" cy="576360"/>
          </a:xfrm>
          <a:prstGeom prst="rect">
            <a:avLst/>
          </a:prstGeom>
          <a:solidFill>
            <a:srgbClr val="dcff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0" name=""/>
              <p:cNvSpPr txBox="1"/>
              <p:nvPr/>
            </p:nvSpPr>
            <p:spPr>
              <a:xfrm>
                <a:off x="907920" y="3989520"/>
                <a:ext cx="5781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91" name=""/>
          <p:cNvSpPr/>
          <p:nvPr/>
        </p:nvSpPr>
        <p:spPr>
          <a:xfrm>
            <a:off x="1017720" y="3882960"/>
            <a:ext cx="792000" cy="574920"/>
          </a:xfrm>
          <a:custGeom>
            <a:avLst/>
            <a:gdLst/>
            <a:ahLst/>
            <a:rect l="l" t="t" r="r" b="b"/>
            <a:pathLst>
              <a:path w="499" h="362">
                <a:moveTo>
                  <a:pt x="0" y="0"/>
                </a:moveTo>
                <a:lnTo>
                  <a:pt x="499" y="0"/>
                </a:lnTo>
                <a:lnTo>
                  <a:pt x="499" y="362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2981160" y="3879720"/>
            <a:ext cx="768600" cy="574920"/>
          </a:xfrm>
          <a:custGeom>
            <a:avLst/>
            <a:gdLst/>
            <a:ahLst/>
            <a:rect l="l" t="t" r="r" b="b"/>
            <a:pathLst>
              <a:path w="484" h="362">
                <a:moveTo>
                  <a:pt x="484" y="0"/>
                </a:moveTo>
                <a:lnTo>
                  <a:pt x="0" y="0"/>
                </a:lnTo>
                <a:lnTo>
                  <a:pt x="0" y="362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1168560" y="3735360"/>
            <a:ext cx="641160" cy="650880"/>
          </a:xfrm>
          <a:custGeom>
            <a:avLst/>
            <a:gdLst/>
            <a:ahLst/>
            <a:rect l="l" t="t" r="r" b="b"/>
            <a:pathLst>
              <a:path w="404" h="410">
                <a:moveTo>
                  <a:pt x="0" y="16"/>
                </a:moveTo>
                <a:cubicBezTo>
                  <a:pt x="22" y="13"/>
                  <a:pt x="89" y="0"/>
                  <a:pt x="132" y="0"/>
                </a:cubicBezTo>
                <a:cubicBezTo>
                  <a:pt x="175" y="0"/>
                  <a:pt x="223" y="9"/>
                  <a:pt x="256" y="16"/>
                </a:cubicBezTo>
                <a:cubicBezTo>
                  <a:pt x="289" y="23"/>
                  <a:pt x="303" y="31"/>
                  <a:pt x="328" y="44"/>
                </a:cubicBezTo>
                <a:cubicBezTo>
                  <a:pt x="353" y="57"/>
                  <a:pt x="372" y="72"/>
                  <a:pt x="404" y="92"/>
                </a:cubicBezTo>
                <a:cubicBezTo>
                  <a:pt x="380" y="148"/>
                  <a:pt x="365" y="170"/>
                  <a:pt x="352" y="208"/>
                </a:cubicBezTo>
                <a:cubicBezTo>
                  <a:pt x="339" y="246"/>
                  <a:pt x="330" y="285"/>
                  <a:pt x="326" y="319"/>
                </a:cubicBezTo>
                <a:cubicBezTo>
                  <a:pt x="322" y="353"/>
                  <a:pt x="322" y="383"/>
                  <a:pt x="326" y="41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 flipH="1">
            <a:off x="2989440" y="3738600"/>
            <a:ext cx="668160" cy="650880"/>
          </a:xfrm>
          <a:custGeom>
            <a:avLst/>
            <a:gdLst/>
            <a:ahLst/>
            <a:rect l="l" t="t" r="r" b="b"/>
            <a:pathLst>
              <a:path w="404" h="410">
                <a:moveTo>
                  <a:pt x="0" y="16"/>
                </a:moveTo>
                <a:cubicBezTo>
                  <a:pt x="22" y="13"/>
                  <a:pt x="89" y="0"/>
                  <a:pt x="132" y="0"/>
                </a:cubicBezTo>
                <a:cubicBezTo>
                  <a:pt x="175" y="0"/>
                  <a:pt x="223" y="9"/>
                  <a:pt x="256" y="16"/>
                </a:cubicBezTo>
                <a:cubicBezTo>
                  <a:pt x="289" y="23"/>
                  <a:pt x="303" y="31"/>
                  <a:pt x="328" y="44"/>
                </a:cubicBezTo>
                <a:cubicBezTo>
                  <a:pt x="353" y="57"/>
                  <a:pt x="372" y="72"/>
                  <a:pt x="404" y="92"/>
                </a:cubicBezTo>
                <a:cubicBezTo>
                  <a:pt x="380" y="148"/>
                  <a:pt x="365" y="170"/>
                  <a:pt x="352" y="208"/>
                </a:cubicBezTo>
                <a:cubicBezTo>
                  <a:pt x="339" y="246"/>
                  <a:pt x="330" y="285"/>
                  <a:pt x="326" y="319"/>
                </a:cubicBezTo>
                <a:cubicBezTo>
                  <a:pt x="322" y="353"/>
                  <a:pt x="322" y="383"/>
                  <a:pt x="326" y="41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 rot="20278800">
            <a:off x="1702440" y="3730680"/>
            <a:ext cx="286560" cy="28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70" y="95"/>
                </a:moveTo>
                <a:arcTo wR="10800" hR="10800" stAng="-5856608" swAng="12408446"/>
                <a:lnTo>
                  <a:pt x="10800" y="10800"/>
                </a:lnTo>
                <a:close/>
              </a:path>
              <a:path fill="none" w="21600" h="21600">
                <a:moveTo>
                  <a:pt x="9370" y="95"/>
                </a:moveTo>
                <a:arcTo wR="10800" hR="10800" stAng="-5856608" swAng="12408446"/>
              </a:path>
            </a:pathLst>
          </a:custGeom>
          <a:noFill/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flipH="1" rot="720000">
            <a:off x="2795760" y="3748320"/>
            <a:ext cx="276480" cy="28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70" y="95"/>
                </a:moveTo>
                <a:arcTo wR="10800" hR="10800" stAng="-5856608" swAng="12408446"/>
                <a:lnTo>
                  <a:pt x="10800" y="10800"/>
                </a:lnTo>
                <a:close/>
              </a:path>
              <a:path fill="none" w="21600" h="21600">
                <a:moveTo>
                  <a:pt x="9370" y="95"/>
                </a:moveTo>
                <a:arcTo wR="10800" hR="10800" stAng="-5856608" swAng="12408446"/>
              </a:path>
            </a:pathLst>
          </a:custGeom>
          <a:noFill/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flipH="1">
            <a:off x="1816200" y="3881520"/>
            <a:ext cx="28728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2698920" y="3887640"/>
            <a:ext cx="28872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9" name=""/>
              <p:cNvSpPr txBox="1"/>
              <p:nvPr/>
            </p:nvSpPr>
            <p:spPr>
              <a:xfrm>
                <a:off x="2011320" y="3700440"/>
                <a:ext cx="3222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0" name=""/>
              <p:cNvSpPr txBox="1"/>
              <p:nvPr/>
            </p:nvSpPr>
            <p:spPr>
              <a:xfrm>
                <a:off x="2379600" y="3699000"/>
                <a:ext cx="33804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1" name=""/>
              <p:cNvSpPr txBox="1"/>
              <p:nvPr/>
            </p:nvSpPr>
            <p:spPr>
              <a:xfrm>
                <a:off x="1616040" y="3430440"/>
                <a:ext cx="35712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k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2" name=""/>
              <p:cNvSpPr txBox="1"/>
              <p:nvPr/>
            </p:nvSpPr>
            <p:spPr>
              <a:xfrm>
                <a:off x="2700360" y="3452760"/>
                <a:ext cx="35712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k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1154160" y="4700520"/>
                <a:ext cx="2232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1212840" y="5388120"/>
                <a:ext cx="114156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5" name=""/>
          <p:cNvSpPr/>
          <p:nvPr/>
        </p:nvSpPr>
        <p:spPr>
          <a:xfrm rot="10800000">
            <a:off x="1789200" y="5287680"/>
            <a:ext cx="287280" cy="142920"/>
          </a:xfrm>
          <a:prstGeom prst="upArrow">
            <a:avLst>
              <a:gd name="adj1" fmla="val 37157"/>
              <a:gd name="adj2" fmla="val 47028"/>
            </a:avLst>
          </a:prstGeom>
          <a:solidFill>
            <a:srgbClr val="6699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1619280" y="6165720"/>
            <a:ext cx="1297080" cy="432000"/>
          </a:xfrm>
          <a:prstGeom prst="rect">
            <a:avLst/>
          </a:prstGeom>
          <a:solidFill>
            <a:srgbClr val="dcff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7" name=""/>
              <p:cNvSpPr txBox="1"/>
              <p:nvPr/>
            </p:nvSpPr>
            <p:spPr>
              <a:xfrm>
                <a:off x="1730520" y="6084720"/>
                <a:ext cx="1083960" cy="5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8" name=""/>
          <p:cNvSpPr/>
          <p:nvPr/>
        </p:nvSpPr>
        <p:spPr>
          <a:xfrm>
            <a:off x="512640" y="2871720"/>
            <a:ext cx="374328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акции связей, соответствующ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упповым неизвест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3692520" y="3774960"/>
            <a:ext cx="144360" cy="36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V="1">
            <a:off x="1003320" y="3771720"/>
            <a:ext cx="144360" cy="3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flipV="1">
            <a:off x="3098880" y="4412880"/>
            <a:ext cx="17280" cy="144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 flipH="1" flipV="1">
            <a:off x="1685520" y="4414680"/>
            <a:ext cx="17640" cy="144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2268360" y="5734080"/>
            <a:ext cx="20163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из условия симмет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4" name=""/>
              <p:cNvSpPr txBox="1"/>
              <p:nvPr/>
            </p:nvSpPr>
            <p:spPr>
              <a:xfrm>
                <a:off x="1697040" y="5654520"/>
                <a:ext cx="67788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815" name=""/>
          <p:cNvSpPr/>
          <p:nvPr/>
        </p:nvSpPr>
        <p:spPr>
          <a:xfrm rot="10800000">
            <a:off x="1907640" y="5959080"/>
            <a:ext cx="287640" cy="222120"/>
          </a:xfrm>
          <a:prstGeom prst="upArrow">
            <a:avLst>
              <a:gd name="adj1" fmla="val 37157"/>
              <a:gd name="adj2" fmla="val 47028"/>
            </a:avLst>
          </a:prstGeom>
          <a:solidFill>
            <a:srgbClr val="6699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3130560" y="6165720"/>
            <a:ext cx="1297080" cy="432000"/>
          </a:xfrm>
          <a:prstGeom prst="rect">
            <a:avLst/>
          </a:prstGeom>
          <a:solidFill>
            <a:srgbClr val="dcff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7" name=""/>
              <p:cNvSpPr txBox="1"/>
              <p:nvPr/>
            </p:nvSpPr>
            <p:spPr>
              <a:xfrm>
                <a:off x="3205080" y="6084720"/>
                <a:ext cx="1157400" cy="5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k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k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8" name=""/>
          <p:cNvSpPr/>
          <p:nvPr/>
        </p:nvSpPr>
        <p:spPr>
          <a:xfrm>
            <a:off x="3246480" y="59292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налогич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6" dur="indefinite" restart="never" nodeType="tmRoot">
          <p:childTnLst>
            <p:seq>
              <p:cTn id="6557" dur="indefinite" nodeType="mainSeq">
                <p:childTnLst>
                  <p:par>
                    <p:cTn id="6558" fill="hold">
                      <p:stCondLst>
                        <p:cond delay="0"/>
                      </p:stCondLst>
                      <p:childTnLst>
                        <p:par>
                          <p:cTn id="6559" fill="hold">
                            <p:stCondLst>
                              <p:cond delay="0"/>
                            </p:stCondLst>
                            <p:childTnLst>
                              <p:par>
                                <p:cTn id="65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2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3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4" dur="10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5" fill="hold">
                      <p:stCondLst>
                        <p:cond delay="indefinite"/>
                      </p:stCondLst>
                      <p:childTnLst>
                        <p:par>
                          <p:cTn id="6566" fill="hold">
                            <p:stCondLst>
                              <p:cond delay="0"/>
                            </p:stCondLst>
                            <p:childTnLst>
                              <p:par>
                                <p:cTn id="65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9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0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1" dur="10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4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5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6" dur="1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9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0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1" dur="10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4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5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6" dur="1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9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0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1" dur="1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4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5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6" dur="10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9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0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1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4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5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6" dur="10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9" dur="1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0" dur="1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1" dur="10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4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5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6" dur="10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9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0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1" dur="10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4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5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6" dur="1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9" dur="1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0" dur="1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1" dur="1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4" dur="1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5" dur="1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6" dur="1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9" dur="1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0" dur="1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1" dur="10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4" dur="1000" fill="hold"/>
                                        <p:tgtEl>
                                          <p:spTgt spid="1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5" dur="1000" fill="hold"/>
                                        <p:tgtEl>
                                          <p:spTgt spid="1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6" dur="10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9" dur="1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0" dur="1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1" dur="1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4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5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6" dur="1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9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0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1" dur="10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4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5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6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9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0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1" dur="1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4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5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6" dur="10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9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0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1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4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5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6" dur="10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9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0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1" dur="10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4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5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6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9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0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1" dur="10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4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5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6" dur="10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9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0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1" dur="1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4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5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6" dur="1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9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0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1" dur="1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4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5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6" dur="1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9" dur="10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0" dur="10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1" dur="10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4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5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6" dur="1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9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0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1" dur="10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4" dur="1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5" dur="1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6" dur="10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9" dur="10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0" dur="10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1" dur="10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4" dur="10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5" dur="10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6" dur="10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9" dur="10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0" dur="10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1" dur="10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4" dur="10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5" dur="10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6" dur="10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9" dur="1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0" dur="1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1" dur="10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4" dur="10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5" dur="10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6" dur="10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9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0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1" dur="1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4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5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6" dur="10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9" dur="10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0" dur="10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1" dur="10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4" dur="10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5" dur="10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6" dur="10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9" dur="10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0" dur="10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1" dur="10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2" fill="hold">
                      <p:stCondLst>
                        <p:cond delay="indefinite"/>
                      </p:stCondLst>
                      <p:childTnLst>
                        <p:par>
                          <p:cTn id="6803" fill="hold">
                            <p:stCondLst>
                              <p:cond delay="0"/>
                            </p:stCondLst>
                            <p:childTnLst>
                              <p:par>
                                <p:cTn id="68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6" dur="10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7" dur="10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8" dur="10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1" dur="10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2" dur="1000" fill="hold"/>
                                        <p:tgtEl>
                                          <p:spTgt spid="1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3" dur="10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4" fill="hold">
                      <p:stCondLst>
                        <p:cond delay="indefinite"/>
                      </p:stCondLst>
                      <p:childTnLst>
                        <p:par>
                          <p:cTn id="6815" fill="hold">
                            <p:stCondLst>
                              <p:cond delay="0"/>
                            </p:stCondLst>
                            <p:childTnLst>
                              <p:par>
                                <p:cTn id="68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8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1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2" fill="hold">
                      <p:stCondLst>
                        <p:cond delay="indefinite"/>
                      </p:stCondLst>
                      <p:childTnLst>
                        <p:par>
                          <p:cTn id="6823" fill="hold">
                            <p:stCondLst>
                              <p:cond delay="0"/>
                            </p:stCondLst>
                            <p:childTnLst>
                              <p:par>
                                <p:cTn id="68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6" dur="1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7" dur="1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8" dur="10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1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2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3" dur="1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6" dur="10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7" dur="10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8" dur="10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9" fill="hold">
                      <p:stCondLst>
                        <p:cond delay="indefinite"/>
                      </p:stCondLst>
                      <p:childTnLst>
                        <p:par>
                          <p:cTn id="6840" fill="hold">
                            <p:stCondLst>
                              <p:cond delay="0"/>
                            </p:stCondLst>
                            <p:childTnLst>
                              <p:par>
                                <p:cTn id="68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3" dur="10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4" dur="10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5" dur="10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8" dur="10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9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0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3" dur="10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4" dur="1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5" dur="1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8" dur="1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9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0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1" fill="hold">
                      <p:stCondLst>
                        <p:cond delay="indefinite"/>
                      </p:stCondLst>
                      <p:childTnLst>
                        <p:par>
                          <p:cTn id="6862" fill="hold">
                            <p:stCondLst>
                              <p:cond delay="0"/>
                            </p:stCondLst>
                            <p:childTnLst>
                              <p:par>
                                <p:cTn id="68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5" dur="1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6" dur="1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7" dur="10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0" dur="10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1" dur="10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2" dur="1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3" fill="hold">
                      <p:stCondLst>
                        <p:cond delay="indefinite"/>
                      </p:stCondLst>
                      <p:childTnLst>
                        <p:par>
                          <p:cTn id="6874" fill="hold">
                            <p:stCondLst>
                              <p:cond delay="0"/>
                            </p:stCondLst>
                            <p:childTnLst>
                              <p:par>
                                <p:cTn id="68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7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8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9" dur="1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2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3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4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7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8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9" dur="1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2" dur="1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3" dur="1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4" dur="1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5" fill="hold">
                      <p:stCondLst>
                        <p:cond delay="indefinite"/>
                      </p:stCondLst>
                      <p:childTnLst>
                        <p:par>
                          <p:cTn id="6896" fill="hold">
                            <p:stCondLst>
                              <p:cond delay="0"/>
                            </p:stCondLst>
                            <p:childTnLst>
                              <p:par>
                                <p:cTn id="68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9" dur="10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0" dur="10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01" dur="10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4" dur="10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5" dur="10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06" dur="10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7" fill="hold">
                      <p:stCondLst>
                        <p:cond delay="indefinite"/>
                      </p:stCondLst>
                      <p:childTnLst>
                        <p:par>
                          <p:cTn id="6908" fill="hold">
                            <p:stCondLst>
                              <p:cond delay="0"/>
                            </p:stCondLst>
                            <p:childTnLst>
                              <p:par>
                                <p:cTn id="69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1" dur="10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2" dur="10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3" dur="10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6" dur="10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7" dur="10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8" dur="10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9" fill="hold">
                      <p:stCondLst>
                        <p:cond delay="indefinite"/>
                      </p:stCondLst>
                      <p:childTnLst>
                        <p:par>
                          <p:cTn id="6920" fill="hold">
                            <p:stCondLst>
                              <p:cond delay="0"/>
                            </p:stCondLst>
                            <p:childTnLst>
                              <p:par>
                                <p:cTn id="69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3" dur="10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4" dur="10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25" dur="1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8" dur="10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9" dur="10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0" dur="10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1" fill="hold">
                      <p:stCondLst>
                        <p:cond delay="indefinite"/>
                      </p:stCondLst>
                      <p:childTnLst>
                        <p:par>
                          <p:cTn id="6932" fill="hold">
                            <p:stCondLst>
                              <p:cond delay="0"/>
                            </p:stCondLst>
                            <p:childTnLst>
                              <p:par>
                                <p:cTn id="69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5" dur="10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6" dur="10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7" dur="10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0" dur="10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1" dur="1000" fill="hold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2" dur="10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3" fill="hold">
                      <p:stCondLst>
                        <p:cond delay="indefinite"/>
                      </p:stCondLst>
                      <p:childTnLst>
                        <p:par>
                          <p:cTn id="6944" fill="hold">
                            <p:stCondLst>
                              <p:cond delay="0"/>
                            </p:stCondLst>
                            <p:childTnLst>
                              <p:par>
                                <p:cTn id="69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7" dur="8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48" dur="8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9" dur="8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0" fill="hold">
                      <p:stCondLst>
                        <p:cond delay="indefinite"/>
                      </p:stCondLst>
                      <p:childTnLst>
                        <p:par>
                          <p:cTn id="6951" fill="hold">
                            <p:stCondLst>
                              <p:cond delay="0"/>
                            </p:stCondLst>
                            <p:childTnLst>
                              <p:par>
                                <p:cTn id="69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4" dur="10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5" dur="1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6" dur="1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9" dur="10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0" dur="10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1" dur="10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4" dur="10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5" dur="10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6" dur="10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9" dur="10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0" dur="10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1" dur="10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4" dur="10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5" dur="10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6" dur="10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9" dur="1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0" dur="10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1" dur="10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4" dur="10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5" dur="10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6" dur="10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9" dur="10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0" dur="10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1" dur="10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4" dur="10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5" dur="10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6" dur="10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9" dur="10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0" dur="10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1" dur="10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4" dur="10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5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6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9" dur="1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0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1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4" dur="10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5" dur="10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6" dur="10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9" dur="10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0" dur="1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1" dur="1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4" dur="10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5" dur="10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6" dur="10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9" dur="10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0" dur="10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1" dur="10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4" dur="10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5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6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9" dur="10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0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1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4" dur="1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5" dur="10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6" dur="10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9" dur="10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0" dur="10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1" dur="10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4" dur="10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5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6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9" dur="10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0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1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4" dur="10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5" dur="10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6" dur="10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7" fill="hold">
                      <p:stCondLst>
                        <p:cond delay="indefinite"/>
                      </p:stCondLst>
                      <p:childTnLst>
                        <p:par>
                          <p:cTn id="7068" fill="hold">
                            <p:stCondLst>
                              <p:cond delay="0"/>
                            </p:stCondLst>
                            <p:childTnLst>
                              <p:par>
                                <p:cTn id="70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1" dur="10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2" dur="10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3" dur="10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6" dur="10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7" dur="10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8" dur="10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1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2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3" dur="10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6" dur="10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7" dur="10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8" dur="10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1" dur="10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2" dur="10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3" dur="10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6" dur="10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7" dur="10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8" dur="10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9" fill="hold">
                      <p:stCondLst>
                        <p:cond delay="indefinite"/>
                      </p:stCondLst>
                      <p:childTnLst>
                        <p:par>
                          <p:cTn id="7100" fill="hold">
                            <p:stCondLst>
                              <p:cond delay="0"/>
                            </p:stCondLst>
                            <p:childTnLst>
                              <p:par>
                                <p:cTn id="7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02" dur="10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05" dur="10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08" dur="10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11" dur="10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14" dur="10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17" dur="10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20" dur="10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23" dur="10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26" dur="1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29" dur="10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32" dur="10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35" dur="10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38" dur="10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41" dur="10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44" dur="10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47" dur="1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50" dur="10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53" dur="10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56" dur="10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59" dur="10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62" dur="10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65" dur="10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68" dur="10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71" dur="10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74" dur="10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77" dur="10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1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4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7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0" dur="10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3" dur="10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6" dur="10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9" dur="10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2" dur="10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5" dur="10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8" dur="1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1" dur="10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4" dur="10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7" dur="1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0" dur="10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3" dur="10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6" dur="1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7" fill="hold">
                      <p:stCondLst>
                        <p:cond delay="indefinite"/>
                      </p:stCondLst>
                      <p:childTnLst>
                        <p:par>
                          <p:cTn id="7228" fill="hold">
                            <p:stCondLst>
                              <p:cond delay="0"/>
                            </p:stCondLst>
                            <p:childTnLst>
                              <p:par>
                                <p:cTn id="7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31" dur="10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34" dur="10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5" fill="hold">
                      <p:stCondLst>
                        <p:cond delay="indefinite"/>
                      </p:stCondLst>
                      <p:childTnLst>
                        <p:par>
                          <p:cTn id="7236" fill="hold">
                            <p:stCondLst>
                              <p:cond delay="0"/>
                            </p:stCondLst>
                            <p:childTnLst>
                              <p:par>
                                <p:cTn id="7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9" dur="1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0" dur="1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1" dur="10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2" fill="hold">
                      <p:stCondLst>
                        <p:cond delay="indefinite"/>
                      </p:stCondLst>
                      <p:childTnLst>
                        <p:par>
                          <p:cTn id="7243" fill="hold">
                            <p:stCondLst>
                              <p:cond delay="0"/>
                            </p:stCondLst>
                            <p:childTnLst>
                              <p:par>
                                <p:cTn id="7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6" dur="1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7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8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1" dur="10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2" dur="10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3" dur="10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4" fill="hold">
                      <p:stCondLst>
                        <p:cond delay="indefinite"/>
                      </p:stCondLst>
                      <p:childTnLst>
                        <p:par>
                          <p:cTn id="7255" fill="hold">
                            <p:stCondLst>
                              <p:cond delay="0"/>
                            </p:stCondLst>
                            <p:childTnLst>
                              <p:par>
                                <p:cTn id="7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8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9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0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3" dur="80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64" dur="80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5" dur="80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6" fill="hold">
                      <p:stCondLst>
                        <p:cond delay="indefinite"/>
                      </p:stCondLst>
                      <p:childTnLst>
                        <p:par>
                          <p:cTn id="7267" fill="hold">
                            <p:stCondLst>
                              <p:cond delay="0"/>
                            </p:stCondLst>
                            <p:childTnLst>
                              <p:par>
                                <p:cTn id="7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0" dur="10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1" dur="1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2" dur="1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5" dur="1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6" dur="1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7" dur="1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0" dur="1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1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2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3" fill="hold">
                      <p:stCondLst>
                        <p:cond delay="indefinite"/>
                      </p:stCondLst>
                      <p:childTnLst>
                        <p:par>
                          <p:cTn id="7284" fill="hold">
                            <p:stCondLst>
                              <p:cond delay="0"/>
                            </p:stCondLst>
                            <p:childTnLst>
                              <p:par>
                                <p:cTn id="7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7" dur="10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8" dur="10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9" dur="10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2" dur="10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3" dur="10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4" dur="1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7" dur="10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8" dur="10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9" dur="10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4390920" y="11905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Канонические уравне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7010280" y="1168560"/>
                <a:ext cx="15638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2" name=""/>
          <p:cNvSpPr/>
          <p:nvPr/>
        </p:nvSpPr>
        <p:spPr>
          <a:xfrm>
            <a:off x="5111640" y="1558800"/>
            <a:ext cx="15112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В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основ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неизвестны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6541920" y="1552680"/>
                <a:ext cx="117000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m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24" name=""/>
          <p:cNvSpPr/>
          <p:nvPr/>
        </p:nvSpPr>
        <p:spPr>
          <a:xfrm flipH="1" rot="10838400">
            <a:off x="6044760" y="2261520"/>
            <a:ext cx="1008000" cy="206280"/>
          </a:xfrm>
          <a:prstGeom prst="triangle">
            <a:avLst>
              <a:gd name="adj" fmla="val 50000"/>
            </a:avLst>
          </a:prstGeom>
          <a:solidFill>
            <a:srgbClr val="8fcc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5049720" y="2532240"/>
                <a:ext cx="17766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s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,as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s,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s,a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7091280" y="2517840"/>
                <a:ext cx="14400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Σ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5619600" y="3367080"/>
                <a:ext cx="14493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,s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8" name=""/>
          <p:cNvSpPr/>
          <p:nvPr/>
        </p:nvSpPr>
        <p:spPr>
          <a:xfrm rot="13172400">
            <a:off x="5311800" y="3677760"/>
            <a:ext cx="287280" cy="478080"/>
          </a:xfrm>
          <a:prstGeom prst="upArrow">
            <a:avLst>
              <a:gd name="adj1" fmla="val 37157"/>
              <a:gd name="adj2" fmla="val 78262"/>
            </a:avLst>
          </a:prstGeom>
          <a:solidFill>
            <a:srgbClr val="6699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 rot="3861600">
            <a:off x="5959440" y="3949200"/>
            <a:ext cx="208080" cy="478080"/>
          </a:xfrm>
          <a:prstGeom prst="upArrow">
            <a:avLst>
              <a:gd name="adj1" fmla="val 49870"/>
              <a:gd name="adj2" fmla="val 96349"/>
            </a:avLst>
          </a:prstGeom>
          <a:solidFill>
            <a:srgbClr val="6699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 rot="6568200">
            <a:off x="5961960" y="4278240"/>
            <a:ext cx="208080" cy="477720"/>
          </a:xfrm>
          <a:prstGeom prst="upArrow">
            <a:avLst>
              <a:gd name="adj1" fmla="val 49870"/>
              <a:gd name="adj2" fmla="val 96276"/>
            </a:avLst>
          </a:prstGeom>
          <a:solidFill>
            <a:srgbClr val="6699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4124160" y="4149720"/>
            <a:ext cx="1690920" cy="431640"/>
          </a:xfrm>
          <a:prstGeom prst="rect">
            <a:avLst/>
          </a:prstGeom>
          <a:solidFill>
            <a:srgbClr val="d2e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4205160" y="4179960"/>
                <a:ext cx="1563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3" name=""/>
          <p:cNvSpPr/>
          <p:nvPr/>
        </p:nvSpPr>
        <p:spPr>
          <a:xfrm>
            <a:off x="6292800" y="3868560"/>
            <a:ext cx="2495520" cy="459000"/>
          </a:xfrm>
          <a:prstGeom prst="rect">
            <a:avLst/>
          </a:prstGeom>
          <a:solidFill>
            <a:srgbClr val="f1a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6294600" y="4371840"/>
            <a:ext cx="2493720" cy="45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6637320" y="3895560"/>
                <a:ext cx="184932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sΣ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6388200" y="4400640"/>
                <a:ext cx="2324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,as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i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,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7" name="">
            <a:hlinkClick r:id="" action="ppaction://hlinkshowjump?jump=nextslide"/>
          </p:cNvPr>
          <p:cNvSpPr/>
          <p:nvPr/>
        </p:nvSpPr>
        <p:spPr>
          <a:xfrm>
            <a:off x="212760" y="260280"/>
            <a:ext cx="871380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 Black"/>
              </a:rPr>
              <a:t>ИСПОЛЬЗОВАНИЕ ГРУППОВЫХ ОСНОВНЫХ НЕИЗВЕС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 Black"/>
              </a:rPr>
              <a:t>МЕТОДА ПЕРЕМЕЩЕНИЙ В РАСЧЁТАХ СИММЕТРИЧНЫХ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311040" y="890640"/>
            <a:ext cx="4189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90033"/>
                </a:solidFill>
                <a:latin typeface="Arial Narrow"/>
              </a:rPr>
              <a:t>Новые (групповые) основные неизвестные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824040" y="202392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3774960" y="2017800"/>
            <a:ext cx="144720" cy="1440"/>
          </a:xfrm>
          <a:custGeom>
            <a:avLst/>
            <a:gdLst/>
            <a:ahLst/>
            <a:rect l="l" t="t" r="r" b="b"/>
            <a:pathLst>
              <a:path w="174" h="2">
                <a:moveTo>
                  <a:pt x="0" y="0"/>
                </a:moveTo>
                <a:lnTo>
                  <a:pt x="174" y="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793880" y="25639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2973240" y="25718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2376360" y="1555920"/>
            <a:ext cx="0" cy="12049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2324160" y="1490760"/>
            <a:ext cx="108000" cy="25236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2193840" y="14288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004760" y="2022480"/>
            <a:ext cx="792360" cy="574560"/>
          </a:xfrm>
          <a:custGeom>
            <a:avLst/>
            <a:gdLst/>
            <a:ahLst/>
            <a:rect l="l" t="t" r="r" b="b"/>
            <a:pathLst>
              <a:path w="499" h="362">
                <a:moveTo>
                  <a:pt x="0" y="0"/>
                </a:moveTo>
                <a:lnTo>
                  <a:pt x="499" y="0"/>
                </a:lnTo>
                <a:lnTo>
                  <a:pt x="499" y="3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975040" y="2025720"/>
            <a:ext cx="768240" cy="574560"/>
          </a:xfrm>
          <a:custGeom>
            <a:avLst/>
            <a:gdLst/>
            <a:ahLst/>
            <a:rect l="l" t="t" r="r" b="b"/>
            <a:pathLst>
              <a:path w="484" h="362">
                <a:moveTo>
                  <a:pt x="484" y="0"/>
                </a:moveTo>
                <a:lnTo>
                  <a:pt x="0" y="0"/>
                </a:lnTo>
                <a:lnTo>
                  <a:pt x="0" y="3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 rot="2700000">
            <a:off x="1544760" y="1844280"/>
            <a:ext cx="144720" cy="5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 rot="18900000">
            <a:off x="3083040" y="1856880"/>
            <a:ext cx="144360" cy="5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 flipH="1">
            <a:off x="2970000" y="1816200"/>
            <a:ext cx="215640" cy="215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585800" y="1806480"/>
            <a:ext cx="21600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 rot="5400000">
            <a:off x="1965240" y="1984320"/>
            <a:ext cx="21564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2041560" y="191304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 flipH="1">
            <a:off x="1825560" y="2022480"/>
            <a:ext cx="21744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 rot="5086200">
            <a:off x="1802160" y="198000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 rot="5086200">
            <a:off x="2003760" y="198504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 rot="5400000">
            <a:off x="2585880" y="1984320"/>
            <a:ext cx="21564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 flipH="1">
            <a:off x="2722680" y="191304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 flipH="1">
            <a:off x="2708280" y="2030400"/>
            <a:ext cx="21744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 rot="5086200">
            <a:off x="2684880" y="198792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 rot="5086200">
            <a:off x="2886480" y="199296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677960" y="1573200"/>
            <a:ext cx="115920" cy="441360"/>
          </a:xfrm>
          <a:prstGeom prst="line">
            <a:avLst/>
          </a:prstGeom>
          <a:ln w="64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2968200" y="1434960"/>
            <a:ext cx="144360" cy="576360"/>
          </a:xfrm>
          <a:prstGeom prst="line">
            <a:avLst/>
          </a:prstGeom>
          <a:ln w="64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619280" y="1763640"/>
            <a:ext cx="114120" cy="76320"/>
          </a:xfrm>
          <a:custGeom>
            <a:avLst/>
            <a:gdLst/>
            <a:ahLst/>
            <a:rect l="l" t="t" r="r" b="b"/>
            <a:pathLst>
              <a:path w="72" h="48">
                <a:moveTo>
                  <a:pt x="0" y="48"/>
                </a:moveTo>
                <a:cubicBezTo>
                  <a:pt x="4" y="43"/>
                  <a:pt x="15" y="26"/>
                  <a:pt x="27" y="18"/>
                </a:cubicBezTo>
                <a:cubicBezTo>
                  <a:pt x="39" y="10"/>
                  <a:pt x="63" y="4"/>
                  <a:pt x="72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 flipH="1">
            <a:off x="3034440" y="1782720"/>
            <a:ext cx="119160" cy="71640"/>
          </a:xfrm>
          <a:custGeom>
            <a:avLst/>
            <a:gdLst/>
            <a:ahLst/>
            <a:rect l="l" t="t" r="r" b="b"/>
            <a:pathLst>
              <a:path w="72" h="48">
                <a:moveTo>
                  <a:pt x="0" y="48"/>
                </a:moveTo>
                <a:cubicBezTo>
                  <a:pt x="4" y="43"/>
                  <a:pt x="15" y="26"/>
                  <a:pt x="27" y="18"/>
                </a:cubicBezTo>
                <a:cubicBezTo>
                  <a:pt x="39" y="10"/>
                  <a:pt x="63" y="4"/>
                  <a:pt x="72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957320" y="1995480"/>
            <a:ext cx="0" cy="287280"/>
          </a:xfrm>
          <a:prstGeom prst="line">
            <a:avLst/>
          </a:prstGeom>
          <a:ln w="64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2820960" y="2009880"/>
            <a:ext cx="0" cy="431640"/>
          </a:xfrm>
          <a:prstGeom prst="line">
            <a:avLst/>
          </a:prstGeom>
          <a:ln w="64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1811160" y="2254320"/>
            <a:ext cx="14472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 flipH="1">
            <a:off x="2820600" y="2254320"/>
            <a:ext cx="14436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 flipH="1">
            <a:off x="3209400" y="1492200"/>
            <a:ext cx="79560" cy="108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 flipH="1">
            <a:off x="1803240" y="1573200"/>
            <a:ext cx="28800" cy="44136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1701720" y="1611360"/>
            <a:ext cx="125640" cy="12600"/>
          </a:xfrm>
          <a:custGeom>
            <a:avLst/>
            <a:gdLst/>
            <a:ahLst/>
            <a:rect l="l" t="t" r="r" b="b"/>
            <a:pathLst>
              <a:path w="79" h="8">
                <a:moveTo>
                  <a:pt x="0" y="8"/>
                </a:moveTo>
                <a:cubicBezTo>
                  <a:pt x="5" y="7"/>
                  <a:pt x="20" y="2"/>
                  <a:pt x="33" y="1"/>
                </a:cubicBezTo>
                <a:cubicBezTo>
                  <a:pt x="46" y="0"/>
                  <a:pt x="70" y="1"/>
                  <a:pt x="79" y="1"/>
                </a:cubicBezTo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 rot="2595600">
            <a:off x="3114360" y="1480680"/>
            <a:ext cx="136440" cy="50760"/>
          </a:xfrm>
          <a:custGeom>
            <a:avLst/>
            <a:gdLst/>
            <a:ahLst/>
            <a:rect l="l" t="t" r="r" b="b"/>
            <a:pathLst>
              <a:path w="72" h="48">
                <a:moveTo>
                  <a:pt x="0" y="48"/>
                </a:moveTo>
                <a:cubicBezTo>
                  <a:pt x="4" y="43"/>
                  <a:pt x="15" y="26"/>
                  <a:pt x="27" y="18"/>
                </a:cubicBezTo>
                <a:cubicBezTo>
                  <a:pt x="39" y="10"/>
                  <a:pt x="63" y="4"/>
                  <a:pt x="72" y="0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1962000" y="2254320"/>
            <a:ext cx="907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2052720" y="2149560"/>
            <a:ext cx="0" cy="14292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2827440" y="2397240"/>
            <a:ext cx="90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2917800" y="2292480"/>
            <a:ext cx="0" cy="14292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8" name=""/>
              <p:cNvSpPr txBox="1"/>
              <p:nvPr/>
            </p:nvSpPr>
            <p:spPr>
              <a:xfrm>
                <a:off x="1790640" y="2273400"/>
                <a:ext cx="2383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9" name=""/>
              <p:cNvSpPr txBox="1"/>
              <p:nvPr/>
            </p:nvSpPr>
            <p:spPr>
              <a:xfrm>
                <a:off x="2568600" y="2128680"/>
                <a:ext cx="2379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0" name=""/>
              <p:cNvSpPr txBox="1"/>
              <p:nvPr/>
            </p:nvSpPr>
            <p:spPr>
              <a:xfrm>
                <a:off x="1415880" y="1514520"/>
                <a:ext cx="2718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1" name=""/>
              <p:cNvSpPr txBox="1"/>
              <p:nvPr/>
            </p:nvSpPr>
            <p:spPr>
              <a:xfrm>
                <a:off x="3100320" y="1571760"/>
                <a:ext cx="27144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2" name=""/>
              <p:cNvSpPr txBox="1"/>
              <p:nvPr/>
            </p:nvSpPr>
            <p:spPr>
              <a:xfrm>
                <a:off x="1693800" y="1312920"/>
                <a:ext cx="40644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3" name=""/>
              <p:cNvSpPr txBox="1"/>
              <p:nvPr/>
            </p:nvSpPr>
            <p:spPr>
              <a:xfrm>
                <a:off x="3157560" y="1241280"/>
                <a:ext cx="40644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4" name=""/>
              <p:cNvSpPr txBox="1"/>
              <p:nvPr/>
            </p:nvSpPr>
            <p:spPr>
              <a:xfrm>
                <a:off x="2013120" y="2141640"/>
                <a:ext cx="37296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5" name=""/>
              <p:cNvSpPr txBox="1"/>
              <p:nvPr/>
            </p:nvSpPr>
            <p:spPr>
              <a:xfrm>
                <a:off x="2581200" y="2357280"/>
                <a:ext cx="3729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86" name=""/>
          <p:cNvSpPr/>
          <p:nvPr/>
        </p:nvSpPr>
        <p:spPr>
          <a:xfrm>
            <a:off x="4759200" y="4759200"/>
            <a:ext cx="367200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При симметричном воздейств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нагрузке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4761000" y="5527800"/>
            <a:ext cx="3671640" cy="10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и обратносимметричном (антисимметричном) воздейств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(нагрузке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8" name=""/>
              <p:cNvSpPr txBox="1"/>
              <p:nvPr/>
            </p:nvSpPr>
            <p:spPr>
              <a:xfrm>
                <a:off x="5862600" y="5146560"/>
                <a:ext cx="9637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  <m:r>
                          <m:rPr>
                            <m:lit/>
                            <m:nor/>
                          </m:rPr>
                          <m:t xml:space="preserve">,Σ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9" name=""/>
              <p:cNvSpPr txBox="1"/>
              <p:nvPr/>
            </p:nvSpPr>
            <p:spPr>
              <a:xfrm>
                <a:off x="5911920" y="6221520"/>
                <a:ext cx="8301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sΣ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0" name=""/>
          <p:cNvSpPr/>
          <p:nvPr/>
        </p:nvSpPr>
        <p:spPr>
          <a:xfrm rot="5400000">
            <a:off x="6995520" y="5100480"/>
            <a:ext cx="208080" cy="477720"/>
          </a:xfrm>
          <a:prstGeom prst="upArrow">
            <a:avLst>
              <a:gd name="adj1" fmla="val 49870"/>
              <a:gd name="adj2" fmla="val 96276"/>
            </a:avLst>
          </a:prstGeom>
          <a:solidFill>
            <a:srgbClr val="6699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 rot="5400000">
            <a:off x="6990840" y="6165720"/>
            <a:ext cx="208080" cy="477720"/>
          </a:xfrm>
          <a:prstGeom prst="upArrow">
            <a:avLst>
              <a:gd name="adj1" fmla="val 49870"/>
              <a:gd name="adj2" fmla="val 96276"/>
            </a:avLst>
          </a:prstGeom>
          <a:solidFill>
            <a:srgbClr val="6699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2" name=""/>
              <p:cNvSpPr txBox="1"/>
              <p:nvPr/>
            </p:nvSpPr>
            <p:spPr>
              <a:xfrm>
                <a:off x="7451640" y="6199200"/>
                <a:ext cx="10080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3" name=""/>
              <p:cNvSpPr txBox="1"/>
              <p:nvPr/>
            </p:nvSpPr>
            <p:spPr>
              <a:xfrm>
                <a:off x="7391520" y="5130720"/>
                <a:ext cx="10810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i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4" name=""/>
          <p:cNvSpPr/>
          <p:nvPr/>
        </p:nvSpPr>
        <p:spPr>
          <a:xfrm>
            <a:off x="2389320" y="3576600"/>
            <a:ext cx="0" cy="115092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2336760" y="3511440"/>
            <a:ext cx="108000" cy="25236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2206800" y="34495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1017720" y="4048200"/>
            <a:ext cx="792000" cy="642960"/>
          </a:xfrm>
          <a:custGeom>
            <a:avLst/>
            <a:gdLst/>
            <a:ahLst/>
            <a:rect l="l" t="t" r="r" b="b"/>
            <a:pathLst>
              <a:path w="499" h="362">
                <a:moveTo>
                  <a:pt x="0" y="0"/>
                </a:moveTo>
                <a:lnTo>
                  <a:pt x="499" y="0"/>
                </a:lnTo>
                <a:lnTo>
                  <a:pt x="499" y="362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2979720" y="4044960"/>
            <a:ext cx="768240" cy="646200"/>
          </a:xfrm>
          <a:custGeom>
            <a:avLst/>
            <a:gdLst/>
            <a:ahLst/>
            <a:rect l="l" t="t" r="r" b="b"/>
            <a:pathLst>
              <a:path w="484" h="362">
                <a:moveTo>
                  <a:pt x="484" y="0"/>
                </a:moveTo>
                <a:lnTo>
                  <a:pt x="0" y="0"/>
                </a:lnTo>
                <a:lnTo>
                  <a:pt x="0" y="362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1162080" y="4016520"/>
            <a:ext cx="695160" cy="495000"/>
          </a:xfrm>
          <a:custGeom>
            <a:avLst/>
            <a:gdLst/>
            <a:ahLst/>
            <a:rect l="l" t="t" r="r" b="b"/>
            <a:pathLst>
              <a:path w="438" h="312">
                <a:moveTo>
                  <a:pt x="0" y="0"/>
                </a:moveTo>
                <a:cubicBezTo>
                  <a:pt x="10" y="3"/>
                  <a:pt x="38" y="12"/>
                  <a:pt x="63" y="21"/>
                </a:cubicBezTo>
                <a:cubicBezTo>
                  <a:pt x="88" y="30"/>
                  <a:pt x="123" y="48"/>
                  <a:pt x="153" y="54"/>
                </a:cubicBezTo>
                <a:cubicBezTo>
                  <a:pt x="183" y="60"/>
                  <a:pt x="215" y="61"/>
                  <a:pt x="246" y="57"/>
                </a:cubicBezTo>
                <a:cubicBezTo>
                  <a:pt x="277" y="53"/>
                  <a:pt x="316" y="33"/>
                  <a:pt x="342" y="27"/>
                </a:cubicBezTo>
                <a:cubicBezTo>
                  <a:pt x="368" y="21"/>
                  <a:pt x="366" y="18"/>
                  <a:pt x="402" y="21"/>
                </a:cubicBezTo>
                <a:cubicBezTo>
                  <a:pt x="405" y="66"/>
                  <a:pt x="401" y="55"/>
                  <a:pt x="405" y="90"/>
                </a:cubicBezTo>
                <a:cubicBezTo>
                  <a:pt x="409" y="125"/>
                  <a:pt x="420" y="197"/>
                  <a:pt x="426" y="234"/>
                </a:cubicBezTo>
                <a:cubicBezTo>
                  <a:pt x="432" y="271"/>
                  <a:pt x="436" y="296"/>
                  <a:pt x="438" y="3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2986200" y="4044960"/>
            <a:ext cx="666720" cy="512640"/>
          </a:xfrm>
          <a:custGeom>
            <a:avLst/>
            <a:gdLst/>
            <a:ahLst/>
            <a:rect l="l" t="t" r="r" b="b"/>
            <a:pathLst>
              <a:path w="420" h="323">
                <a:moveTo>
                  <a:pt x="420" y="35"/>
                </a:moveTo>
                <a:cubicBezTo>
                  <a:pt x="397" y="38"/>
                  <a:pt x="327" y="54"/>
                  <a:pt x="282" y="53"/>
                </a:cubicBezTo>
                <a:cubicBezTo>
                  <a:pt x="237" y="52"/>
                  <a:pt x="187" y="40"/>
                  <a:pt x="150" y="32"/>
                </a:cubicBezTo>
                <a:cubicBezTo>
                  <a:pt x="113" y="24"/>
                  <a:pt x="85" y="10"/>
                  <a:pt x="60" y="5"/>
                </a:cubicBezTo>
                <a:cubicBezTo>
                  <a:pt x="35" y="0"/>
                  <a:pt x="36" y="2"/>
                  <a:pt x="0" y="5"/>
                </a:cubicBezTo>
                <a:cubicBezTo>
                  <a:pt x="3" y="62"/>
                  <a:pt x="0" y="56"/>
                  <a:pt x="0" y="95"/>
                </a:cubicBezTo>
                <a:cubicBezTo>
                  <a:pt x="0" y="134"/>
                  <a:pt x="0" y="204"/>
                  <a:pt x="0" y="242"/>
                </a:cubicBezTo>
                <a:cubicBezTo>
                  <a:pt x="0" y="280"/>
                  <a:pt x="0" y="306"/>
                  <a:pt x="0" y="32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 rot="13630800">
            <a:off x="1485720" y="3715920"/>
            <a:ext cx="243360" cy="2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70" y="95"/>
                </a:moveTo>
                <a:arcTo wR="10800" hR="10800" stAng="-5856608" swAng="12408446"/>
                <a:lnTo>
                  <a:pt x="10800" y="10800"/>
                </a:lnTo>
                <a:close/>
              </a:path>
              <a:path fill="none" w="21600" h="21600">
                <a:moveTo>
                  <a:pt x="9370" y="95"/>
                </a:moveTo>
                <a:arcTo wR="10800" hR="10800" stAng="-5856608" swAng="12408446"/>
              </a:path>
            </a:pathLst>
          </a:custGeom>
          <a:noFill/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 flipH="1" rot="8927400">
            <a:off x="3056040" y="3723120"/>
            <a:ext cx="24336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70" y="95"/>
                </a:moveTo>
                <a:arcTo wR="10800" hR="10800" stAng="-5856608" swAng="12408446"/>
                <a:lnTo>
                  <a:pt x="10800" y="10800"/>
                </a:lnTo>
                <a:close/>
              </a:path>
              <a:path fill="none" w="21600" h="21600">
                <a:moveTo>
                  <a:pt x="9370" y="95"/>
                </a:moveTo>
                <a:arcTo wR="10800" hR="10800" stAng="-5856608" swAng="12408446"/>
              </a:path>
            </a:pathLst>
          </a:custGeom>
          <a:noFill/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512640" y="2871720"/>
            <a:ext cx="37432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акции связей, соответствующ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упповым неизвестны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 заданных воздейств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 flipV="1">
            <a:off x="3679920" y="4053960"/>
            <a:ext cx="128520" cy="3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1003320" y="3975120"/>
            <a:ext cx="144360" cy="39600"/>
          </a:xfrm>
          <a:custGeom>
            <a:avLst/>
            <a:gdLst/>
            <a:ahLst/>
            <a:rect l="l" t="t" r="r" b="b"/>
            <a:pathLst>
              <a:path w="91" h="2">
                <a:moveTo>
                  <a:pt x="0" y="0"/>
                </a:moveTo>
                <a:lnTo>
                  <a:pt x="91" y="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 flipV="1">
            <a:off x="2987640" y="45781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flipH="1" flipV="1">
            <a:off x="1862280" y="4536720"/>
            <a:ext cx="17280" cy="144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 rot="2700000">
            <a:off x="1551960" y="3861360"/>
            <a:ext cx="144360" cy="5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 rot="18900000">
            <a:off x="3089160" y="3874680"/>
            <a:ext cx="144720" cy="54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 flipH="1">
            <a:off x="2976480" y="3833640"/>
            <a:ext cx="21600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1592280" y="3824280"/>
            <a:ext cx="21600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 rot="5400000">
            <a:off x="1941480" y="4008600"/>
            <a:ext cx="216000" cy="72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 flipH="1">
            <a:off x="2017800" y="393696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 flipH="1">
            <a:off x="1839960" y="4046400"/>
            <a:ext cx="21744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 rot="5086200">
            <a:off x="1816560" y="400428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 rot="5086200">
            <a:off x="1980000" y="400896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 rot="5400000">
            <a:off x="2633040" y="4008240"/>
            <a:ext cx="21600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 flipH="1">
            <a:off x="2770200" y="393696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 flipH="1">
            <a:off x="2722680" y="4054320"/>
            <a:ext cx="21744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 rot="5086200">
            <a:off x="2732400" y="401220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 rot="5086200">
            <a:off x="2901240" y="4016880"/>
            <a:ext cx="71280" cy="7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1193760" y="4048200"/>
            <a:ext cx="622440" cy="430200"/>
          </a:xfrm>
          <a:custGeom>
            <a:avLst/>
            <a:gdLst/>
            <a:ahLst/>
            <a:rect l="l" t="t" r="r" b="b"/>
            <a:pathLst>
              <a:path w="499" h="362">
                <a:moveTo>
                  <a:pt x="0" y="0"/>
                </a:moveTo>
                <a:lnTo>
                  <a:pt x="499" y="0"/>
                </a:lnTo>
                <a:lnTo>
                  <a:pt x="499" y="3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2987640" y="4044960"/>
            <a:ext cx="603360" cy="430200"/>
          </a:xfrm>
          <a:custGeom>
            <a:avLst/>
            <a:gdLst/>
            <a:ahLst/>
            <a:rect l="l" t="t" r="r" b="b"/>
            <a:pathLst>
              <a:path w="484" h="362">
                <a:moveTo>
                  <a:pt x="484" y="0"/>
                </a:moveTo>
                <a:lnTo>
                  <a:pt x="0" y="0"/>
                </a:lnTo>
                <a:lnTo>
                  <a:pt x="0" y="3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3622680" y="404640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1023840" y="4046400"/>
            <a:ext cx="1447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1816200" y="451008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2987640" y="451152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3554280" y="3882960"/>
            <a:ext cx="0" cy="212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1379520" y="3797280"/>
            <a:ext cx="0" cy="284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3419640" y="3892680"/>
            <a:ext cx="0" cy="212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 flipH="1">
            <a:off x="2508120" y="4054320"/>
            <a:ext cx="21744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2050920" y="4044960"/>
            <a:ext cx="21600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3" name=""/>
              <p:cNvSpPr txBox="1"/>
              <p:nvPr/>
            </p:nvSpPr>
            <p:spPr>
              <a:xfrm>
                <a:off x="1274760" y="3430440"/>
                <a:ext cx="442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R</m:t>
                        </m:r>
                      </m:e>
                      <m:sub>
                        <m:r>
                          <m:t xml:space="preserve">k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4" name=""/>
              <p:cNvSpPr txBox="1"/>
              <p:nvPr/>
            </p:nvSpPr>
            <p:spPr>
              <a:xfrm>
                <a:off x="2727360" y="3424320"/>
                <a:ext cx="63036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5" name=""/>
              <p:cNvSpPr txBox="1"/>
              <p:nvPr/>
            </p:nvSpPr>
            <p:spPr>
              <a:xfrm>
                <a:off x="1943280" y="4044960"/>
                <a:ext cx="42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R</m:t>
                        </m:r>
                      </m:e>
                      <m:sub>
                        <m:r>
                          <m:t xml:space="preserve">iΣ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6" name=""/>
              <p:cNvSpPr txBox="1"/>
              <p:nvPr/>
            </p:nvSpPr>
            <p:spPr>
              <a:xfrm>
                <a:off x="2371680" y="4052880"/>
                <a:ext cx="59544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R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37" name=""/>
          <p:cNvSpPr/>
          <p:nvPr/>
        </p:nvSpPr>
        <p:spPr>
          <a:xfrm>
            <a:off x="1017720" y="5634000"/>
            <a:ext cx="792000" cy="642960"/>
          </a:xfrm>
          <a:custGeom>
            <a:avLst/>
            <a:gdLst/>
            <a:ahLst/>
            <a:rect l="l" t="t" r="r" b="b"/>
            <a:pathLst>
              <a:path w="499" h="362">
                <a:moveTo>
                  <a:pt x="0" y="0"/>
                </a:moveTo>
                <a:lnTo>
                  <a:pt x="499" y="0"/>
                </a:lnTo>
                <a:lnTo>
                  <a:pt x="499" y="362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2979720" y="5630760"/>
            <a:ext cx="768240" cy="646200"/>
          </a:xfrm>
          <a:custGeom>
            <a:avLst/>
            <a:gdLst/>
            <a:ahLst/>
            <a:rect l="l" t="t" r="r" b="b"/>
            <a:pathLst>
              <a:path w="484" h="362">
                <a:moveTo>
                  <a:pt x="484" y="0"/>
                </a:moveTo>
                <a:lnTo>
                  <a:pt x="0" y="0"/>
                </a:lnTo>
                <a:lnTo>
                  <a:pt x="0" y="362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1162080" y="5602320"/>
            <a:ext cx="695160" cy="495360"/>
          </a:xfrm>
          <a:custGeom>
            <a:avLst/>
            <a:gdLst/>
            <a:ahLst/>
            <a:rect l="l" t="t" r="r" b="b"/>
            <a:pathLst>
              <a:path w="438" h="312">
                <a:moveTo>
                  <a:pt x="0" y="0"/>
                </a:moveTo>
                <a:cubicBezTo>
                  <a:pt x="10" y="3"/>
                  <a:pt x="38" y="12"/>
                  <a:pt x="63" y="21"/>
                </a:cubicBezTo>
                <a:cubicBezTo>
                  <a:pt x="88" y="30"/>
                  <a:pt x="123" y="48"/>
                  <a:pt x="153" y="54"/>
                </a:cubicBezTo>
                <a:cubicBezTo>
                  <a:pt x="183" y="60"/>
                  <a:pt x="215" y="61"/>
                  <a:pt x="246" y="57"/>
                </a:cubicBezTo>
                <a:cubicBezTo>
                  <a:pt x="277" y="53"/>
                  <a:pt x="316" y="33"/>
                  <a:pt x="342" y="27"/>
                </a:cubicBezTo>
                <a:cubicBezTo>
                  <a:pt x="368" y="21"/>
                  <a:pt x="366" y="18"/>
                  <a:pt x="402" y="21"/>
                </a:cubicBezTo>
                <a:cubicBezTo>
                  <a:pt x="405" y="66"/>
                  <a:pt x="401" y="55"/>
                  <a:pt x="405" y="90"/>
                </a:cubicBezTo>
                <a:cubicBezTo>
                  <a:pt x="409" y="125"/>
                  <a:pt x="420" y="197"/>
                  <a:pt x="426" y="234"/>
                </a:cubicBezTo>
                <a:cubicBezTo>
                  <a:pt x="432" y="271"/>
                  <a:pt x="436" y="296"/>
                  <a:pt x="438" y="3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2986200" y="5622840"/>
            <a:ext cx="666720" cy="513000"/>
          </a:xfrm>
          <a:custGeom>
            <a:avLst/>
            <a:gdLst/>
            <a:ahLst/>
            <a:rect l="l" t="t" r="r" b="b"/>
            <a:pathLst>
              <a:path w="420" h="323">
                <a:moveTo>
                  <a:pt x="420" y="35"/>
                </a:moveTo>
                <a:cubicBezTo>
                  <a:pt x="397" y="38"/>
                  <a:pt x="327" y="54"/>
                  <a:pt x="282" y="53"/>
                </a:cubicBezTo>
                <a:cubicBezTo>
                  <a:pt x="237" y="52"/>
                  <a:pt x="187" y="40"/>
                  <a:pt x="150" y="32"/>
                </a:cubicBezTo>
                <a:cubicBezTo>
                  <a:pt x="113" y="24"/>
                  <a:pt x="85" y="10"/>
                  <a:pt x="60" y="5"/>
                </a:cubicBezTo>
                <a:cubicBezTo>
                  <a:pt x="35" y="0"/>
                  <a:pt x="36" y="2"/>
                  <a:pt x="0" y="5"/>
                </a:cubicBezTo>
                <a:cubicBezTo>
                  <a:pt x="3" y="62"/>
                  <a:pt x="0" y="56"/>
                  <a:pt x="0" y="95"/>
                </a:cubicBezTo>
                <a:cubicBezTo>
                  <a:pt x="0" y="134"/>
                  <a:pt x="0" y="204"/>
                  <a:pt x="0" y="242"/>
                </a:cubicBezTo>
                <a:cubicBezTo>
                  <a:pt x="0" y="280"/>
                  <a:pt x="0" y="306"/>
                  <a:pt x="0" y="32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 rot="13630800">
            <a:off x="1485720" y="5301720"/>
            <a:ext cx="243360" cy="2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70" y="95"/>
                </a:moveTo>
                <a:arcTo wR="10800" hR="10800" stAng="-5856608" swAng="12408446"/>
                <a:lnTo>
                  <a:pt x="10800" y="10800"/>
                </a:lnTo>
                <a:close/>
              </a:path>
              <a:path fill="none" w="21600" h="21600">
                <a:moveTo>
                  <a:pt x="9370" y="95"/>
                </a:moveTo>
                <a:arcTo wR="10800" hR="10800" stAng="-5856608" swAng="12408446"/>
              </a:path>
            </a:pathLst>
          </a:custGeom>
          <a:noFill/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 flipH="1" rot="8927400">
            <a:off x="3056040" y="5308920"/>
            <a:ext cx="243360" cy="2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70" y="95"/>
                </a:moveTo>
                <a:arcTo wR="10800" hR="10800" stAng="-5856608" swAng="12408446"/>
                <a:lnTo>
                  <a:pt x="10800" y="10800"/>
                </a:lnTo>
                <a:close/>
              </a:path>
              <a:path fill="none" w="21600" h="21600">
                <a:moveTo>
                  <a:pt x="9370" y="95"/>
                </a:moveTo>
                <a:arcTo wR="10800" hR="10800" stAng="-5856608" swAng="12408446"/>
              </a:path>
            </a:pathLst>
          </a:custGeom>
          <a:noFill/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 flipV="1">
            <a:off x="3679920" y="5640480"/>
            <a:ext cx="128520" cy="31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1003320" y="5560920"/>
            <a:ext cx="144360" cy="39960"/>
          </a:xfrm>
          <a:custGeom>
            <a:avLst/>
            <a:gdLst/>
            <a:ahLst/>
            <a:rect l="l" t="t" r="r" b="b"/>
            <a:pathLst>
              <a:path w="91" h="2">
                <a:moveTo>
                  <a:pt x="0" y="0"/>
                </a:moveTo>
                <a:lnTo>
                  <a:pt x="91" y="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 flipV="1">
            <a:off x="2987640" y="61639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 flipH="1" flipV="1">
            <a:off x="1862280" y="6122880"/>
            <a:ext cx="17280" cy="144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 rot="2700000">
            <a:off x="1551600" y="5447520"/>
            <a:ext cx="144720" cy="5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 rot="18900000">
            <a:off x="3089160" y="5460480"/>
            <a:ext cx="144720" cy="54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 flipH="1">
            <a:off x="2976480" y="5419800"/>
            <a:ext cx="21600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1592280" y="5410080"/>
            <a:ext cx="21600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 rot="5400000">
            <a:off x="1941480" y="5594400"/>
            <a:ext cx="216000" cy="72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 flipH="1">
            <a:off x="2017800" y="552276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 flipH="1">
            <a:off x="1839960" y="5632560"/>
            <a:ext cx="21744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 rot="5086200">
            <a:off x="1816560" y="559008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 rot="5086200">
            <a:off x="1980000" y="559476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 rot="5400000">
            <a:off x="2633040" y="5594040"/>
            <a:ext cx="216000" cy="73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 flipH="1">
            <a:off x="2770200" y="552276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 flipH="1">
            <a:off x="2722680" y="5640480"/>
            <a:ext cx="21744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 rot="5086200">
            <a:off x="2732400" y="559800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 rot="5086200">
            <a:off x="2900880" y="5603040"/>
            <a:ext cx="71640" cy="7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3554280" y="5468760"/>
            <a:ext cx="0" cy="212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1379520" y="5383080"/>
            <a:ext cx="0" cy="28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3419640" y="5478480"/>
            <a:ext cx="0" cy="212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 flipH="1">
            <a:off x="2508120" y="5665680"/>
            <a:ext cx="21744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2050920" y="5656320"/>
            <a:ext cx="21600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6" name=""/>
              <p:cNvSpPr txBox="1"/>
              <p:nvPr/>
            </p:nvSpPr>
            <p:spPr>
              <a:xfrm>
                <a:off x="2044800" y="5068800"/>
                <a:ext cx="6444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Σ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7" name=""/>
          <p:cNvSpPr/>
          <p:nvPr/>
        </p:nvSpPr>
        <p:spPr>
          <a:xfrm>
            <a:off x="2044800" y="5587920"/>
            <a:ext cx="215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2529000" y="5594400"/>
            <a:ext cx="21564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 rot="12073200">
            <a:off x="1431720" y="5241240"/>
            <a:ext cx="298440" cy="32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401" y="5855"/>
                </a:moveTo>
                <a:arcTo wR="10800" hR="10800" stAng="-1635107" swAng="8186945"/>
                <a:lnTo>
                  <a:pt x="10800" y="10800"/>
                </a:lnTo>
                <a:close/>
              </a:path>
              <a:path fill="none" w="21600" h="21600">
                <a:moveTo>
                  <a:pt x="20401" y="5855"/>
                </a:moveTo>
                <a:arcTo wR="10800" hR="10800" stAng="-1635107" swAng="8186945"/>
              </a:path>
            </a:pathLst>
          </a:custGeom>
          <a:noFill/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 rot="17283000">
            <a:off x="3058200" y="5234760"/>
            <a:ext cx="298080" cy="32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401" y="5855"/>
                </a:moveTo>
                <a:arcTo wR="10800" hR="10800" stAng="-1635107" swAng="8186945"/>
                <a:lnTo>
                  <a:pt x="10800" y="10800"/>
                </a:lnTo>
                <a:close/>
              </a:path>
              <a:path fill="none" w="21600" h="21600">
                <a:moveTo>
                  <a:pt x="20401" y="5855"/>
                </a:moveTo>
                <a:arcTo wR="10800" hR="10800" stAng="-1635107" swAng="8186945"/>
              </a:path>
            </a:pathLst>
          </a:custGeom>
          <a:noFill/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2144880" y="5697360"/>
                <a:ext cx="49032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,</m:t>
                            </m:r>
                            <m:r>
                              <m:t xml:space="preserve">Σ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2" name=""/>
          <p:cNvSpPr/>
          <p:nvPr/>
        </p:nvSpPr>
        <p:spPr>
          <a:xfrm>
            <a:off x="2149560" y="5657760"/>
            <a:ext cx="144360" cy="14472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 flipH="1">
            <a:off x="2478240" y="5670720"/>
            <a:ext cx="117360" cy="14436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 flipH="1">
            <a:off x="2144880" y="5446800"/>
            <a:ext cx="117360" cy="1443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2535120" y="5432400"/>
            <a:ext cx="142920" cy="1443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3314880" y="4788000"/>
                <a:ext cx="6602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Σ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696960" y="4788000"/>
                <a:ext cx="6602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Σ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8" name=""/>
          <p:cNvSpPr/>
          <p:nvPr/>
        </p:nvSpPr>
        <p:spPr>
          <a:xfrm flipH="1">
            <a:off x="3289320" y="5130720"/>
            <a:ext cx="117360" cy="14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1365120" y="5110200"/>
            <a:ext cx="144720" cy="1443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0" name=""/>
              <p:cNvSpPr txBox="1"/>
              <p:nvPr/>
            </p:nvSpPr>
            <p:spPr>
              <a:xfrm>
                <a:off x="1652760" y="4861080"/>
                <a:ext cx="5238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,</m:t>
                            </m:r>
                            <m:r>
                              <m:t xml:space="preserve">Σ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1" name=""/>
              <p:cNvSpPr txBox="1"/>
              <p:nvPr/>
            </p:nvSpPr>
            <p:spPr>
              <a:xfrm>
                <a:off x="2484360" y="4861080"/>
                <a:ext cx="5238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,</m:t>
                            </m:r>
                            <m:r>
                              <m:t xml:space="preserve">Σ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2" name=""/>
          <p:cNvSpPr/>
          <p:nvPr/>
        </p:nvSpPr>
        <p:spPr>
          <a:xfrm flipH="1">
            <a:off x="1704960" y="5172120"/>
            <a:ext cx="117360" cy="14436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2968560" y="5162400"/>
            <a:ext cx="144360" cy="14472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 rot="10800000">
            <a:off x="2243160" y="4667400"/>
            <a:ext cx="287280" cy="333360"/>
          </a:xfrm>
          <a:prstGeom prst="upArrow">
            <a:avLst>
              <a:gd name="adj1" fmla="val 37157"/>
              <a:gd name="adj2" fmla="val 54571"/>
            </a:avLst>
          </a:prstGeom>
          <a:solidFill>
            <a:srgbClr val="6699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270000" y="6284880"/>
                <a:ext cx="143964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,</m:t>
                        </m:r>
                        <m:r>
                          <m:rPr>
                            <m:lit/>
                            <m:nor/>
                          </m:rPr>
                          <m:t xml:space="preserve">Σ 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270000" y="5916600"/>
                <a:ext cx="143964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,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,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7" name=""/>
              <p:cNvSpPr txBox="1"/>
              <p:nvPr/>
            </p:nvSpPr>
            <p:spPr>
              <a:xfrm>
                <a:off x="3095640" y="6283440"/>
                <a:ext cx="154764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,</m:t>
                        </m:r>
                        <m:r>
                          <m:rPr>
                            <m:lit/>
                            <m:nor/>
                          </m:rPr>
                          <m:t xml:space="preserve">Σ 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8" name=""/>
              <p:cNvSpPr txBox="1"/>
              <p:nvPr/>
            </p:nvSpPr>
            <p:spPr>
              <a:xfrm>
                <a:off x="3098880" y="5911920"/>
                <a:ext cx="154440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,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,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0" dur="indefinite" restart="never" nodeType="tmRoot">
          <p:childTnLst>
            <p:seq>
              <p:cTn id="7301" dur="indefinite" nodeType="mainSeq">
                <p:childTnLst>
                  <p:par>
                    <p:cTn id="7302" fill="hold">
                      <p:stCondLst>
                        <p:cond delay="0"/>
                      </p:stCondLst>
                      <p:childTnLst>
                        <p:par>
                          <p:cTn id="7303" fill="hold">
                            <p:stCondLst>
                              <p:cond delay="0"/>
                            </p:stCondLst>
                            <p:childTnLst>
                              <p:par>
                                <p:cTn id="73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06" dur="80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07" dur="80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8" dur="80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9" fill="hold">
                      <p:stCondLst>
                        <p:cond delay="indefinite"/>
                      </p:stCondLst>
                      <p:childTnLst>
                        <p:par>
                          <p:cTn id="7310" fill="hold">
                            <p:stCondLst>
                              <p:cond delay="0"/>
                            </p:stCondLst>
                            <p:childTnLst>
                              <p:par>
                                <p:cTn id="7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3" dur="1000" fill="hold"/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4" dur="1000" fill="hold"/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5" dur="10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8" dur="10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9" dur="10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0" dur="10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3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4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5" dur="10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8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9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0" dur="10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3" dur="10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4" dur="10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5" dur="10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8" dur="10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9" dur="10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0" dur="10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3" dur="10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4" dur="10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5" dur="10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8" dur="10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9" dur="10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0" dur="1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3" dur="10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4" dur="10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5" dur="10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8" dur="10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9" dur="10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0" dur="1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3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4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5" dur="10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8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9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0" dur="10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3" dur="10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4" dur="10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5" dur="10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8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9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0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3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4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5" dur="10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8" dur="10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9" dur="10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0" dur="10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3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4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5" dur="10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8" dur="10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9" dur="10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0" dur="10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3" dur="10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4" dur="10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5" dur="10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8" dur="10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9" dur="10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0" dur="10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3" dur="10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4" dur="10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5" dur="10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8" dur="10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9" dur="10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0" dur="10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3" dur="10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4" dur="10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5" dur="10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6" fill="hold">
                      <p:stCondLst>
                        <p:cond delay="indefinite"/>
                      </p:stCondLst>
                      <p:childTnLst>
                        <p:par>
                          <p:cTn id="7427" fill="hold">
                            <p:stCondLst>
                              <p:cond delay="0"/>
                            </p:stCondLst>
                            <p:childTnLst>
                              <p:par>
                                <p:cTn id="74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29" dur="10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32" dur="10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35" dur="10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38" dur="10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41" dur="10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44" dur="10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8" dur="10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9" dur="10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0" dur="10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3" dur="10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4" dur="10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5" dur="10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8" dur="10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9" dur="10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0" dur="10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3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4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5" dur="10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8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9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0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3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4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5" dur="10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8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9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0" dur="10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3" dur="1000" fill="hold"/>
                                        <p:tgtEl>
                                          <p:spTgt spid="1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4" dur="1000" fill="hold"/>
                                        <p:tgtEl>
                                          <p:spTgt spid="1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5" dur="10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8" dur="10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9" dur="10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0" dur="10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3" dur="10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4" dur="10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5" dur="10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8" dur="10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9" dur="10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0" dur="10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3" dur="10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4" dur="10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5" dur="10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8" dur="10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9" dur="10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0" dur="10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3" dur="1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4" dur="1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5" dur="1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8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9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0" dur="10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1" fill="hold">
                      <p:stCondLst>
                        <p:cond delay="indefinite"/>
                      </p:stCondLst>
                      <p:childTnLst>
                        <p:par>
                          <p:cTn id="7522" fill="hold">
                            <p:stCondLst>
                              <p:cond delay="0"/>
                            </p:stCondLst>
                            <p:childTnLst>
                              <p:par>
                                <p:cTn id="7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5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8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1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4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5" fill="hold">
                      <p:stCondLst>
                        <p:cond delay="indefinite"/>
                      </p:stCondLst>
                      <p:childTnLst>
                        <p:par>
                          <p:cTn id="7536" fill="hold">
                            <p:stCondLst>
                              <p:cond delay="0"/>
                            </p:stCondLst>
                            <p:childTnLst>
                              <p:par>
                                <p:cTn id="75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9" dur="10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0" dur="1000" fill="hold"/>
                                        <p:tgtEl>
                                          <p:spTgt spid="1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1" dur="1000" fill="hold"/>
                                        <p:tgtEl>
                                          <p:spTgt spid="1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4" dur="10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5" dur="10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6" dur="10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9" dur="10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0" dur="1000" fill="hold"/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1" dur="1000" fill="hold"/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4" dur="10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5" dur="10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6" dur="10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9" dur="10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0" dur="10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1" dur="10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4" dur="10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5" dur="10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6" dur="10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9" dur="10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0" dur="10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1" dur="10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4" dur="10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5" dur="10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6" dur="10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9" dur="10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0" dur="10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1" dur="10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4" dur="10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5" dur="1000" fill="hold"/>
                                        <p:tgtEl>
                                          <p:spTgt spid="1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6" dur="1000" fill="hold"/>
                                        <p:tgtEl>
                                          <p:spTgt spid="1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9" dur="10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0" dur="1000" fill="hold"/>
                                        <p:tgtEl>
                                          <p:spTgt spid="1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1" dur="1000" fill="hold"/>
                                        <p:tgtEl>
                                          <p:spTgt spid="1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4" dur="10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5" dur="10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6" dur="10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9" dur="10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0" dur="1000" fill="hold"/>
                                        <p:tgtEl>
                                          <p:spTgt spid="1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1" dur="1000" fill="hold"/>
                                        <p:tgtEl>
                                          <p:spTgt spid="1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4" dur="10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5" dur="1000" fill="hold"/>
                                        <p:tgtEl>
                                          <p:spTgt spid="1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6" dur="1000" fill="hold"/>
                                        <p:tgtEl>
                                          <p:spTgt spid="1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9" dur="10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0" dur="10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1" dur="10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4" dur="10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5" dur="10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6" dur="10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9" dur="10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0" dur="10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1" dur="10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4" dur="10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5" dur="10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6" dur="10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9" dur="10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0" dur="10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1" dur="10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4" dur="10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5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6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9" dur="10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0" dur="1000" fill="hold"/>
                                        <p:tgtEl>
                                          <p:spTgt spid="1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1" dur="1000" fill="hold"/>
                                        <p:tgtEl>
                                          <p:spTgt spid="1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4" dur="10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5" dur="10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6" dur="10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9" dur="10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0" dur="1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1" dur="1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4" dur="10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5" dur="1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6" dur="1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9" dur="10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0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1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4" dur="10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5" dur="1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6" dur="1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9" dur="10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0" dur="10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1" dur="10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4" dur="10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5" dur="10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6" dur="10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9" dur="10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0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1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4" dur="10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5" dur="1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6" dur="1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9" dur="10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0" dur="10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1" dur="10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4" dur="10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5" dur="1000" fill="hold"/>
                                        <p:tgtEl>
                                          <p:spTgt spid="1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6" dur="1000" fill="hold"/>
                                        <p:tgtEl>
                                          <p:spTgt spid="1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9" dur="10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0" dur="10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1" dur="10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4" dur="10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5" dur="10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6" dur="10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7" fill="hold">
                      <p:stCondLst>
                        <p:cond delay="indefinite"/>
                      </p:stCondLst>
                      <p:childTnLst>
                        <p:par>
                          <p:cTn id="7708" fill="hold">
                            <p:stCondLst>
                              <p:cond delay="0"/>
                            </p:stCondLst>
                            <p:childTnLst>
                              <p:par>
                                <p:cTn id="77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1" dur="10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2" dur="10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3" dur="10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6" dur="10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7" dur="10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8" dur="10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1" dur="10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2" dur="10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3" dur="10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4" fill="hold">
                      <p:stCondLst>
                        <p:cond delay="indefinite"/>
                      </p:stCondLst>
                      <p:childTnLst>
                        <p:par>
                          <p:cTn id="7725" fill="hold">
                            <p:stCondLst>
                              <p:cond delay="0"/>
                            </p:stCondLst>
                            <p:childTnLst>
                              <p:par>
                                <p:cTn id="77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8" dur="10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9" dur="10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0" dur="10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3" dur="10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4" dur="10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5" dur="10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8" dur="10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9" dur="10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0" dur="10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1" fill="hold">
                      <p:stCondLst>
                        <p:cond delay="indefinite"/>
                      </p:stCondLst>
                      <p:childTnLst>
                        <p:par>
                          <p:cTn id="7742" fill="hold">
                            <p:stCondLst>
                              <p:cond delay="0"/>
                            </p:stCondLst>
                            <p:childTnLst>
                              <p:par>
                                <p:cTn id="77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5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6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7" dur="10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0" dur="1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1" dur="1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2" dur="10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5" dur="1000" fill="hold"/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6" dur="1000" fill="hold"/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7" dur="10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0" dur="10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1" dur="10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2" dur="10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3" fill="hold">
                      <p:stCondLst>
                        <p:cond delay="indefinite"/>
                      </p:stCondLst>
                      <p:childTnLst>
                        <p:par>
                          <p:cTn id="7764" fill="hold">
                            <p:stCondLst>
                              <p:cond delay="0"/>
                            </p:stCondLst>
                            <p:childTnLst>
                              <p:par>
                                <p:cTn id="77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7" dur="1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8" dur="1000" fill="hold"/>
                                        <p:tgtEl>
                                          <p:spTgt spid="1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9" dur="10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2" dur="10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3" dur="1000" fill="hold"/>
                                        <p:tgtEl>
                                          <p:spTgt spid="1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4" dur="10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7" dur="10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8" dur="10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9" dur="10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2" dur="10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3" dur="1000" fill="hold"/>
                                        <p:tgtEl>
                                          <p:spTgt spid="1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4" dur="10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5" fill="hold">
                      <p:stCondLst>
                        <p:cond delay="indefinite"/>
                      </p:stCondLst>
                      <p:childTnLst>
                        <p:par>
                          <p:cTn id="7786" fill="hold">
                            <p:stCondLst>
                              <p:cond delay="0"/>
                            </p:stCondLst>
                            <p:childTnLst>
                              <p:par>
                                <p:cTn id="778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89" dur="10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93" dur="1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4" fill="hold">
                      <p:stCondLst>
                        <p:cond delay="indefinite"/>
                      </p:stCondLst>
                      <p:childTnLst>
                        <p:par>
                          <p:cTn id="7795" fill="hold">
                            <p:stCondLst>
                              <p:cond delay="0"/>
                            </p:stCondLst>
                            <p:childTnLst>
                              <p:par>
                                <p:cTn id="779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98" dur="20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780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802" dur="20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 Narrow"/>
              </a:rPr>
              <a:t>РАЗЛОЖЕНИЕ НАГРУЗКИ И РАЗДЕЛЕНИЕ СИСТЕМЫ ПО ОСИ СИММЕТ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3263760" y="174132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 rot="5400000">
            <a:off x="3101040" y="1702440"/>
            <a:ext cx="252360" cy="7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3255840" y="161460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 rot="5400000">
            <a:off x="5914080" y="1696320"/>
            <a:ext cx="252360" cy="7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6005520" y="161136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3983040" y="1052640"/>
            <a:ext cx="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4594320" y="765000"/>
            <a:ext cx="0" cy="180036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4535640" y="682560"/>
            <a:ext cx="107640" cy="25236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4414680" y="620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5207040" y="1052640"/>
            <a:ext cx="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3851280" y="2492280"/>
            <a:ext cx="25236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3854520" y="249228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3941640" y="245268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5083200" y="2492280"/>
            <a:ext cx="25236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5086440" y="249228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5173560" y="245268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3983040" y="105264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4560840" y="101916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816120" y="325296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 rot="5400000">
            <a:off x="653040" y="3213720"/>
            <a:ext cx="252360" cy="73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814320" y="312588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 rot="5400000">
            <a:off x="3453480" y="3213720"/>
            <a:ext cx="252360" cy="72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3544920" y="312588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1535040" y="2563920"/>
            <a:ext cx="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2146320" y="2071800"/>
            <a:ext cx="0" cy="18000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2097000" y="1989000"/>
            <a:ext cx="108000" cy="25272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1967040" y="19335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2759040" y="2563920"/>
            <a:ext cx="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1403280" y="4003560"/>
            <a:ext cx="25236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1406520" y="40035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1494000" y="39639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2635200" y="4003560"/>
            <a:ext cx="25236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2638440" y="40035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2725560" y="39639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1535040" y="256392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2112840" y="253044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5567400" y="325296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 rot="5400000">
            <a:off x="5404320" y="3213720"/>
            <a:ext cx="25236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5559480" y="312408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 rot="5400000">
            <a:off x="8217360" y="3216960"/>
            <a:ext cx="252360" cy="73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8308800" y="312912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6286680" y="2563920"/>
            <a:ext cx="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6897600" y="2276640"/>
            <a:ext cx="0" cy="18000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6848640" y="2193840"/>
            <a:ext cx="107640" cy="25236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6718320" y="21319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7510320" y="2563920"/>
            <a:ext cx="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6154560" y="4003560"/>
            <a:ext cx="252720" cy="73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6157800" y="40035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6245280" y="39639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7386480" y="4003560"/>
            <a:ext cx="252720" cy="73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389720" y="40035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7477200" y="39639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6286680" y="2563920"/>
            <a:ext cx="122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6864480" y="253044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3419640" y="1252440"/>
            <a:ext cx="542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flipV="1" rot="13033800">
            <a:off x="3813120" y="2033640"/>
            <a:ext cx="326160" cy="32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54" y="3826"/>
                </a:moveTo>
                <a:arcTo wR="10800" hR="10800" stAng="-8386739" swAng="13340897"/>
                <a:lnTo>
                  <a:pt x="10800" y="10800"/>
                </a:lnTo>
                <a:close/>
              </a:path>
              <a:path fill="none" w="21600" h="21600">
                <a:moveTo>
                  <a:pt x="2554" y="3826"/>
                </a:moveTo>
                <a:arcTo wR="10800" hR="10800" stAng="-8386739" swAng="1334089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3349800" y="155736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3494160" y="155736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3637080" y="155736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3781440" y="155736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3349800" y="155736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3419640" y="907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3433680" y="1198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3505320" y="183816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1187280" y="2781360"/>
            <a:ext cx="32724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5973840" y="2781360"/>
            <a:ext cx="326880" cy="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7162920" y="2781360"/>
            <a:ext cx="326880" cy="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2771280" y="2781360"/>
            <a:ext cx="32076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 flipV="1" rot="13033800">
            <a:off x="1360440" y="3524400"/>
            <a:ext cx="326160" cy="32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54" y="3826"/>
                </a:moveTo>
                <a:arcTo wR="10800" hR="10800" stAng="-8386739" swAng="13340897"/>
                <a:lnTo>
                  <a:pt x="10800" y="10800"/>
                </a:lnTo>
                <a:close/>
              </a:path>
              <a:path fill="none" w="21600" h="21600">
                <a:moveTo>
                  <a:pt x="2554" y="3826"/>
                </a:moveTo>
                <a:arcTo wR="10800" hR="10800" stAng="-8386739" swAng="13340897"/>
              </a:path>
            </a:pathLst>
          </a:custGeom>
          <a:noFill/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 flipV="1" rot="13033800">
            <a:off x="6126120" y="3544920"/>
            <a:ext cx="326160" cy="32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54" y="3826"/>
                </a:moveTo>
                <a:arcTo wR="10800" hR="10800" stAng="-8386739" swAng="13340897"/>
                <a:lnTo>
                  <a:pt x="10800" y="10800"/>
                </a:lnTo>
                <a:close/>
              </a:path>
              <a:path fill="none" w="21600" h="21600">
                <a:moveTo>
                  <a:pt x="2554" y="3826"/>
                </a:moveTo>
                <a:arcTo wR="10800" hR="10800" stAng="-8386739" swAng="13340897"/>
              </a:path>
            </a:pathLst>
          </a:custGeom>
          <a:noFill/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 flipV="1" rot="13033800">
            <a:off x="7369560" y="3558960"/>
            <a:ext cx="325080" cy="32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54" y="3826"/>
                </a:moveTo>
                <a:arcTo wR="10800" hR="10800" stAng="-8386739" swAng="13340897"/>
                <a:lnTo>
                  <a:pt x="10800" y="10800"/>
                </a:lnTo>
                <a:close/>
              </a:path>
              <a:path fill="none" w="21600" h="21600">
                <a:moveTo>
                  <a:pt x="2554" y="3826"/>
                </a:moveTo>
                <a:arcTo wR="10800" hR="10800" stAng="-8386739" swAng="13340897"/>
              </a:path>
            </a:pathLst>
          </a:custGeom>
          <a:noFill/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 flipH="1" flipV="1" rot="7770000">
            <a:off x="2594880" y="3526920"/>
            <a:ext cx="327240" cy="32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54" y="3826"/>
                </a:moveTo>
                <a:arcTo wR="10800" hR="10800" stAng="-8386739" swAng="13340897"/>
                <a:lnTo>
                  <a:pt x="10800" y="10800"/>
                </a:lnTo>
                <a:close/>
              </a:path>
              <a:path fill="none" w="21600" h="21600">
                <a:moveTo>
                  <a:pt x="2554" y="3826"/>
                </a:moveTo>
                <a:arcTo wR="10800" hR="10800" stAng="-8386739" swAng="13340897"/>
              </a:path>
            </a:pathLst>
          </a:custGeom>
          <a:noFill/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909720" y="3062160"/>
            <a:ext cx="0" cy="1796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1054080" y="3062160"/>
            <a:ext cx="0" cy="1796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1197000" y="3062160"/>
            <a:ext cx="0" cy="1796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1341360" y="3062160"/>
            <a:ext cx="0" cy="1796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909720" y="3062160"/>
            <a:ext cx="431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684360" y="2744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2987640" y="3062160"/>
            <a:ext cx="0" cy="1796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3132000" y="3062160"/>
            <a:ext cx="0" cy="1796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3274920" y="3062160"/>
            <a:ext cx="0" cy="1796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3419640" y="3062160"/>
            <a:ext cx="0" cy="1796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2987640" y="3062160"/>
            <a:ext cx="4320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5664240" y="3062160"/>
            <a:ext cx="0" cy="17964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5808600" y="3062160"/>
            <a:ext cx="0" cy="17964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5951520" y="3062160"/>
            <a:ext cx="0" cy="17964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6095880" y="3062160"/>
            <a:ext cx="0" cy="17964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5664240" y="3062160"/>
            <a:ext cx="431640" cy="0"/>
          </a:xfrm>
          <a:prstGeom prst="line">
            <a:avLst/>
          </a:prstGeom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 flipV="1">
            <a:off x="7740720" y="3262320"/>
            <a:ext cx="0" cy="17928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7734240" y="3440160"/>
            <a:ext cx="432000" cy="0"/>
          </a:xfrm>
          <a:prstGeom prst="line">
            <a:avLst/>
          </a:prstGeom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 flipV="1">
            <a:off x="8028000" y="3259080"/>
            <a:ext cx="0" cy="17928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 flipV="1">
            <a:off x="8172360" y="3259080"/>
            <a:ext cx="0" cy="17928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 flipV="1">
            <a:off x="7885080" y="3265560"/>
            <a:ext cx="0" cy="17928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3348000" y="27558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5423040" y="27558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7805880" y="33685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868320" y="24462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2884320" y="24462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5645160" y="24606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6948360" y="27558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6837480" y="37036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5638680" y="37036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873000" y="36972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2809800" y="3691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468360" y="1522440"/>
            <a:ext cx="1655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 Narrow"/>
              </a:rPr>
              <a:t>Симметричная составляющая нагруз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6732720" y="1522440"/>
            <a:ext cx="2160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 Narrow"/>
              </a:rPr>
              <a:t>Обратносимметричная составляющая нагруз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 rot="13903200">
            <a:off x="4065480" y="2409840"/>
            <a:ext cx="192240" cy="620640"/>
          </a:xfrm>
          <a:prstGeom prst="upArrow">
            <a:avLst>
              <a:gd name="adj1" fmla="val 40361"/>
              <a:gd name="adj2" fmla="val 97945"/>
            </a:avLst>
          </a:prstGeom>
          <a:solidFill>
            <a:srgbClr val="f62e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 rot="7574400">
            <a:off x="4965120" y="2426760"/>
            <a:ext cx="191880" cy="621000"/>
          </a:xfrm>
          <a:prstGeom prst="upArrow">
            <a:avLst>
              <a:gd name="adj1" fmla="val 40361"/>
              <a:gd name="adj2" fmla="val 98185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3" dur="indefinite" restart="never" nodeType="tmRoot">
          <p:childTnLst>
            <p:seq>
              <p:cTn id="7804" dur="indefinite" nodeType="mainSeq">
                <p:childTnLst>
                  <p:par>
                    <p:cTn id="7805" fill="hold">
                      <p:stCondLst>
                        <p:cond delay="0"/>
                      </p:stCondLst>
                      <p:childTnLst>
                        <p:par>
                          <p:cTn id="7806" fill="hold">
                            <p:stCondLst>
                              <p:cond delay="0"/>
                            </p:stCondLst>
                            <p:childTnLst>
                              <p:par>
                                <p:cTn id="78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9" dur="80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0" dur="80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1" dur="80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2" fill="hold">
                      <p:stCondLst>
                        <p:cond delay="indefinite"/>
                      </p:stCondLst>
                      <p:childTnLst>
                        <p:par>
                          <p:cTn id="7813" fill="hold">
                            <p:stCondLst>
                              <p:cond delay="0"/>
                            </p:stCondLst>
                            <p:childTnLst>
                              <p:par>
                                <p:cTn id="78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6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9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2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5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8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1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4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7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0" dur="5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3" dur="5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6" dur="5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9" dur="5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2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5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8" dur="5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1" dur="5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4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7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0" dur="5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3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6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9" dur="5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2" dur="5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5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8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1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4" dur="5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7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8" fill="hold">
                      <p:stCondLst>
                        <p:cond delay="indefinite"/>
                      </p:stCondLst>
                      <p:childTnLst>
                        <p:par>
                          <p:cTn id="7899" fill="hold">
                            <p:stCondLst>
                              <p:cond delay="0"/>
                            </p:stCondLst>
                            <p:childTnLst>
                              <p:par>
                                <p:cTn id="7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2" dur="5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5" dur="500"/>
                                        <p:tgtEl>
                                          <p:spTgt spid="2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6" fill="hold">
                            <p:stCondLst>
                              <p:cond delay="500"/>
                            </p:stCondLst>
                            <p:childTnLst>
                              <p:par>
                                <p:cTn id="79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9" dur="500"/>
                                        <p:tgtEl>
                                          <p:spTgt spid="2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2" dur="10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3" dur="1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4" dur="1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7" dur="10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8" dur="1000" fill="hold"/>
                                        <p:tgtEl>
                                          <p:spTgt spid="2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9" dur="1000" fill="hold"/>
                                        <p:tgtEl>
                                          <p:spTgt spid="2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2" dur="10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3" dur="1000" fill="hold"/>
                                        <p:tgtEl>
                                          <p:spTgt spid="2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4" dur="1000" fill="hold"/>
                                        <p:tgtEl>
                                          <p:spTgt spid="2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7" dur="1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8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9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2" dur="10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3" dur="1000" fill="hold"/>
                                        <p:tgtEl>
                                          <p:spTgt spid="2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4" dur="1000" fill="hold"/>
                                        <p:tgtEl>
                                          <p:spTgt spid="2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7" dur="10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8" dur="1000" fill="hold"/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9" dur="1000" fill="hold"/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2" dur="10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3" dur="10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4" dur="10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7" dur="10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8" dur="10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9" dur="10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2" dur="10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3" dur="1000" fill="hold"/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4" dur="1000" fill="hold"/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7" dur="10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8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9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2" dur="10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3" dur="10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4" dur="10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7" dur="10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8" dur="10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9" dur="10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2" dur="10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3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4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7" dur="10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8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9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2" dur="10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3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4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7" dur="10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8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9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2" dur="10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3" dur="10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4" dur="10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7" dur="10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8" dur="1000" fill="hold"/>
                                        <p:tgtEl>
                                          <p:spTgt spid="2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9" dur="1000" fill="hold"/>
                                        <p:tgtEl>
                                          <p:spTgt spid="2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2" dur="10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3" dur="10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4" dur="10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7" dur="10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8" dur="1000" fill="hold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9" dur="1000" fill="hold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2" dur="10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3" dur="10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4" dur="10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7" dur="10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8" dur="10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9" dur="10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2" dur="10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3" dur="10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4" dur="10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7" dur="1000"/>
                                        <p:tgtEl>
                                          <p:spTgt spid="20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8" dur="10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9" dur="10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2" dur="10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3" dur="1000" fill="hold"/>
                                        <p:tgtEl>
                                          <p:spTgt spid="2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4" dur="1000" fill="hold"/>
                                        <p:tgtEl>
                                          <p:spTgt spid="2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7" dur="1000"/>
                                        <p:tgtEl>
                                          <p:spTgt spid="20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8" dur="1000" fill="hold"/>
                                        <p:tgtEl>
                                          <p:spTgt spid="2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9" dur="1000" fill="hold"/>
                                        <p:tgtEl>
                                          <p:spTgt spid="2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2" dur="1000"/>
                                        <p:tgtEl>
                                          <p:spTgt spid="20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3" dur="10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4" dur="10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7" dur="1000"/>
                                        <p:tgtEl>
                                          <p:spTgt spid="20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8" dur="1000" fill="hold"/>
                                        <p:tgtEl>
                                          <p:spTgt spid="2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9" dur="1000" fill="hold"/>
                                        <p:tgtEl>
                                          <p:spTgt spid="2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2" dur="1000"/>
                                        <p:tgtEl>
                                          <p:spTgt spid="20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3" dur="10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4" dur="10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7" dur="1000"/>
                                        <p:tgtEl>
                                          <p:spTgt spid="20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8" dur="10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9" dur="10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2" dur="1000"/>
                                        <p:tgtEl>
                                          <p:spTgt spid="20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3" dur="10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4" dur="10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7" dur="1000"/>
                                        <p:tgtEl>
                                          <p:spTgt spid="20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8" dur="10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9" dur="10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2" dur="10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3" dur="10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4" dur="10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7" dur="1000"/>
                                        <p:tgtEl>
                                          <p:spTgt spid="20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8" dur="10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9" dur="10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2" dur="10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3" dur="10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4" dur="10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7" dur="10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8" dur="10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9" dur="10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2" dur="10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3" dur="1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4" dur="1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7" dur="1000"/>
                                        <p:tgtEl>
                                          <p:spTgt spid="20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8" dur="1000" fill="hold"/>
                                        <p:tgtEl>
                                          <p:spTgt spid="2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9" dur="1000" fill="hold"/>
                                        <p:tgtEl>
                                          <p:spTgt spid="2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3" dur="5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6" dur="1000"/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7" dur="1000" fill="hold"/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8" dur="1000" fill="hold"/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1" dur="10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2" dur="10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3" dur="10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6" dur="10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7" dur="10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8" dur="10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1" dur="10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2" dur="10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3" dur="10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6" dur="10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7" dur="10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8" dur="10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1" dur="10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2" dur="1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3" dur="1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6" dur="10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7" dur="1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8" dur="1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1" dur="10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2" dur="10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3" dur="10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6" dur="10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7" dur="1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8" dur="1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1" dur="10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2" dur="10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3" dur="10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6" dur="1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7" dur="10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8" dur="10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1" dur="10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2" dur="10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3" dur="10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6" dur="10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7" dur="1000" fill="hold"/>
                                        <p:tgtEl>
                                          <p:spTgt spid="2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8" dur="1000" fill="hold"/>
                                        <p:tgtEl>
                                          <p:spTgt spid="2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1" dur="10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2" dur="1000" fill="hold"/>
                                        <p:tgtEl>
                                          <p:spTgt spid="2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3" dur="1000" fill="hold"/>
                                        <p:tgtEl>
                                          <p:spTgt spid="2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6" dur="10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7" dur="1000" fill="hold"/>
                                        <p:tgtEl>
                                          <p:spTgt spid="2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8" dur="1000" fill="hold"/>
                                        <p:tgtEl>
                                          <p:spTgt spid="2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1" dur="10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2" dur="1000" fill="hold"/>
                                        <p:tgtEl>
                                          <p:spTgt spid="2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3" dur="1000" fill="hold"/>
                                        <p:tgtEl>
                                          <p:spTgt spid="2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6" dur="10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7" dur="1000" fill="hold"/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8" dur="1000" fill="hold"/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1" dur="10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2" dur="1000" fill="hold"/>
                                        <p:tgtEl>
                                          <p:spTgt spid="2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3" dur="1000" fill="hold"/>
                                        <p:tgtEl>
                                          <p:spTgt spid="2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6" dur="10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7" dur="10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8" dur="10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1" dur="10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2" dur="1000" fill="hold"/>
                                        <p:tgtEl>
                                          <p:spTgt spid="2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3" dur="1000" fill="hold"/>
                                        <p:tgtEl>
                                          <p:spTgt spid="2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6" dur="100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7" dur="1000" fill="hold"/>
                                        <p:tgtEl>
                                          <p:spTgt spid="2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8" dur="1000" fill="hold"/>
                                        <p:tgtEl>
                                          <p:spTgt spid="2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1" dur="10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2" dur="10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3" dur="1000" fill="hold"/>
                                        <p:tgtEl>
                                          <p:spTgt spid="2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6" dur="1000"/>
                                        <p:tgtEl>
                                          <p:spTgt spid="20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7" dur="1000" fill="hold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8" dur="1000" fill="hold"/>
                                        <p:tgtEl>
                                          <p:spTgt spid="2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1" dur="1000"/>
                                        <p:tgtEl>
                                          <p:spTgt spid="20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2" dur="10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3" dur="10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6" dur="10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7" dur="10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8" dur="10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1" dur="1000"/>
                                        <p:tgtEl>
                                          <p:spTgt spid="20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2" dur="10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3" dur="10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6" dur="1000"/>
                                        <p:tgtEl>
                                          <p:spTgt spid="20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7" dur="10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8" dur="10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1" dur="10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2" dur="1000" fill="hold"/>
                                        <p:tgtEl>
                                          <p:spTgt spid="2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3" dur="1000" fill="hold"/>
                                        <p:tgtEl>
                                          <p:spTgt spid="2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6" dur="1000"/>
                                        <p:tgtEl>
                                          <p:spTgt spid="20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7" dur="10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8" dur="10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1" dur="1000"/>
                                        <p:tgtEl>
                                          <p:spTgt spid="20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2" dur="10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3" dur="10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6" dur="10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7" dur="1000" fill="hold"/>
                                        <p:tgtEl>
                                          <p:spTgt spid="2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8" dur="1000" fill="hold"/>
                                        <p:tgtEl>
                                          <p:spTgt spid="2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1" dur="1000"/>
                                        <p:tgtEl>
                                          <p:spTgt spid="20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2" dur="1000" fill="hold"/>
                                        <p:tgtEl>
                                          <p:spTgt spid="2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3" dur="1000" fill="hold"/>
                                        <p:tgtEl>
                                          <p:spTgt spid="2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6" dur="10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7" dur="10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8" dur="10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1" dur="1000"/>
                                        <p:tgtEl>
                                          <p:spTgt spid="20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2" dur="10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3" dur="10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6" dur="1000"/>
                                        <p:tgtEl>
                                          <p:spTgt spid="20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7" dur="10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8" dur="10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1" dur="1000"/>
                                        <p:tgtEl>
                                          <p:spTgt spid="20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2" dur="10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3" dur="10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6" dur="10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7" dur="1000" fill="hold"/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8" dur="1000" fill="hold"/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1" dur="10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2" dur="1000" fill="hold"/>
                                        <p:tgtEl>
                                          <p:spTgt spid="2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3" dur="1000" fill="hold"/>
                                        <p:tgtEl>
                                          <p:spTgt spid="2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 Narrow"/>
              </a:rPr>
              <a:t>РАЗЛОЖЕНИЕ НАГРУЗКИ И РАЗДЕЛЕНИЕ СИСТЕМЫ ПО ОСИ СИММЕТ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3263760" y="174132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 rot="5400000">
            <a:off x="3107160" y="1710360"/>
            <a:ext cx="252360" cy="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3262320" y="161604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 rot="5400000">
            <a:off x="5907600" y="1710360"/>
            <a:ext cx="252360" cy="7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6005520" y="161604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3983040" y="1052640"/>
            <a:ext cx="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4594320" y="765000"/>
            <a:ext cx="0" cy="180036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4535640" y="682560"/>
            <a:ext cx="107640" cy="25236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4414680" y="620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5207040" y="1052640"/>
            <a:ext cx="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3851280" y="2492280"/>
            <a:ext cx="25236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3854520" y="249228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3941640" y="245268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5083200" y="2492280"/>
            <a:ext cx="25236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5086440" y="249228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5173560" y="245268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3983040" y="105264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4560840" y="101916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816120" y="3252960"/>
            <a:ext cx="273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 rot="5400000">
            <a:off x="659160" y="3220200"/>
            <a:ext cx="252360" cy="73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820800" y="3132000"/>
            <a:ext cx="0" cy="2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 rot="5400000">
            <a:off x="3447000" y="3215520"/>
            <a:ext cx="25236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3544920" y="312732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1535040" y="2563920"/>
            <a:ext cx="0" cy="1439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2146320" y="2071800"/>
            <a:ext cx="0" cy="18000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2097000" y="1989000"/>
            <a:ext cx="108000" cy="25272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1967040" y="19270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2759040" y="2563920"/>
            <a:ext cx="0" cy="1439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1403280" y="4003560"/>
            <a:ext cx="25236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1406520" y="40035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1494000" y="39639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2635200" y="4003560"/>
            <a:ext cx="25236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2638440" y="40035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2725560" y="39639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1535040" y="2563920"/>
            <a:ext cx="1224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 rot="5400000">
            <a:off x="5405760" y="3215520"/>
            <a:ext cx="25236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5568840" y="312120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 rot="5400000">
            <a:off x="8171280" y="3199680"/>
            <a:ext cx="252360" cy="73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8259840" y="311004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6286680" y="2563920"/>
            <a:ext cx="0" cy="1439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6897600" y="2282760"/>
            <a:ext cx="0" cy="180036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6848640" y="2193840"/>
            <a:ext cx="107640" cy="25236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6719760" y="21319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7510320" y="2563920"/>
            <a:ext cx="0" cy="1439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6154560" y="4003560"/>
            <a:ext cx="252720" cy="73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6157800" y="40035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6245280" y="39639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7386480" y="4003560"/>
            <a:ext cx="252720" cy="73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7389720" y="40035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7477200" y="39639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6286680" y="2563920"/>
            <a:ext cx="1223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3419640" y="1252440"/>
            <a:ext cx="542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 flipV="1" rot="13033800">
            <a:off x="3813120" y="2033640"/>
            <a:ext cx="326160" cy="32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54" y="3826"/>
                </a:moveTo>
                <a:arcTo wR="10800" hR="10800" stAng="-8386739" swAng="13340897"/>
                <a:lnTo>
                  <a:pt x="10800" y="10800"/>
                </a:lnTo>
                <a:close/>
              </a:path>
              <a:path fill="none" w="21600" h="21600">
                <a:moveTo>
                  <a:pt x="2554" y="3826"/>
                </a:moveTo>
                <a:arcTo wR="10800" hR="10800" stAng="-8386739" swAng="1334089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3348000" y="155736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3492360" y="155736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3635280" y="155736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3780000" y="155736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3348000" y="155736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3419640" y="907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3432240" y="12016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3505320" y="183816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1249200" y="2781360"/>
            <a:ext cx="32724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6004080" y="2781360"/>
            <a:ext cx="326880" cy="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7237440" y="2781360"/>
            <a:ext cx="326880" cy="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 flipH="1">
            <a:off x="2680920" y="2781360"/>
            <a:ext cx="32076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 flipV="1" rot="13033800">
            <a:off x="1452960" y="3524040"/>
            <a:ext cx="325080" cy="32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54" y="3826"/>
                </a:moveTo>
                <a:arcTo wR="10800" hR="10800" stAng="-8386739" swAng="13340897"/>
                <a:lnTo>
                  <a:pt x="10800" y="10800"/>
                </a:lnTo>
                <a:close/>
              </a:path>
              <a:path fill="none" w="21600" h="21600">
                <a:moveTo>
                  <a:pt x="2554" y="3826"/>
                </a:moveTo>
                <a:arcTo wR="10800" hR="10800" stAng="-8386739" swAng="13340897"/>
              </a:path>
            </a:pathLst>
          </a:custGeom>
          <a:noFill/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 flipV="1" rot="13033800">
            <a:off x="6190200" y="3544560"/>
            <a:ext cx="325080" cy="32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54" y="3826"/>
                </a:moveTo>
                <a:arcTo wR="10800" hR="10800" stAng="-8386739" swAng="13340897"/>
                <a:lnTo>
                  <a:pt x="10800" y="10800"/>
                </a:lnTo>
                <a:close/>
              </a:path>
              <a:path fill="none" w="21600" h="21600">
                <a:moveTo>
                  <a:pt x="2554" y="3826"/>
                </a:moveTo>
                <a:arcTo wR="10800" hR="10800" stAng="-8386739" swAng="13340897"/>
              </a:path>
            </a:pathLst>
          </a:custGeom>
          <a:noFill/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 flipV="1" rot="13033800">
            <a:off x="7414200" y="3558960"/>
            <a:ext cx="325080" cy="32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54" y="3826"/>
                </a:moveTo>
                <a:arcTo wR="10800" hR="10800" stAng="-8386739" swAng="13340897"/>
                <a:lnTo>
                  <a:pt x="10800" y="10800"/>
                </a:lnTo>
                <a:close/>
              </a:path>
              <a:path fill="none" w="21600" h="21600">
                <a:moveTo>
                  <a:pt x="2554" y="3826"/>
                </a:moveTo>
                <a:arcTo wR="10800" hR="10800" stAng="-8386739" swAng="13340897"/>
              </a:path>
            </a:pathLst>
          </a:custGeom>
          <a:noFill/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 flipH="1" flipV="1" rot="7770000">
            <a:off x="2532960" y="3526920"/>
            <a:ext cx="327240" cy="32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54" y="3826"/>
                </a:moveTo>
                <a:arcTo wR="10800" hR="10800" stAng="-8386739" swAng="13340897"/>
                <a:lnTo>
                  <a:pt x="10800" y="10800"/>
                </a:lnTo>
                <a:close/>
              </a:path>
              <a:path fill="none" w="21600" h="21600">
                <a:moveTo>
                  <a:pt x="2554" y="3826"/>
                </a:moveTo>
                <a:arcTo wR="10800" hR="10800" stAng="-8386739" swAng="13340897"/>
              </a:path>
            </a:pathLst>
          </a:custGeom>
          <a:noFill/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909720" y="3087720"/>
            <a:ext cx="0" cy="1792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1054080" y="3087720"/>
            <a:ext cx="0" cy="1792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1197000" y="3087720"/>
            <a:ext cx="0" cy="1792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1341360" y="3087720"/>
            <a:ext cx="0" cy="1792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909720" y="3087720"/>
            <a:ext cx="431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684360" y="2762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2987640" y="3073320"/>
            <a:ext cx="0" cy="1796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3132000" y="3073320"/>
            <a:ext cx="0" cy="1796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3274920" y="3073320"/>
            <a:ext cx="0" cy="1796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3419640" y="3073320"/>
            <a:ext cx="0" cy="1796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2987640" y="3073320"/>
            <a:ext cx="4320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5668920" y="3087720"/>
            <a:ext cx="0" cy="17928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5813280" y="3087720"/>
            <a:ext cx="0" cy="17928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5956200" y="3087720"/>
            <a:ext cx="0" cy="17928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6100920" y="3087720"/>
            <a:ext cx="0" cy="17928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5670720" y="3087720"/>
            <a:ext cx="431640" cy="0"/>
          </a:xfrm>
          <a:prstGeom prst="line">
            <a:avLst/>
          </a:prstGeom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 flipV="1">
            <a:off x="7728120" y="3246480"/>
            <a:ext cx="0" cy="17928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7721640" y="3424320"/>
            <a:ext cx="431640" cy="0"/>
          </a:xfrm>
          <a:prstGeom prst="line">
            <a:avLst/>
          </a:prstGeom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 flipV="1">
            <a:off x="8015400" y="3243240"/>
            <a:ext cx="0" cy="17928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 flipV="1">
            <a:off x="8153280" y="3243240"/>
            <a:ext cx="0" cy="17928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 flipV="1">
            <a:off x="7872480" y="3249720"/>
            <a:ext cx="0" cy="17928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3348000" y="27748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599080" y="272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774072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868320" y="24462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2884320" y="24462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5664240" y="24606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6878520" y="2736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6850080" y="36846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5632560" y="36846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946080" y="36972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2778120" y="3691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468360" y="1522440"/>
            <a:ext cx="1655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 Narrow"/>
              </a:rPr>
              <a:t>Симметричная составляющая нагруз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6732720" y="1522440"/>
            <a:ext cx="2160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 Narrow"/>
              </a:rPr>
              <a:t>Обратносимметричная составляющая нагруз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 rot="13903200">
            <a:off x="4065480" y="2409840"/>
            <a:ext cx="192240" cy="620640"/>
          </a:xfrm>
          <a:prstGeom prst="upArrow">
            <a:avLst>
              <a:gd name="adj1" fmla="val 40361"/>
              <a:gd name="adj2" fmla="val 97945"/>
            </a:avLst>
          </a:prstGeom>
          <a:solidFill>
            <a:srgbClr val="f62e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 rot="7574400">
            <a:off x="4965120" y="2426760"/>
            <a:ext cx="191880" cy="621000"/>
          </a:xfrm>
          <a:prstGeom prst="upArrow">
            <a:avLst>
              <a:gd name="adj1" fmla="val 40361"/>
              <a:gd name="adj2" fmla="val 98185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825480" y="3116160"/>
            <a:ext cx="2711520" cy="216000"/>
          </a:xfrm>
          <a:custGeom>
            <a:avLst/>
            <a:gdLst/>
            <a:ahLst/>
            <a:rect l="l" t="t" r="r" b="b"/>
            <a:pathLst>
              <a:path w="1708" h="136">
                <a:moveTo>
                  <a:pt x="0" y="93"/>
                </a:moveTo>
                <a:cubicBezTo>
                  <a:pt x="9" y="94"/>
                  <a:pt x="27" y="92"/>
                  <a:pt x="52" y="97"/>
                </a:cubicBezTo>
                <a:cubicBezTo>
                  <a:pt x="77" y="102"/>
                  <a:pt x="119" y="115"/>
                  <a:pt x="148" y="121"/>
                </a:cubicBezTo>
                <a:cubicBezTo>
                  <a:pt x="177" y="127"/>
                  <a:pt x="197" y="132"/>
                  <a:pt x="228" y="133"/>
                </a:cubicBezTo>
                <a:cubicBezTo>
                  <a:pt x="259" y="134"/>
                  <a:pt x="295" y="136"/>
                  <a:pt x="332" y="129"/>
                </a:cubicBezTo>
                <a:cubicBezTo>
                  <a:pt x="369" y="122"/>
                  <a:pt x="403" y="108"/>
                  <a:pt x="448" y="93"/>
                </a:cubicBezTo>
                <a:cubicBezTo>
                  <a:pt x="493" y="78"/>
                  <a:pt x="536" y="52"/>
                  <a:pt x="600" y="37"/>
                </a:cubicBezTo>
                <a:cubicBezTo>
                  <a:pt x="664" y="22"/>
                  <a:pt x="755" y="2"/>
                  <a:pt x="832" y="1"/>
                </a:cubicBezTo>
                <a:cubicBezTo>
                  <a:pt x="909" y="0"/>
                  <a:pt x="997" y="19"/>
                  <a:pt x="1060" y="33"/>
                </a:cubicBezTo>
                <a:cubicBezTo>
                  <a:pt x="1123" y="47"/>
                  <a:pt x="1162" y="70"/>
                  <a:pt x="1212" y="85"/>
                </a:cubicBezTo>
                <a:cubicBezTo>
                  <a:pt x="1262" y="100"/>
                  <a:pt x="1317" y="117"/>
                  <a:pt x="1360" y="125"/>
                </a:cubicBezTo>
                <a:cubicBezTo>
                  <a:pt x="1403" y="133"/>
                  <a:pt x="1434" y="134"/>
                  <a:pt x="1468" y="133"/>
                </a:cubicBezTo>
                <a:cubicBezTo>
                  <a:pt x="1502" y="132"/>
                  <a:pt x="1533" y="127"/>
                  <a:pt x="1564" y="121"/>
                </a:cubicBezTo>
                <a:cubicBezTo>
                  <a:pt x="1595" y="115"/>
                  <a:pt x="1628" y="102"/>
                  <a:pt x="1652" y="97"/>
                </a:cubicBezTo>
                <a:cubicBezTo>
                  <a:pt x="1676" y="92"/>
                  <a:pt x="1696" y="91"/>
                  <a:pt x="1708" y="8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1509840" y="2571840"/>
            <a:ext cx="125280" cy="1396800"/>
          </a:xfrm>
          <a:custGeom>
            <a:avLst/>
            <a:gdLst/>
            <a:ahLst/>
            <a:rect l="l" t="t" r="r" b="b"/>
            <a:pathLst>
              <a:path w="79" h="880">
                <a:moveTo>
                  <a:pt x="13" y="0"/>
                </a:moveTo>
                <a:cubicBezTo>
                  <a:pt x="22" y="22"/>
                  <a:pt x="60" y="95"/>
                  <a:pt x="69" y="132"/>
                </a:cubicBezTo>
                <a:cubicBezTo>
                  <a:pt x="78" y="169"/>
                  <a:pt x="76" y="192"/>
                  <a:pt x="69" y="222"/>
                </a:cubicBezTo>
                <a:cubicBezTo>
                  <a:pt x="62" y="252"/>
                  <a:pt x="35" y="283"/>
                  <a:pt x="24" y="313"/>
                </a:cubicBezTo>
                <a:cubicBezTo>
                  <a:pt x="13" y="343"/>
                  <a:pt x="2" y="380"/>
                  <a:pt x="1" y="400"/>
                </a:cubicBezTo>
                <a:cubicBezTo>
                  <a:pt x="0" y="420"/>
                  <a:pt x="11" y="420"/>
                  <a:pt x="17" y="436"/>
                </a:cubicBezTo>
                <a:cubicBezTo>
                  <a:pt x="23" y="452"/>
                  <a:pt x="32" y="473"/>
                  <a:pt x="37" y="496"/>
                </a:cubicBezTo>
                <a:cubicBezTo>
                  <a:pt x="42" y="519"/>
                  <a:pt x="42" y="535"/>
                  <a:pt x="49" y="572"/>
                </a:cubicBezTo>
                <a:cubicBezTo>
                  <a:pt x="56" y="609"/>
                  <a:pt x="75" y="679"/>
                  <a:pt x="77" y="720"/>
                </a:cubicBezTo>
                <a:cubicBezTo>
                  <a:pt x="79" y="761"/>
                  <a:pt x="71" y="789"/>
                  <a:pt x="61" y="816"/>
                </a:cubicBezTo>
                <a:cubicBezTo>
                  <a:pt x="51" y="843"/>
                  <a:pt x="26" y="867"/>
                  <a:pt x="17" y="8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 flipH="1">
            <a:off x="2658960" y="2571840"/>
            <a:ext cx="106560" cy="1396800"/>
          </a:xfrm>
          <a:custGeom>
            <a:avLst/>
            <a:gdLst/>
            <a:ahLst/>
            <a:rect l="l" t="t" r="r" b="b"/>
            <a:pathLst>
              <a:path w="79" h="880">
                <a:moveTo>
                  <a:pt x="13" y="0"/>
                </a:moveTo>
                <a:cubicBezTo>
                  <a:pt x="22" y="22"/>
                  <a:pt x="60" y="95"/>
                  <a:pt x="69" y="132"/>
                </a:cubicBezTo>
                <a:cubicBezTo>
                  <a:pt x="78" y="169"/>
                  <a:pt x="76" y="192"/>
                  <a:pt x="69" y="222"/>
                </a:cubicBezTo>
                <a:cubicBezTo>
                  <a:pt x="62" y="252"/>
                  <a:pt x="35" y="283"/>
                  <a:pt x="24" y="313"/>
                </a:cubicBezTo>
                <a:cubicBezTo>
                  <a:pt x="13" y="343"/>
                  <a:pt x="2" y="380"/>
                  <a:pt x="1" y="400"/>
                </a:cubicBezTo>
                <a:cubicBezTo>
                  <a:pt x="0" y="420"/>
                  <a:pt x="11" y="420"/>
                  <a:pt x="17" y="436"/>
                </a:cubicBezTo>
                <a:cubicBezTo>
                  <a:pt x="23" y="452"/>
                  <a:pt x="32" y="473"/>
                  <a:pt x="37" y="496"/>
                </a:cubicBezTo>
                <a:cubicBezTo>
                  <a:pt x="42" y="519"/>
                  <a:pt x="42" y="535"/>
                  <a:pt x="49" y="572"/>
                </a:cubicBezTo>
                <a:cubicBezTo>
                  <a:pt x="56" y="609"/>
                  <a:pt x="75" y="679"/>
                  <a:pt x="77" y="720"/>
                </a:cubicBezTo>
                <a:cubicBezTo>
                  <a:pt x="79" y="761"/>
                  <a:pt x="71" y="789"/>
                  <a:pt x="61" y="816"/>
                </a:cubicBezTo>
                <a:cubicBezTo>
                  <a:pt x="51" y="843"/>
                  <a:pt x="26" y="867"/>
                  <a:pt x="17" y="8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1530360" y="2349360"/>
            <a:ext cx="1241280" cy="222480"/>
          </a:xfrm>
          <a:custGeom>
            <a:avLst/>
            <a:gdLst/>
            <a:ahLst/>
            <a:rect l="l" t="t" r="r" b="b"/>
            <a:pathLst>
              <a:path w="782" h="140">
                <a:moveTo>
                  <a:pt x="0" y="140"/>
                </a:moveTo>
                <a:lnTo>
                  <a:pt x="388" y="0"/>
                </a:lnTo>
                <a:lnTo>
                  <a:pt x="782" y="1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2112840" y="231444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5562720" y="3151080"/>
            <a:ext cx="2698560" cy="211320"/>
          </a:xfrm>
          <a:custGeom>
            <a:avLst/>
            <a:gdLst/>
            <a:ahLst/>
            <a:rect l="l" t="t" r="r" b="b"/>
            <a:pathLst>
              <a:path w="1700" h="133">
                <a:moveTo>
                  <a:pt x="0" y="67"/>
                </a:moveTo>
                <a:cubicBezTo>
                  <a:pt x="9" y="68"/>
                  <a:pt x="31" y="66"/>
                  <a:pt x="52" y="71"/>
                </a:cubicBezTo>
                <a:cubicBezTo>
                  <a:pt x="73" y="76"/>
                  <a:pt x="97" y="86"/>
                  <a:pt x="124" y="95"/>
                </a:cubicBezTo>
                <a:cubicBezTo>
                  <a:pt x="151" y="104"/>
                  <a:pt x="182" y="118"/>
                  <a:pt x="216" y="123"/>
                </a:cubicBezTo>
                <a:cubicBezTo>
                  <a:pt x="250" y="128"/>
                  <a:pt x="285" y="133"/>
                  <a:pt x="328" y="123"/>
                </a:cubicBezTo>
                <a:cubicBezTo>
                  <a:pt x="371" y="113"/>
                  <a:pt x="425" y="81"/>
                  <a:pt x="476" y="63"/>
                </a:cubicBezTo>
                <a:cubicBezTo>
                  <a:pt x="527" y="45"/>
                  <a:pt x="583" y="20"/>
                  <a:pt x="632" y="15"/>
                </a:cubicBezTo>
                <a:cubicBezTo>
                  <a:pt x="681" y="10"/>
                  <a:pt x="730" y="22"/>
                  <a:pt x="768" y="31"/>
                </a:cubicBezTo>
                <a:cubicBezTo>
                  <a:pt x="806" y="40"/>
                  <a:pt x="822" y="56"/>
                  <a:pt x="860" y="71"/>
                </a:cubicBezTo>
                <a:cubicBezTo>
                  <a:pt x="898" y="86"/>
                  <a:pt x="952" y="115"/>
                  <a:pt x="996" y="123"/>
                </a:cubicBezTo>
                <a:cubicBezTo>
                  <a:pt x="1040" y="131"/>
                  <a:pt x="1085" y="128"/>
                  <a:pt x="1124" y="119"/>
                </a:cubicBezTo>
                <a:cubicBezTo>
                  <a:pt x="1163" y="110"/>
                  <a:pt x="1194" y="89"/>
                  <a:pt x="1232" y="71"/>
                </a:cubicBezTo>
                <a:cubicBezTo>
                  <a:pt x="1270" y="53"/>
                  <a:pt x="1318" y="22"/>
                  <a:pt x="1356" y="11"/>
                </a:cubicBezTo>
                <a:cubicBezTo>
                  <a:pt x="1394" y="0"/>
                  <a:pt x="1425" y="0"/>
                  <a:pt x="1460" y="3"/>
                </a:cubicBezTo>
                <a:cubicBezTo>
                  <a:pt x="1495" y="6"/>
                  <a:pt x="1537" y="22"/>
                  <a:pt x="1568" y="31"/>
                </a:cubicBezTo>
                <a:cubicBezTo>
                  <a:pt x="1599" y="40"/>
                  <a:pt x="1622" y="50"/>
                  <a:pt x="1644" y="55"/>
                </a:cubicBezTo>
                <a:cubicBezTo>
                  <a:pt x="1666" y="60"/>
                  <a:pt x="1688" y="58"/>
                  <a:pt x="1700" y="5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6253200" y="2571840"/>
            <a:ext cx="179280" cy="1396800"/>
          </a:xfrm>
          <a:custGeom>
            <a:avLst/>
            <a:gdLst/>
            <a:ahLst/>
            <a:rect l="l" t="t" r="r" b="b"/>
            <a:pathLst>
              <a:path w="113" h="880">
                <a:moveTo>
                  <a:pt x="29" y="880"/>
                </a:moveTo>
                <a:cubicBezTo>
                  <a:pt x="34" y="866"/>
                  <a:pt x="50" y="831"/>
                  <a:pt x="57" y="800"/>
                </a:cubicBezTo>
                <a:cubicBezTo>
                  <a:pt x="64" y="769"/>
                  <a:pt x="70" y="728"/>
                  <a:pt x="69" y="692"/>
                </a:cubicBezTo>
                <a:cubicBezTo>
                  <a:pt x="68" y="656"/>
                  <a:pt x="55" y="620"/>
                  <a:pt x="49" y="584"/>
                </a:cubicBezTo>
                <a:cubicBezTo>
                  <a:pt x="43" y="548"/>
                  <a:pt x="40" y="508"/>
                  <a:pt x="33" y="476"/>
                </a:cubicBezTo>
                <a:cubicBezTo>
                  <a:pt x="26" y="444"/>
                  <a:pt x="14" y="424"/>
                  <a:pt x="9" y="392"/>
                </a:cubicBezTo>
                <a:cubicBezTo>
                  <a:pt x="4" y="360"/>
                  <a:pt x="0" y="319"/>
                  <a:pt x="5" y="284"/>
                </a:cubicBezTo>
                <a:cubicBezTo>
                  <a:pt x="10" y="249"/>
                  <a:pt x="24" y="213"/>
                  <a:pt x="37" y="180"/>
                </a:cubicBezTo>
                <a:cubicBezTo>
                  <a:pt x="50" y="147"/>
                  <a:pt x="72" y="118"/>
                  <a:pt x="85" y="88"/>
                </a:cubicBezTo>
                <a:cubicBezTo>
                  <a:pt x="98" y="58"/>
                  <a:pt x="107" y="18"/>
                  <a:pt x="11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7486560" y="2571840"/>
            <a:ext cx="179640" cy="1390680"/>
          </a:xfrm>
          <a:custGeom>
            <a:avLst/>
            <a:gdLst/>
            <a:ahLst/>
            <a:rect l="l" t="t" r="r" b="b"/>
            <a:pathLst>
              <a:path w="113" h="876">
                <a:moveTo>
                  <a:pt x="28" y="876"/>
                </a:moveTo>
                <a:cubicBezTo>
                  <a:pt x="33" y="861"/>
                  <a:pt x="53" y="816"/>
                  <a:pt x="60" y="784"/>
                </a:cubicBezTo>
                <a:cubicBezTo>
                  <a:pt x="67" y="752"/>
                  <a:pt x="70" y="717"/>
                  <a:pt x="68" y="684"/>
                </a:cubicBezTo>
                <a:cubicBezTo>
                  <a:pt x="66" y="651"/>
                  <a:pt x="54" y="619"/>
                  <a:pt x="48" y="584"/>
                </a:cubicBezTo>
                <a:cubicBezTo>
                  <a:pt x="42" y="549"/>
                  <a:pt x="40" y="508"/>
                  <a:pt x="33" y="476"/>
                </a:cubicBezTo>
                <a:cubicBezTo>
                  <a:pt x="26" y="444"/>
                  <a:pt x="14" y="424"/>
                  <a:pt x="9" y="392"/>
                </a:cubicBezTo>
                <a:cubicBezTo>
                  <a:pt x="4" y="360"/>
                  <a:pt x="0" y="319"/>
                  <a:pt x="5" y="284"/>
                </a:cubicBezTo>
                <a:cubicBezTo>
                  <a:pt x="10" y="249"/>
                  <a:pt x="24" y="213"/>
                  <a:pt x="37" y="180"/>
                </a:cubicBezTo>
                <a:cubicBezTo>
                  <a:pt x="50" y="147"/>
                  <a:pt x="72" y="118"/>
                  <a:pt x="85" y="88"/>
                </a:cubicBezTo>
                <a:cubicBezTo>
                  <a:pt x="98" y="58"/>
                  <a:pt x="107" y="18"/>
                  <a:pt x="11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6438960" y="2481120"/>
            <a:ext cx="1233360" cy="174600"/>
          </a:xfrm>
          <a:custGeom>
            <a:avLst/>
            <a:gdLst/>
            <a:ahLst/>
            <a:rect l="l" t="t" r="r" b="b"/>
            <a:pathLst>
              <a:path w="777" h="110">
                <a:moveTo>
                  <a:pt x="0" y="53"/>
                </a:moveTo>
                <a:cubicBezTo>
                  <a:pt x="13" y="58"/>
                  <a:pt x="39" y="76"/>
                  <a:pt x="76" y="85"/>
                </a:cubicBezTo>
                <a:cubicBezTo>
                  <a:pt x="113" y="94"/>
                  <a:pt x="173" y="110"/>
                  <a:pt x="224" y="105"/>
                </a:cubicBezTo>
                <a:cubicBezTo>
                  <a:pt x="275" y="100"/>
                  <a:pt x="329" y="70"/>
                  <a:pt x="384" y="53"/>
                </a:cubicBezTo>
                <a:cubicBezTo>
                  <a:pt x="439" y="36"/>
                  <a:pt x="498" y="10"/>
                  <a:pt x="552" y="5"/>
                </a:cubicBezTo>
                <a:cubicBezTo>
                  <a:pt x="606" y="0"/>
                  <a:pt x="671" y="17"/>
                  <a:pt x="708" y="25"/>
                </a:cubicBezTo>
                <a:cubicBezTo>
                  <a:pt x="745" y="33"/>
                  <a:pt x="763" y="47"/>
                  <a:pt x="777" y="5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7031160" y="25239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3708360" y="3429000"/>
            <a:ext cx="17272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Условия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перемещени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на оси симмет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2182680" y="3141720"/>
            <a:ext cx="1587600" cy="1231920"/>
          </a:xfrm>
          <a:custGeom>
            <a:avLst/>
            <a:gdLst/>
            <a:ahLst/>
            <a:rect l="l" t="t" r="r" b="b"/>
            <a:pathLst>
              <a:path w="976" h="776">
                <a:moveTo>
                  <a:pt x="976" y="630"/>
                </a:moveTo>
                <a:cubicBezTo>
                  <a:pt x="900" y="654"/>
                  <a:pt x="649" y="768"/>
                  <a:pt x="520" y="772"/>
                </a:cubicBezTo>
                <a:cubicBezTo>
                  <a:pt x="391" y="776"/>
                  <a:pt x="265" y="729"/>
                  <a:pt x="200" y="656"/>
                </a:cubicBezTo>
                <a:cubicBezTo>
                  <a:pt x="135" y="583"/>
                  <a:pt x="147" y="418"/>
                  <a:pt x="128" y="332"/>
                </a:cubicBezTo>
                <a:cubicBezTo>
                  <a:pt x="109" y="246"/>
                  <a:pt x="105" y="195"/>
                  <a:pt x="84" y="140"/>
                </a:cubicBezTo>
                <a:cubicBezTo>
                  <a:pt x="63" y="85"/>
                  <a:pt x="17" y="29"/>
                  <a:pt x="0" y="0"/>
                </a:cubicBezTo>
              </a:path>
            </a:pathLst>
          </a:custGeom>
          <a:noFill/>
          <a:ln w="12600">
            <a:solidFill>
              <a:srgbClr val="cc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2019240" y="2730600"/>
            <a:ext cx="72072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00"/>
                </a:solidFill>
                <a:latin typeface="Times New Roman"/>
              </a:rPr>
              <a:t>u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Symbol"/>
                <a:ea typeface="Symbol"/>
              </a:rPr>
              <a:t>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2133720" y="2185920"/>
            <a:ext cx="720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00"/>
                </a:solidFill>
                <a:latin typeface="Times New Roman"/>
              </a:rPr>
              <a:t>u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2190600" y="2103480"/>
            <a:ext cx="1905120" cy="1325520"/>
          </a:xfrm>
          <a:custGeom>
            <a:avLst/>
            <a:gdLst/>
            <a:ahLst/>
            <a:rect l="l" t="t" r="r" b="b"/>
            <a:pathLst>
              <a:path w="1200" h="835">
                <a:moveTo>
                  <a:pt x="1200" y="835"/>
                </a:moveTo>
                <a:cubicBezTo>
                  <a:pt x="1167" y="768"/>
                  <a:pt x="1081" y="550"/>
                  <a:pt x="1000" y="435"/>
                </a:cubicBezTo>
                <a:cubicBezTo>
                  <a:pt x="919" y="320"/>
                  <a:pt x="817" y="216"/>
                  <a:pt x="716" y="147"/>
                </a:cubicBezTo>
                <a:cubicBezTo>
                  <a:pt x="615" y="78"/>
                  <a:pt x="493" y="38"/>
                  <a:pt x="396" y="19"/>
                </a:cubicBezTo>
                <a:cubicBezTo>
                  <a:pt x="299" y="0"/>
                  <a:pt x="202" y="12"/>
                  <a:pt x="136" y="31"/>
                </a:cubicBezTo>
                <a:cubicBezTo>
                  <a:pt x="70" y="50"/>
                  <a:pt x="28" y="113"/>
                  <a:pt x="0" y="135"/>
                </a:cubicBezTo>
              </a:path>
            </a:pathLst>
          </a:custGeom>
          <a:noFill/>
          <a:ln w="12600">
            <a:solidFill>
              <a:srgbClr val="cc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5357880" y="3273480"/>
            <a:ext cx="1522440" cy="1063440"/>
          </a:xfrm>
          <a:custGeom>
            <a:avLst/>
            <a:gdLst/>
            <a:ahLst/>
            <a:rect l="l" t="t" r="r" b="b"/>
            <a:pathLst>
              <a:path w="1023" h="670">
                <a:moveTo>
                  <a:pt x="0" y="531"/>
                </a:moveTo>
                <a:cubicBezTo>
                  <a:pt x="50" y="552"/>
                  <a:pt x="197" y="640"/>
                  <a:pt x="300" y="655"/>
                </a:cubicBezTo>
                <a:cubicBezTo>
                  <a:pt x="403" y="670"/>
                  <a:pt x="537" y="658"/>
                  <a:pt x="620" y="619"/>
                </a:cubicBezTo>
                <a:cubicBezTo>
                  <a:pt x="703" y="580"/>
                  <a:pt x="745" y="504"/>
                  <a:pt x="796" y="423"/>
                </a:cubicBezTo>
                <a:cubicBezTo>
                  <a:pt x="847" y="342"/>
                  <a:pt x="886" y="201"/>
                  <a:pt x="924" y="131"/>
                </a:cubicBezTo>
                <a:cubicBezTo>
                  <a:pt x="962" y="61"/>
                  <a:pt x="1002" y="27"/>
                  <a:pt x="1023" y="0"/>
                </a:cubicBezTo>
              </a:path>
            </a:pathLst>
          </a:custGeom>
          <a:noFill/>
          <a:ln w="12600">
            <a:solidFill>
              <a:srgbClr val="6600ff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6780240" y="3044880"/>
            <a:ext cx="720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00ff"/>
                </a:solidFill>
                <a:latin typeface="Book Antiqua"/>
              </a:rPr>
              <a:t>v</a:t>
            </a:r>
            <a:r>
              <a:rPr b="1" i="1" lang="en-US" sz="1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6600ff"/>
                </a:solidFill>
                <a:latin typeface="Times New Roman"/>
              </a:rPr>
              <a:t>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5060880" y="2066760"/>
            <a:ext cx="2041560" cy="1444680"/>
          </a:xfrm>
          <a:custGeom>
            <a:avLst/>
            <a:gdLst/>
            <a:ahLst/>
            <a:rect l="l" t="t" r="r" b="b"/>
            <a:pathLst>
              <a:path w="1286" h="910">
                <a:moveTo>
                  <a:pt x="0" y="910"/>
                </a:moveTo>
                <a:cubicBezTo>
                  <a:pt x="18" y="869"/>
                  <a:pt x="50" y="761"/>
                  <a:pt x="106" y="662"/>
                </a:cubicBezTo>
                <a:cubicBezTo>
                  <a:pt x="161" y="563"/>
                  <a:pt x="242" y="417"/>
                  <a:pt x="337" y="318"/>
                </a:cubicBezTo>
                <a:cubicBezTo>
                  <a:pt x="431" y="219"/>
                  <a:pt x="560" y="118"/>
                  <a:pt x="677" y="66"/>
                </a:cubicBezTo>
                <a:cubicBezTo>
                  <a:pt x="794" y="14"/>
                  <a:pt x="945" y="0"/>
                  <a:pt x="1040" y="6"/>
                </a:cubicBezTo>
                <a:cubicBezTo>
                  <a:pt x="1135" y="12"/>
                  <a:pt x="1210" y="57"/>
                  <a:pt x="1248" y="102"/>
                </a:cubicBezTo>
                <a:cubicBezTo>
                  <a:pt x="1286" y="147"/>
                  <a:pt x="1264" y="238"/>
                  <a:pt x="1268" y="274"/>
                </a:cubicBezTo>
              </a:path>
            </a:pathLst>
          </a:custGeom>
          <a:noFill/>
          <a:ln w="12600">
            <a:solidFill>
              <a:srgbClr val="6600ff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6964200" y="2282760"/>
            <a:ext cx="720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00ff"/>
                </a:solidFill>
                <a:latin typeface="Book Antiqua"/>
              </a:rPr>
              <a:t>v</a:t>
            </a:r>
            <a:r>
              <a:rPr b="1" i="1" lang="en-US" sz="1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6600ff"/>
                </a:solidFill>
                <a:latin typeface="Times New Roman"/>
              </a:rPr>
              <a:t>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2662200" y="4492800"/>
            <a:ext cx="38163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Моделир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половины сист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 rot="5400000">
            <a:off x="659160" y="5539680"/>
            <a:ext cx="252360" cy="730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820800" y="545148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1547640" y="4869000"/>
            <a:ext cx="0" cy="1439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2158920" y="4376880"/>
            <a:ext cx="0" cy="18000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2109960" y="4294080"/>
            <a:ext cx="107640" cy="25236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1979640" y="42433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1415880" y="6308640"/>
            <a:ext cx="252720" cy="730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1419120" y="630864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1301760" y="5086440"/>
            <a:ext cx="32688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 flipV="1" rot="13033800">
            <a:off x="1472040" y="5829120"/>
            <a:ext cx="325080" cy="32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54" y="3826"/>
                </a:moveTo>
                <a:arcTo wR="10800" hR="10800" stAng="-8386739" swAng="13340897"/>
                <a:lnTo>
                  <a:pt x="10800" y="10800"/>
                </a:lnTo>
                <a:close/>
              </a:path>
              <a:path fill="none" w="21600" h="21600">
                <a:moveTo>
                  <a:pt x="2554" y="3826"/>
                </a:moveTo>
                <a:arcTo wR="10800" hR="10800" stAng="-8386739" swAng="13340897"/>
              </a:path>
            </a:pathLst>
          </a:custGeom>
          <a:noFill/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922320" y="5394240"/>
            <a:ext cx="0" cy="1796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1066680" y="5394240"/>
            <a:ext cx="0" cy="1796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1209600" y="5394240"/>
            <a:ext cx="0" cy="1796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1353960" y="5394240"/>
            <a:ext cx="0" cy="1796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922320" y="5394240"/>
            <a:ext cx="431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696960" y="50706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982800" y="4751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958680" y="59961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1522440" y="4876920"/>
            <a:ext cx="125280" cy="1396800"/>
          </a:xfrm>
          <a:custGeom>
            <a:avLst/>
            <a:gdLst/>
            <a:ahLst/>
            <a:rect l="l" t="t" r="r" b="b"/>
            <a:pathLst>
              <a:path w="79" h="880">
                <a:moveTo>
                  <a:pt x="13" y="0"/>
                </a:moveTo>
                <a:cubicBezTo>
                  <a:pt x="22" y="22"/>
                  <a:pt x="60" y="95"/>
                  <a:pt x="69" y="132"/>
                </a:cubicBezTo>
                <a:cubicBezTo>
                  <a:pt x="78" y="169"/>
                  <a:pt x="76" y="192"/>
                  <a:pt x="69" y="222"/>
                </a:cubicBezTo>
                <a:cubicBezTo>
                  <a:pt x="62" y="252"/>
                  <a:pt x="35" y="283"/>
                  <a:pt x="24" y="313"/>
                </a:cubicBezTo>
                <a:cubicBezTo>
                  <a:pt x="13" y="343"/>
                  <a:pt x="2" y="380"/>
                  <a:pt x="1" y="400"/>
                </a:cubicBezTo>
                <a:cubicBezTo>
                  <a:pt x="0" y="420"/>
                  <a:pt x="11" y="420"/>
                  <a:pt x="17" y="436"/>
                </a:cubicBezTo>
                <a:cubicBezTo>
                  <a:pt x="23" y="452"/>
                  <a:pt x="32" y="473"/>
                  <a:pt x="37" y="496"/>
                </a:cubicBezTo>
                <a:cubicBezTo>
                  <a:pt x="42" y="519"/>
                  <a:pt x="42" y="535"/>
                  <a:pt x="49" y="572"/>
                </a:cubicBezTo>
                <a:cubicBezTo>
                  <a:pt x="56" y="609"/>
                  <a:pt x="75" y="679"/>
                  <a:pt x="77" y="720"/>
                </a:cubicBezTo>
                <a:cubicBezTo>
                  <a:pt x="79" y="761"/>
                  <a:pt x="71" y="789"/>
                  <a:pt x="61" y="816"/>
                </a:cubicBezTo>
                <a:cubicBezTo>
                  <a:pt x="51" y="843"/>
                  <a:pt x="26" y="867"/>
                  <a:pt x="17" y="8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1538280" y="4653000"/>
            <a:ext cx="615960" cy="222120"/>
          </a:xfrm>
          <a:custGeom>
            <a:avLst/>
            <a:gdLst/>
            <a:ahLst/>
            <a:rect l="l" t="t" r="r" b="b"/>
            <a:pathLst>
              <a:path w="388" h="140">
                <a:moveTo>
                  <a:pt x="0" y="140"/>
                </a:moveTo>
                <a:lnTo>
                  <a:pt x="38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836640" y="557064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1557360" y="4888080"/>
            <a:ext cx="576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819000" y="5429160"/>
            <a:ext cx="1325880" cy="220680"/>
          </a:xfrm>
          <a:custGeom>
            <a:avLst/>
            <a:gdLst/>
            <a:ahLst/>
            <a:rect l="l" t="t" r="r" b="b"/>
            <a:pathLst>
              <a:path w="835" h="139">
                <a:moveTo>
                  <a:pt x="0" y="88"/>
                </a:moveTo>
                <a:cubicBezTo>
                  <a:pt x="8" y="89"/>
                  <a:pt x="26" y="87"/>
                  <a:pt x="48" y="92"/>
                </a:cubicBezTo>
                <a:cubicBezTo>
                  <a:pt x="70" y="97"/>
                  <a:pt x="102" y="109"/>
                  <a:pt x="132" y="116"/>
                </a:cubicBezTo>
                <a:cubicBezTo>
                  <a:pt x="162" y="123"/>
                  <a:pt x="194" y="133"/>
                  <a:pt x="228" y="136"/>
                </a:cubicBezTo>
                <a:cubicBezTo>
                  <a:pt x="262" y="139"/>
                  <a:pt x="299" y="139"/>
                  <a:pt x="336" y="132"/>
                </a:cubicBezTo>
                <a:cubicBezTo>
                  <a:pt x="373" y="125"/>
                  <a:pt x="407" y="109"/>
                  <a:pt x="451" y="93"/>
                </a:cubicBezTo>
                <a:cubicBezTo>
                  <a:pt x="495" y="77"/>
                  <a:pt x="554" y="51"/>
                  <a:pt x="603" y="37"/>
                </a:cubicBezTo>
                <a:cubicBezTo>
                  <a:pt x="652" y="23"/>
                  <a:pt x="705" y="12"/>
                  <a:pt x="744" y="6"/>
                </a:cubicBezTo>
                <a:cubicBezTo>
                  <a:pt x="783" y="0"/>
                  <a:pt x="816" y="2"/>
                  <a:pt x="835" y="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 rot="5400000">
            <a:off x="5382000" y="5528520"/>
            <a:ext cx="252360" cy="730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5543640" y="544032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6299280" y="4871880"/>
            <a:ext cx="0" cy="1440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6910560" y="4581360"/>
            <a:ext cx="0" cy="180036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6861240" y="4492800"/>
            <a:ext cx="108000" cy="25236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6730920" y="44323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6167520" y="6302520"/>
            <a:ext cx="252360" cy="727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6170760" y="63025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6257880" y="62625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6014880" y="5079960"/>
            <a:ext cx="327240" cy="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 flipV="1" rot="13033800">
            <a:off x="6158520" y="5843520"/>
            <a:ext cx="325080" cy="32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54" y="3826"/>
                </a:moveTo>
                <a:arcTo wR="10800" hR="10800" stAng="-8386739" swAng="13340897"/>
                <a:lnTo>
                  <a:pt x="10800" y="10800"/>
                </a:lnTo>
                <a:close/>
              </a:path>
              <a:path fill="none" w="21600" h="21600">
                <a:moveTo>
                  <a:pt x="2554" y="3826"/>
                </a:moveTo>
                <a:arcTo wR="10800" hR="10800" stAng="-8386739" swAng="13340897"/>
              </a:path>
            </a:pathLst>
          </a:custGeom>
          <a:noFill/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5648400" y="5386320"/>
            <a:ext cx="0" cy="17928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5792760" y="5386320"/>
            <a:ext cx="0" cy="17928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5935680" y="5386320"/>
            <a:ext cx="0" cy="17928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6072120" y="5386320"/>
            <a:ext cx="0" cy="17928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5648400" y="5386320"/>
            <a:ext cx="431640" cy="0"/>
          </a:xfrm>
          <a:prstGeom prst="line">
            <a:avLst/>
          </a:prstGeom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5586480" y="50277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5668920" y="47530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5580000" y="5950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6262560" y="4870440"/>
            <a:ext cx="179640" cy="1390680"/>
          </a:xfrm>
          <a:custGeom>
            <a:avLst/>
            <a:gdLst/>
            <a:ahLst/>
            <a:rect l="l" t="t" r="r" b="b"/>
            <a:pathLst>
              <a:path w="113" h="876">
                <a:moveTo>
                  <a:pt x="31" y="876"/>
                </a:moveTo>
                <a:cubicBezTo>
                  <a:pt x="36" y="862"/>
                  <a:pt x="56" y="823"/>
                  <a:pt x="63" y="792"/>
                </a:cubicBezTo>
                <a:cubicBezTo>
                  <a:pt x="70" y="761"/>
                  <a:pt x="74" y="721"/>
                  <a:pt x="71" y="688"/>
                </a:cubicBezTo>
                <a:cubicBezTo>
                  <a:pt x="68" y="655"/>
                  <a:pt x="53" y="631"/>
                  <a:pt x="47" y="596"/>
                </a:cubicBezTo>
                <a:cubicBezTo>
                  <a:pt x="41" y="561"/>
                  <a:pt x="39" y="510"/>
                  <a:pt x="33" y="476"/>
                </a:cubicBezTo>
                <a:cubicBezTo>
                  <a:pt x="27" y="442"/>
                  <a:pt x="14" y="424"/>
                  <a:pt x="9" y="392"/>
                </a:cubicBezTo>
                <a:cubicBezTo>
                  <a:pt x="4" y="360"/>
                  <a:pt x="0" y="319"/>
                  <a:pt x="5" y="284"/>
                </a:cubicBezTo>
                <a:cubicBezTo>
                  <a:pt x="10" y="249"/>
                  <a:pt x="24" y="213"/>
                  <a:pt x="37" y="180"/>
                </a:cubicBezTo>
                <a:cubicBezTo>
                  <a:pt x="50" y="147"/>
                  <a:pt x="72" y="118"/>
                  <a:pt x="85" y="88"/>
                </a:cubicBezTo>
                <a:cubicBezTo>
                  <a:pt x="98" y="58"/>
                  <a:pt x="107" y="18"/>
                  <a:pt x="11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6435720" y="4873680"/>
            <a:ext cx="609480" cy="90360"/>
          </a:xfrm>
          <a:custGeom>
            <a:avLst/>
            <a:gdLst/>
            <a:ahLst/>
            <a:rect l="l" t="t" r="r" b="b"/>
            <a:pathLst>
              <a:path w="384" h="57">
                <a:moveTo>
                  <a:pt x="0" y="0"/>
                </a:moveTo>
                <a:cubicBezTo>
                  <a:pt x="13" y="5"/>
                  <a:pt x="39" y="23"/>
                  <a:pt x="76" y="32"/>
                </a:cubicBezTo>
                <a:cubicBezTo>
                  <a:pt x="113" y="41"/>
                  <a:pt x="173" y="57"/>
                  <a:pt x="224" y="52"/>
                </a:cubicBezTo>
                <a:cubicBezTo>
                  <a:pt x="275" y="47"/>
                  <a:pt x="357" y="9"/>
                  <a:pt x="38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5543640" y="5470560"/>
            <a:ext cx="1365120" cy="189000"/>
          </a:xfrm>
          <a:custGeom>
            <a:avLst/>
            <a:gdLst/>
            <a:ahLst/>
            <a:rect l="l" t="t" r="r" b="b"/>
            <a:pathLst>
              <a:path w="860" h="119">
                <a:moveTo>
                  <a:pt x="0" y="57"/>
                </a:moveTo>
                <a:cubicBezTo>
                  <a:pt x="13" y="59"/>
                  <a:pt x="50" y="63"/>
                  <a:pt x="76" y="70"/>
                </a:cubicBezTo>
                <a:cubicBezTo>
                  <a:pt x="102" y="77"/>
                  <a:pt x="125" y="90"/>
                  <a:pt x="156" y="98"/>
                </a:cubicBezTo>
                <a:cubicBezTo>
                  <a:pt x="187" y="106"/>
                  <a:pt x="231" y="117"/>
                  <a:pt x="264" y="118"/>
                </a:cubicBezTo>
                <a:cubicBezTo>
                  <a:pt x="297" y="119"/>
                  <a:pt x="321" y="117"/>
                  <a:pt x="356" y="106"/>
                </a:cubicBezTo>
                <a:cubicBezTo>
                  <a:pt x="391" y="95"/>
                  <a:pt x="430" y="70"/>
                  <a:pt x="476" y="53"/>
                </a:cubicBezTo>
                <a:cubicBezTo>
                  <a:pt x="522" y="36"/>
                  <a:pt x="583" y="10"/>
                  <a:pt x="632" y="5"/>
                </a:cubicBezTo>
                <a:cubicBezTo>
                  <a:pt x="681" y="0"/>
                  <a:pt x="730" y="12"/>
                  <a:pt x="768" y="21"/>
                </a:cubicBezTo>
                <a:cubicBezTo>
                  <a:pt x="806" y="30"/>
                  <a:pt x="845" y="54"/>
                  <a:pt x="860" y="6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5535720" y="55609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6305400" y="4869000"/>
            <a:ext cx="576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2195640" y="4653000"/>
            <a:ext cx="14436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2401920" y="4537080"/>
            <a:ext cx="71280" cy="216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2392200" y="45370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2341440" y="461484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2406600" y="5281560"/>
            <a:ext cx="71640" cy="2872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2397240" y="52815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2152800" y="5319720"/>
            <a:ext cx="0" cy="216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2117880" y="53211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2182680" y="5354640"/>
            <a:ext cx="1796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2117880" y="547200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2359080" y="53197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2181240" y="5510160"/>
            <a:ext cx="1792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2359080" y="547056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6913440" y="5573880"/>
            <a:ext cx="0" cy="2156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6792840" y="5751360"/>
            <a:ext cx="252360" cy="730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6796080" y="57513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6883560" y="57117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6875640" y="55357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7040520" y="483084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7077240" y="4906800"/>
            <a:ext cx="0" cy="2160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6956280" y="5084640"/>
            <a:ext cx="252720" cy="730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6959520" y="508464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7047000" y="504504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2340000" y="5661000"/>
            <a:ext cx="1511280" cy="712080"/>
          </a:xfrm>
          <a:prstGeom prst="rect">
            <a:avLst/>
          </a:prstGeom>
          <a:solidFill>
            <a:srgbClr val="f1a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7307280" y="5661000"/>
            <a:ext cx="1152360" cy="712080"/>
          </a:xfrm>
          <a:prstGeom prst="rect">
            <a:avLst/>
          </a:prstGeom>
          <a:solidFill>
            <a:srgbClr val="f1a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5560920" y="3252960"/>
            <a:ext cx="2698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2125800" y="461952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1506600" y="62690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1979640" y="1125360"/>
            <a:ext cx="144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2100240" y="6107040"/>
            <a:ext cx="151128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7105680" y="6108840"/>
            <a:ext cx="151128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4" dur="indefinite" restart="never" nodeType="tmRoot">
          <p:childTnLst>
            <p:seq>
              <p:cTn id="8295" dur="indefinite" nodeType="mainSeq">
                <p:childTnLst>
                  <p:par>
                    <p:cTn id="8296" fill="hold">
                      <p:stCondLst>
                        <p:cond delay="0"/>
                      </p:stCondLst>
                      <p:childTnLst>
                        <p:par>
                          <p:cTn id="8297" fill="hold">
                            <p:stCondLst>
                              <p:cond delay="0"/>
                            </p:stCondLst>
                            <p:childTnLst>
                              <p:par>
                                <p:cTn id="82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0" dur="500"/>
                                        <p:tgtEl>
                                          <p:spTgt spid="2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3" dur="500"/>
                                        <p:tgtEl>
                                          <p:spTgt spid="2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6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9" dur="5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2" dur="500"/>
                                        <p:tgtEl>
                                          <p:spTgt spid="2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5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8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1" dur="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4" dur="500"/>
                                        <p:tgtEl>
                                          <p:spTgt spid="2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7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0" dur="500"/>
                                        <p:tgtEl>
                                          <p:spTgt spid="2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3" dur="500"/>
                                        <p:tgtEl>
                                          <p:spTgt spid="2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6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9" dur="500"/>
                                        <p:tgtEl>
                                          <p:spTgt spid="2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2" dur="500"/>
                                        <p:tgtEl>
                                          <p:spTgt spid="2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5" dur="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8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1" dur="500"/>
                                        <p:tgtEl>
                                          <p:spTgt spid="2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4" dur="500"/>
                                        <p:tgtEl>
                                          <p:spTgt spid="2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7" dur="500"/>
                                        <p:tgtEl>
                                          <p:spTgt spid="2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0" dur="500"/>
                                        <p:tgtEl>
                                          <p:spTgt spid="2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3" dur="500"/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6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9" dur="5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2" dur="500"/>
                                        <p:tgtEl>
                                          <p:spTgt spid="2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5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8" dur="500"/>
                                        <p:tgtEl>
                                          <p:spTgt spid="2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1" dur="500"/>
                                        <p:tgtEl>
                                          <p:spTgt spid="2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4" dur="5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7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3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6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9" dur="500"/>
                                        <p:tgtEl>
                                          <p:spTgt spid="2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2" dur="500"/>
                                        <p:tgtEl>
                                          <p:spTgt spid="2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5" dur="500"/>
                                        <p:tgtEl>
                                          <p:spTgt spid="2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8" dur="500"/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1" dur="500"/>
                                        <p:tgtEl>
                                          <p:spTgt spid="2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4" dur="500"/>
                                        <p:tgtEl>
                                          <p:spTgt spid="2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7" dur="5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0" dur="500"/>
                                        <p:tgtEl>
                                          <p:spTgt spid="2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3" dur="500"/>
                                        <p:tgtEl>
                                          <p:spTgt spid="2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6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9" dur="500"/>
                                        <p:tgtEl>
                                          <p:spTgt spid="2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2" dur="50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5" dur="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8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1" dur="5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4" dur="500"/>
                                        <p:tgtEl>
                                          <p:spTgt spid="2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47" dur="5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0" dur="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3" dur="50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6" dur="5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9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2" dur="5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5" dur="5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8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1" dur="50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4" dur="500"/>
                                        <p:tgtEl>
                                          <p:spTgt spid="2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7" dur="500"/>
                                        <p:tgtEl>
                                          <p:spTgt spid="2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0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3" dur="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6" dur="500"/>
                                        <p:tgtEl>
                                          <p:spTgt spid="2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9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2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5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8" dur="5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1" dur="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4" dur="500"/>
                                        <p:tgtEl>
                                          <p:spTgt spid="2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7" dur="500"/>
                                        <p:tgtEl>
                                          <p:spTgt spid="2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0" dur="500"/>
                                        <p:tgtEl>
                                          <p:spTgt spid="2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3" dur="500"/>
                                        <p:tgtEl>
                                          <p:spTgt spid="2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6" dur="5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9" dur="500"/>
                                        <p:tgtEl>
                                          <p:spTgt spid="2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2" dur="5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5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8" dur="500"/>
                                        <p:tgtEl>
                                          <p:spTgt spid="2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1" dur="500"/>
                                        <p:tgtEl>
                                          <p:spTgt spid="2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4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7" dur="500"/>
                                        <p:tgtEl>
                                          <p:spTgt spid="2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0" dur="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3" dur="500"/>
                                        <p:tgtEl>
                                          <p:spTgt spid="2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6" dur="500"/>
                                        <p:tgtEl>
                                          <p:spTgt spid="2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9" dur="5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0" fill="hold">
                      <p:stCondLst>
                        <p:cond delay="indefinite"/>
                      </p:stCondLst>
                      <p:childTnLst>
                        <p:par>
                          <p:cTn id="8551" fill="hold">
                            <p:stCondLst>
                              <p:cond delay="0"/>
                            </p:stCondLst>
                            <p:childTnLst>
                              <p:par>
                                <p:cTn id="85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4" dur="1000" fill="hold"/>
                                        <p:tgtEl>
                                          <p:spTgt spid="2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5" dur="1000" fill="hold"/>
                                        <p:tgtEl>
                                          <p:spTgt spid="2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6" dur="1000"/>
                                        <p:tgtEl>
                                          <p:spTgt spid="2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7" fill="hold">
                      <p:stCondLst>
                        <p:cond delay="indefinite"/>
                      </p:stCondLst>
                      <p:childTnLst>
                        <p:par>
                          <p:cTn id="8558" fill="hold">
                            <p:stCondLst>
                              <p:cond delay="0"/>
                            </p:stCondLst>
                            <p:childTnLst>
                              <p:par>
                                <p:cTn id="85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1" dur="10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2" dur="10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3" dur="1000"/>
                                        <p:tgtEl>
                                          <p:spTgt spid="2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4" fill="hold">
                      <p:stCondLst>
                        <p:cond delay="indefinite"/>
                      </p:stCondLst>
                      <p:childTnLst>
                        <p:par>
                          <p:cTn id="8565" fill="hold">
                            <p:stCondLst>
                              <p:cond delay="0"/>
                            </p:stCondLst>
                            <p:childTnLst>
                              <p:par>
                                <p:cTn id="8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68" dur="500"/>
                                        <p:tgtEl>
                                          <p:spTgt spid="2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9" fill="hold">
                      <p:stCondLst>
                        <p:cond delay="indefinite"/>
                      </p:stCondLst>
                      <p:childTnLst>
                        <p:par>
                          <p:cTn id="8570" fill="hold">
                            <p:stCondLst>
                              <p:cond delay="0"/>
                            </p:stCondLst>
                            <p:childTnLst>
                              <p:par>
                                <p:cTn id="85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3" dur="1000" fill="hold"/>
                                        <p:tgtEl>
                                          <p:spTgt spid="2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4" dur="1000" fill="hold"/>
                                        <p:tgtEl>
                                          <p:spTgt spid="2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5" dur="10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6" fill="hold">
                      <p:stCondLst>
                        <p:cond delay="indefinite"/>
                      </p:stCondLst>
                      <p:childTnLst>
                        <p:par>
                          <p:cTn id="8577" fill="hold">
                            <p:stCondLst>
                              <p:cond delay="0"/>
                            </p:stCondLst>
                            <p:childTnLst>
                              <p:par>
                                <p:cTn id="8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0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1" fill="hold">
                      <p:stCondLst>
                        <p:cond delay="indefinite"/>
                      </p:stCondLst>
                      <p:childTnLst>
                        <p:par>
                          <p:cTn id="8582" fill="hold">
                            <p:stCondLst>
                              <p:cond delay="0"/>
                            </p:stCondLst>
                            <p:childTnLst>
                              <p:par>
                                <p:cTn id="85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5" dur="1000" fill="hold"/>
                                        <p:tgtEl>
                                          <p:spTgt spid="2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6" dur="1000" fill="hold"/>
                                        <p:tgtEl>
                                          <p:spTgt spid="2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7" dur="10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8" fill="hold">
                      <p:stCondLst>
                        <p:cond delay="indefinite"/>
                      </p:stCondLst>
                      <p:childTnLst>
                        <p:par>
                          <p:cTn id="8589" fill="hold">
                            <p:stCondLst>
                              <p:cond delay="0"/>
                            </p:stCondLst>
                            <p:childTnLst>
                              <p:par>
                                <p:cTn id="8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92" dur="5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3" fill="hold">
                      <p:stCondLst>
                        <p:cond delay="indefinite"/>
                      </p:stCondLst>
                      <p:childTnLst>
                        <p:par>
                          <p:cTn id="8594" fill="hold">
                            <p:stCondLst>
                              <p:cond delay="0"/>
                            </p:stCondLst>
                            <p:childTnLst>
                              <p:par>
                                <p:cTn id="85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7" dur="10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8" dur="10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9" dur="1000"/>
                                        <p:tgtEl>
                                          <p:spTgt spid="2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0" fill="hold">
                      <p:stCondLst>
                        <p:cond delay="indefinite"/>
                      </p:stCondLst>
                      <p:childTnLst>
                        <p:par>
                          <p:cTn id="8601" fill="hold">
                            <p:stCondLst>
                              <p:cond delay="0"/>
                            </p:stCondLst>
                            <p:childTnLst>
                              <p:par>
                                <p:cTn id="8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4" dur="500"/>
                                        <p:tgtEl>
                                          <p:spTgt spid="2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5" fill="hold">
                      <p:stCondLst>
                        <p:cond delay="indefinite"/>
                      </p:stCondLst>
                      <p:childTnLst>
                        <p:par>
                          <p:cTn id="8606" fill="hold">
                            <p:stCondLst>
                              <p:cond delay="0"/>
                            </p:stCondLst>
                            <p:childTnLst>
                              <p:par>
                                <p:cTn id="86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9" dur="1000" fill="hold"/>
                                        <p:tgtEl>
                                          <p:spTgt spid="2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0" dur="1000" fill="hold"/>
                                        <p:tgtEl>
                                          <p:spTgt spid="2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1" dur="1000"/>
                                        <p:tgtEl>
                                          <p:spTgt spid="2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2" fill="hold">
                      <p:stCondLst>
                        <p:cond delay="indefinite"/>
                      </p:stCondLst>
                      <p:childTnLst>
                        <p:par>
                          <p:cTn id="8613" fill="hold">
                            <p:stCondLst>
                              <p:cond delay="0"/>
                            </p:stCondLst>
                            <p:childTnLst>
                              <p:par>
                                <p:cTn id="86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6" dur="500"/>
                                        <p:tgtEl>
                                          <p:spTgt spid="2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9" dur="500"/>
                                        <p:tgtEl>
                                          <p:spTgt spid="2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2" dur="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5" dur="5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8" dur="500"/>
                                        <p:tgtEl>
                                          <p:spTgt spid="2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1" dur="500"/>
                                        <p:tgtEl>
                                          <p:spTgt spid="2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4" dur="5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7" dur="500"/>
                                        <p:tgtEl>
                                          <p:spTgt spid="2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0" dur="500"/>
                                        <p:tgtEl>
                                          <p:spTgt spid="2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3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6" dur="5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9" dur="500"/>
                                        <p:tgtEl>
                                          <p:spTgt spid="2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2" dur="500"/>
                                        <p:tgtEl>
                                          <p:spTgt spid="2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5" dur="500"/>
                                        <p:tgtEl>
                                          <p:spTgt spid="2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8" dur="5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1" dur="500"/>
                                        <p:tgtEl>
                                          <p:spTgt spid="2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4" dur="500"/>
                                        <p:tgtEl>
                                          <p:spTgt spid="2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7" dur="500"/>
                                        <p:tgtEl>
                                          <p:spTgt spid="2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0" dur="500"/>
                                        <p:tgtEl>
                                          <p:spTgt spid="2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3" dur="5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6" dur="5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9" dur="500"/>
                                        <p:tgtEl>
                                          <p:spTgt spid="2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2" dur="5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5" dur="500"/>
                                        <p:tgtEl>
                                          <p:spTgt spid="2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6" fill="hold">
                      <p:stCondLst>
                        <p:cond delay="indefinite"/>
                      </p:stCondLst>
                      <p:childTnLst>
                        <p:par>
                          <p:cTn id="8687" fill="hold">
                            <p:stCondLst>
                              <p:cond delay="0"/>
                            </p:stCondLst>
                            <p:childTnLst>
                              <p:par>
                                <p:cTn id="86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0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3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6" dur="5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9" dur="5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02" dur="500"/>
                                        <p:tgtEl>
                                          <p:spTgt spid="2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05" dur="5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08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1" dur="5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4" dur="5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5" fill="hold">
                      <p:stCondLst>
                        <p:cond delay="indefinite"/>
                      </p:stCondLst>
                      <p:childTnLst>
                        <p:par>
                          <p:cTn id="8716" fill="hold">
                            <p:stCondLst>
                              <p:cond delay="0"/>
                            </p:stCondLst>
                            <p:childTnLst>
                              <p:par>
                                <p:cTn id="87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9" dur="500"/>
                                        <p:tgtEl>
                                          <p:spTgt spid="2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2" dur="5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5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8" dur="500"/>
                                        <p:tgtEl>
                                          <p:spTgt spid="2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1" dur="500"/>
                                        <p:tgtEl>
                                          <p:spTgt spid="2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2" fill="hold">
                      <p:stCondLst>
                        <p:cond delay="indefinite"/>
                      </p:stCondLst>
                      <p:childTnLst>
                        <p:par>
                          <p:cTn id="8733" fill="hold">
                            <p:stCondLst>
                              <p:cond delay="0"/>
                            </p:stCondLst>
                            <p:childTnLst>
                              <p:par>
                                <p:cTn id="87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6" dur="500"/>
                                        <p:tgtEl>
                                          <p:spTgt spid="2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9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2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5" dur="500"/>
                                        <p:tgtEl>
                                          <p:spTgt spid="2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8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1" dur="500"/>
                                        <p:tgtEl>
                                          <p:spTgt spid="2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4" dur="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7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60" dur="500"/>
                                        <p:tgtEl>
                                          <p:spTgt spid="2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63" dur="5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66" dur="5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69" dur="5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2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5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8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4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7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0" dur="5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3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6" dur="500"/>
                                        <p:tgtEl>
                                          <p:spTgt spid="2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9" dur="500"/>
                                        <p:tgtEl>
                                          <p:spTgt spid="2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2" dur="500"/>
                                        <p:tgtEl>
                                          <p:spTgt spid="2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5" dur="500"/>
                                        <p:tgtEl>
                                          <p:spTgt spid="2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6" fill="hold">
                      <p:stCondLst>
                        <p:cond delay="indefinite"/>
                      </p:stCondLst>
                      <p:childTnLst>
                        <p:par>
                          <p:cTn id="8807" fill="hold">
                            <p:stCondLst>
                              <p:cond delay="0"/>
                            </p:stCondLst>
                            <p:childTnLst>
                              <p:par>
                                <p:cTn id="88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0" dur="500"/>
                                        <p:tgtEl>
                                          <p:spTgt spid="2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3" dur="5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6" dur="5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9" dur="5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22" dur="500"/>
                                        <p:tgtEl>
                                          <p:spTgt spid="2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3" fill="hold">
                      <p:stCondLst>
                        <p:cond delay="indefinite"/>
                      </p:stCondLst>
                      <p:childTnLst>
                        <p:par>
                          <p:cTn id="8824" fill="hold">
                            <p:stCondLst>
                              <p:cond delay="0"/>
                            </p:stCondLst>
                            <p:childTnLst>
                              <p:par>
                                <p:cTn id="88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27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0" dur="5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3" dur="5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6" dur="5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9" dur="5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0" fill="hold">
                      <p:stCondLst>
                        <p:cond delay="indefinite"/>
                      </p:stCondLst>
                      <p:childTnLst>
                        <p:par>
                          <p:cTn id="8841" fill="hold">
                            <p:stCondLst>
                              <p:cond delay="0"/>
                            </p:stCondLst>
                            <p:childTnLst>
                              <p:par>
                                <p:cTn id="88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4" dur="10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5" dur="10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6" dur="100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7" fill="hold">
                      <p:stCondLst>
                        <p:cond delay="indefinite"/>
                      </p:stCondLst>
                      <p:childTnLst>
                        <p:par>
                          <p:cTn id="8848" fill="hold">
                            <p:stCondLst>
                              <p:cond delay="0"/>
                            </p:stCondLst>
                            <p:childTnLst>
                              <p:par>
                                <p:cTn id="88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1" dur="1000" fill="hold"/>
                                        <p:tgtEl>
                                          <p:spTgt spid="2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2" dur="1000" fill="hold"/>
                                        <p:tgtEl>
                                          <p:spTgt spid="2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3" dur="10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4" fill="hold">
                      <p:stCondLst>
                        <p:cond delay="indefinite"/>
                      </p:stCondLst>
                      <p:childTnLst>
                        <p:par>
                          <p:cTn id="8855" fill="hold">
                            <p:stCondLst>
                              <p:cond delay="0"/>
                            </p:stCondLst>
                            <p:childTnLst>
                              <p:par>
                                <p:cTn id="88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8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9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0" dur="1000"/>
                                        <p:tgtEl>
                                          <p:spTgt spid="2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1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4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5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6" dur="1000"/>
                                        <p:tgtEl>
                                          <p:spTgt spid="2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/>
          </p:nvPr>
        </p:nvSpPr>
        <p:spPr>
          <a:xfrm>
            <a:off x="179280" y="235080"/>
            <a:ext cx="8785440" cy="63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70000"/>
              </a:lnSpc>
              <a:spcBef>
                <a:spcPts val="24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Book Antiqua"/>
              </a:rPr>
              <a:t>К о н т р о л ь н ы е    в о п р о с 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( в скобках даны номера слайдов, в которых можно найти ответы на вопр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для перехода к слайду с ответом можно сделать щелчок мышью по номеру в скобках</a:t>
            </a:r>
            <a:r>
              <a:rPr b="1" i="1" lang="ru-RU" sz="1600" spc="-1" strike="noStrike" baseline="30000">
                <a:solidFill>
                  <a:srgbClr val="663300"/>
                </a:solidFill>
                <a:latin typeface="Book Antiqua"/>
              </a:rPr>
              <a:t>*)</a:t>
            </a: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для возврата к контрольным вопросам сделать щелчок правой кнопкой мыш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и выбрать «Перейти  к  слайду  18»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 Особенности расчёта деформируемых систем методом перемещений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обусловленные характером воздействия (силовое, температурно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инематическое)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( 8 )</a:t>
            </a:r>
            <a:r>
              <a:rPr b="1" lang="ru-RU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) только при узловых нагрузках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( 9 )</a:t>
            </a:r>
            <a:r>
              <a:rPr b="1" lang="ru-RU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) для СНС разных типов (балки, рамы, фермы, комбинированные системы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( 10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–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11 )</a:t>
            </a:r>
            <a:r>
              <a:rPr b="1" lang="ru-RU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 Приведение заданных воздействий к расчётным узловым нагрузкам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( 9 )</a:t>
            </a:r>
            <a:r>
              <a:rPr b="1" lang="ru-RU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 Использование групповых основных неизвестных в расчётах метод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емещений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( 12 )</a:t>
            </a:r>
            <a:r>
              <a:rPr b="1" lang="ru-RU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 Особенности группировки неизвестных в симметричных системах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( 13 )</a:t>
            </a:r>
            <a:r>
              <a:rPr b="1" lang="ru-RU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.  Особенности реакций связей в единичных состояниях ОСМП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( 14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и при за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здействиях 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( 15 )</a:t>
            </a:r>
            <a:r>
              <a:rPr b="1" lang="ru-RU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.  Какие упрощения в расчёте симметричной системы методом перемещений даё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спользование групповых неизвестных: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при произвольных воздействиях? 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( 14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) при воздействиях, обладающих прямой или обратной симметрией? 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( 14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 Расчёт симметричной системы с использованием разделения на части по о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имметр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какие преобразования заданных воздействий (нагрузок и др.) должны быть выполнены предварительно?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( 16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) как моделируется в схеме рассчитываемой половины системы влияние отбрасываемой другой части?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( 17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) чем отличаются схемы половины симметричной системы в расчётах на симметричную и обратносимметричную составляющие заданного воздействия? 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( 17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*)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Только в режиме «Показ слайдов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433440" y="63342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395280" y="214200"/>
            <a:ext cx="842472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П л а н</a:t>
            </a:r>
            <a:r>
              <a:rPr b="0" lang="ru-RU" sz="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-</a:t>
            </a:r>
            <a:r>
              <a:rPr b="0" lang="ru-RU" sz="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а л г о р и т м  расчёта деформируемой системы методом перемещений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766800"/>
            <a:ext cx="1655640" cy="299520"/>
          </a:xfrm>
          <a:prstGeom prst="rect">
            <a:avLst/>
          </a:prstGeom>
          <a:solidFill>
            <a:srgbClr val="84e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ап (ша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0920" y="765000"/>
            <a:ext cx="6769080" cy="299520"/>
          </a:xfrm>
          <a:prstGeom prst="rect">
            <a:avLst/>
          </a:prstGeom>
          <a:solidFill>
            <a:srgbClr val="84e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 о  д  е  р  ж  а  н  и 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125360"/>
            <a:ext cx="1655640" cy="54180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 Narrow"/>
              </a:rPr>
              <a:t>Выявление</a:t>
            </a: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 Narrow"/>
              </a:rPr>
              <a:t>степен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кинематической неопределим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2720" y="1128600"/>
            <a:ext cx="6767280" cy="99036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Назначение расчётных узлов;  определ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+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ж.у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дл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лоской системы;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– с помощью шарнирной системы ( Ш.С. ) 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ш.с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703520"/>
            <a:ext cx="1655640" cy="53280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.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ыбор основ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8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системы </a:t>
            </a:r>
            <a:r>
              <a:rPr b="1" lang="ru-RU" sz="1300" spc="-1" strike="noStrike">
                <a:solidFill>
                  <a:srgbClr val="000000"/>
                </a:solidFill>
                <a:latin typeface="Arial Narrow"/>
              </a:rPr>
              <a:t>метода пе-ремещений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(ОСМП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0920" y="1700280"/>
            <a:ext cx="6767640" cy="56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Введение угловых связей в жёсткие расчётные узлы и линейных связе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о направлениям принимаемых за основные неизвестные линейных перемещений расчётных узлов.    Номинация основных неизвестных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286000"/>
            <a:ext cx="1655640" cy="93600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3. Запись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канонически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уравн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метода переме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щений (КУМП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2720" y="2298600"/>
            <a:ext cx="6767280" cy="31212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Условия статической эквивалентност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С и ОСМП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0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611440"/>
            <a:ext cx="3961080" cy="23976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О б ы ч н а я   ф о р м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4720" y="2611440"/>
            <a:ext cx="2735280" cy="23976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М а т р и ч н а я   ф о р м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0920" y="2830680"/>
            <a:ext cx="3961080" cy="39816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84720" y="2797200"/>
            <a:ext cx="2735280" cy="43164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741760" y="2637000"/>
                <a:ext cx="25891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 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Σ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670800" y="2797200"/>
                <a:ext cx="15382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324000" y="3274920"/>
            <a:ext cx="1655640" cy="49248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Единичн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состояния ОСМ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271680"/>
            <a:ext cx="6840360" cy="537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пределение деформаций элементов ОСМП (с учётом условий совместности) и внутренних силовых факторов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1,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016600" y="3460680"/>
                <a:ext cx="16304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324000" y="3827520"/>
            <a:ext cx="1655640" cy="128160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5.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ычис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коэффициентов КУМ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2720" y="3822840"/>
            <a:ext cx="6767280" cy="27540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ычисление единичных реакций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(с использованием табличных данных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0920" y="4014720"/>
            <a:ext cx="3961080" cy="38412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а) статическим способо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б) кинематическим способо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84720" y="4064040"/>
            <a:ext cx="2735280" cy="108108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464160" y="4118040"/>
                <a:ext cx="19782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т</m:t>
                            </m:r>
                          </m:sup>
                        </m:sSub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т</m:t>
                            </m:r>
                          </m:sup>
                        </m:sSub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324000" y="5172120"/>
            <a:ext cx="1655640" cy="47844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Действитель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состояние ОСМ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5175360"/>
            <a:ext cx="6767280" cy="494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пределение внутренних силовых факто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т заданных  воздействий (с использованием табличных данных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5707080"/>
            <a:ext cx="1655640" cy="106812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ычис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вободных членов КУМ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5734080"/>
            <a:ext cx="3961080" cy="86364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7680" y="5734080"/>
            <a:ext cx="2735280" cy="86364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6456240" y="5145120"/>
                <a:ext cx="174168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2050920" y="4386240"/>
            <a:ext cx="3961080" cy="75888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303640" y="4305240"/>
                <a:ext cx="34797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nary>
                          </m:e>
                        </m:nary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,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e>
                        </m:ba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или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>
                            <m:r>
                              <m:t xml:space="preserve">К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362640" y="5894280"/>
                <a:ext cx="19335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Σ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т</m:t>
                            </m:r>
                          </m:sup>
                        </m:sSub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Σ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т</m:t>
                            </m:r>
                          </m:sup>
                        </m:sSub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Σ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Σ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2050920" y="5937120"/>
            <a:ext cx="3961080" cy="38448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а) статическим способо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б) кинематическим способо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205080" y="6232680"/>
                <a:ext cx="17049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Σ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2052720" y="5705640"/>
            <a:ext cx="6767280" cy="28728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Вычисление реакций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от силовых, температурных и кинематич. воздействий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112760"/>
            <a:ext cx="1655640" cy="408780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8. Провер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коэффиц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и свобод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членов КУМ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52720" y="1112760"/>
            <a:ext cx="6767280" cy="48384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ммарное единичное состояние ОСМП – от одновременных смещений введенных связей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= 1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= 1,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ие суммарных единичных ВС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2720" y="2840040"/>
            <a:ext cx="6767280" cy="44748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б) построчная проверка коэффициентов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при отрицательном результате универсальной провер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60640" y="2063880"/>
            <a:ext cx="3960720" cy="81864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 u="sng">
                <a:solidFill>
                  <a:srgbClr val="000000"/>
                </a:solidFill>
                <a:uFillTx/>
                <a:latin typeface="Arial Narrow"/>
              </a:rPr>
              <a:t>о б ы ч н а я   ф о р м 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84720" y="2070000"/>
            <a:ext cx="2735280" cy="79308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 u="sng">
                <a:solidFill>
                  <a:srgbClr val="000000"/>
                </a:solidFill>
                <a:uFillTx/>
                <a:latin typeface="Arial Narrow"/>
              </a:rPr>
              <a:t>м а т р и ч н а я   ф о р м 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60640" y="3260880"/>
            <a:ext cx="3960720" cy="51588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84720" y="3265560"/>
            <a:ext cx="2735280" cy="51120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52720" y="3803760"/>
            <a:ext cx="6767280" cy="27504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верка свободных членов канонических уравнений МП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60640" y="4078440"/>
            <a:ext cx="3960720" cy="115092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4078440"/>
            <a:ext cx="2735280" cy="115092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596360" y="1293840"/>
                <a:ext cx="122364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060640" y="1614600"/>
            <a:ext cx="6767280" cy="24300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верка коэффициентов канонических уравнений МП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60640" y="1843200"/>
            <a:ext cx="6767280" cy="23220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а) универсальная проверка коэффици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457360" y="2230560"/>
                <a:ext cx="32972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nary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u</m:t>
                        </m:r>
                      </m:sup>
                      <m:e>
                        <m:f>
                          <m:num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?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134040" y="2251080"/>
                <a:ext cx="26766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?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197080" y="3189240"/>
                <a:ext cx="40244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nary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u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?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  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300720" y="3200400"/>
                <a:ext cx="249408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?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189160" y="4011480"/>
                <a:ext cx="403560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Σ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  <m:sSubSup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F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s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,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 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?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Σ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1979640" y="1641600"/>
            <a:ext cx="433440" cy="215640"/>
          </a:xfrm>
          <a:prstGeom prst="rightArrow">
            <a:avLst>
              <a:gd name="adj1" fmla="val 41176"/>
              <a:gd name="adj2" fmla="val 762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69920" y="3827520"/>
            <a:ext cx="433440" cy="216000"/>
          </a:xfrm>
          <a:prstGeom prst="rightArrow">
            <a:avLst>
              <a:gd name="adj1" fmla="val 41176"/>
              <a:gd name="adj2" fmla="val 760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5288040"/>
            <a:ext cx="1655640" cy="131184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преде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снов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еизвестных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(решение КУМП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60640" y="5281560"/>
            <a:ext cx="3960720" cy="1284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282760" y="5202360"/>
                <a:ext cx="344160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(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 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e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k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 </m:t>
                            </m:r>
                          </m:e>
                        </m:ba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 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Σ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6093000" y="5281560"/>
            <a:ext cx="2727000" cy="127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883560" y="5740560"/>
                <a:ext cx="130176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395280" y="214200"/>
            <a:ext cx="842472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П л а н</a:t>
            </a:r>
            <a:r>
              <a:rPr b="0" lang="ru-RU" sz="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-</a:t>
            </a:r>
            <a:r>
              <a:rPr b="0" lang="ru-RU" sz="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а л г о р и т м  расчёта деформируемой системы методом перемещений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766800"/>
            <a:ext cx="1655640" cy="299520"/>
          </a:xfrm>
          <a:prstGeom prst="rect">
            <a:avLst/>
          </a:prstGeom>
          <a:solidFill>
            <a:srgbClr val="84e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ап (ша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0920" y="765000"/>
            <a:ext cx="6769080" cy="299520"/>
          </a:xfrm>
          <a:prstGeom prst="rect">
            <a:avLst/>
          </a:prstGeom>
          <a:solidFill>
            <a:srgbClr val="84e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 о  д  е  р  ж  а  н  и 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205680" y="4373640"/>
                <a:ext cx="25444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Σ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?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Σ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1125360"/>
            <a:ext cx="1655640" cy="1866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10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ычис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иском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усил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2720" y="2997360"/>
            <a:ext cx="6767280" cy="50292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С т а т и ч е с к а я    п р о в е р к 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 п р о в е р к а   р а в н о в е с и я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60640" y="3871800"/>
            <a:ext cx="3960720" cy="136692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84720" y="3873600"/>
            <a:ext cx="2735280" cy="136836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2992320"/>
            <a:ext cx="1655640" cy="3538440"/>
          </a:xfrm>
          <a:prstGeom prst="rect">
            <a:avLst/>
          </a:prstGeom>
          <a:solidFill>
            <a:srgbClr val="d9edef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11. Провер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результа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расчё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2720" y="3546360"/>
            <a:ext cx="6767280" cy="43488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К и н е м а т и ч е с к а я   ( деформационная )  п р о в е р к а  –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 Narrow"/>
              </a:rPr>
              <a:t>для СН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0920" y="1125360"/>
            <a:ext cx="3961080" cy="180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7960" y="1125360"/>
            <a:ext cx="2735280" cy="863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211480" y="4033800"/>
                <a:ext cx="373680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  <m:r>
                                          <m:t xml:space="preserve">S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,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0  </m:t>
                        </m:r>
                        <m:r>
                          <m:t xml:space="preserve">(</m:t>
                        </m:r>
                        <m:r>
                          <m:t xml:space="preserve">?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246560" y="1467000"/>
                <a:ext cx="1655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∋</m:t>
                    </m:r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Q 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162160" y="1263600"/>
                <a:ext cx="19350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981080" y="3579840"/>
            <a:ext cx="433440" cy="216000"/>
          </a:xfrm>
          <a:prstGeom prst="rightArrow">
            <a:avLst>
              <a:gd name="adj1" fmla="val 41176"/>
              <a:gd name="adj2" fmla="val 760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3116160"/>
            <a:ext cx="433440" cy="216000"/>
          </a:xfrm>
          <a:prstGeom prst="rightArrow">
            <a:avLst>
              <a:gd name="adj1" fmla="val 41176"/>
              <a:gd name="adj2" fmla="val 760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059520" y="1049400"/>
                <a:ext cx="27622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Σ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Σ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Σ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Σ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Σ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6084720" y="2023920"/>
            <a:ext cx="2735280" cy="90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38840" y="2936880"/>
            <a:ext cx="2160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а) системы в цел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45160" y="3116160"/>
            <a:ext cx="172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б) узл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6000" y="3287880"/>
            <a:ext cx="2448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в) выделенных ча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34080" y="37400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а)  о б щ а 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50920" y="5292720"/>
            <a:ext cx="3961080" cy="127944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216160" y="5329080"/>
                <a:ext cx="3882960" cy="12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  <m:r>
                                          <m:t xml:space="preserve">S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,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0  </m:t>
                        </m:r>
                        <m:r>
                          <m:t xml:space="preserve">(</m:t>
                        </m:r>
                        <m:r>
                          <m:t xml:space="preserve">?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491160" y="3787920"/>
                <a:ext cx="20242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т</m:t>
                            </m:r>
                          </m:sup>
                        </m:sSub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S</m:t>
                                </m:r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545160" y="4500720"/>
                <a:ext cx="21160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6084720" y="5281560"/>
            <a:ext cx="2735280" cy="129060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52228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б)  ч а с т н ы 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496200" y="5497560"/>
                <a:ext cx="206352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т</m:t>
                            </m:r>
                          </m:sup>
                        </m:sSub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S</m:t>
                                </m:r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592600" y="5765760"/>
                <a:ext cx="74772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e>
                    </m:ba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238480" y="2050920"/>
                <a:ext cx="36036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Σ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395280" y="214200"/>
            <a:ext cx="842472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П л а н</a:t>
            </a:r>
            <a:r>
              <a:rPr b="0" lang="ru-RU" sz="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-</a:t>
            </a:r>
            <a:r>
              <a:rPr b="0" lang="ru-RU" sz="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а л г о р и т м  расчёта деформируемой системы методом перемещений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766800"/>
            <a:ext cx="1655640" cy="299520"/>
          </a:xfrm>
          <a:prstGeom prst="rect">
            <a:avLst/>
          </a:prstGeom>
          <a:solidFill>
            <a:srgbClr val="84e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ап (ша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50920" y="765000"/>
            <a:ext cx="6769080" cy="299520"/>
          </a:xfrm>
          <a:prstGeom prst="rect">
            <a:avLst/>
          </a:prstGeom>
          <a:solidFill>
            <a:srgbClr val="84e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 о  д  е  р  ж  а  н  и 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056280" y="1978200"/>
                <a:ext cx="27622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Σ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eqArr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K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7800" y="326088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1332000" y="2938320"/>
            <a:ext cx="71280" cy="25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241280" y="3106800"/>
            <a:ext cx="25272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0160" y="3106800"/>
            <a:ext cx="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1322280" y="306216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65360" y="35719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09760" y="3411360"/>
            <a:ext cx="253800" cy="171720"/>
          </a:xfrm>
          <a:custGeom>
            <a:avLst/>
            <a:gdLst/>
            <a:ahLst/>
            <a:rect l="l" t="t" r="r" b="b"/>
            <a:pathLst>
              <a:path w="160" h="108">
                <a:moveTo>
                  <a:pt x="0" y="0"/>
                </a:moveTo>
                <a:lnTo>
                  <a:pt x="160" y="108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59000" y="3456000"/>
            <a:ext cx="36360" cy="36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 rot="1822800">
            <a:off x="1190160" y="3304800"/>
            <a:ext cx="288000" cy="22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48014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480144"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39960" y="3367080"/>
            <a:ext cx="0" cy="25236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880560" y="3619440"/>
            <a:ext cx="79236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74840" y="27018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9120" y="3373560"/>
            <a:ext cx="1724040" cy="911160"/>
          </a:xfrm>
          <a:custGeom>
            <a:avLst/>
            <a:gdLst/>
            <a:ahLst/>
            <a:rect l="l" t="t" r="r" b="b"/>
            <a:pathLst>
              <a:path w="1086" h="574">
                <a:moveTo>
                  <a:pt x="0" y="574"/>
                </a:moveTo>
                <a:lnTo>
                  <a:pt x="359" y="0"/>
                </a:lnTo>
                <a:lnTo>
                  <a:pt x="1086" y="0"/>
                </a:lnTo>
                <a:lnTo>
                  <a:pt x="1083" y="57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05160" y="4289400"/>
            <a:ext cx="215640" cy="7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05160" y="428940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4284720"/>
            <a:ext cx="215640" cy="7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42847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9620000">
            <a:off x="2239560" y="2944440"/>
            <a:ext cx="71640" cy="17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55760" y="2924280"/>
            <a:ext cx="252360" cy="4442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3002040"/>
            <a:ext cx="39600" cy="353880"/>
          </a:xfrm>
          <a:prstGeom prst="line">
            <a:avLst/>
          </a:prstGeom>
          <a:ln w="93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3240" y="3040200"/>
            <a:ext cx="147600" cy="66600"/>
          </a:xfrm>
          <a:custGeom>
            <a:avLst/>
            <a:gdLst/>
            <a:ahLst/>
            <a:rect l="l" t="t" r="r" b="b"/>
            <a:pathLst>
              <a:path w="93" h="42">
                <a:moveTo>
                  <a:pt x="0" y="42"/>
                </a:moveTo>
                <a:cubicBezTo>
                  <a:pt x="6" y="37"/>
                  <a:pt x="21" y="22"/>
                  <a:pt x="36" y="15"/>
                </a:cubicBezTo>
                <a:cubicBezTo>
                  <a:pt x="51" y="8"/>
                  <a:pt x="81" y="3"/>
                  <a:pt x="93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479600" y="4078440"/>
                <a:ext cx="58248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  <m:sup/>
                    </m:sSubSup>
                    <m:r>
                      <m:t xml:space="preserve">≈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1324080" y="33307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887040" y="3370320"/>
            <a:ext cx="43164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46160" y="3005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523960" y="33782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523960" y="36068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522520" y="38354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522520" y="40640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536560" y="42800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49680" y="3378240"/>
            <a:ext cx="1440" cy="906480"/>
          </a:xfrm>
          <a:custGeom>
            <a:avLst/>
            <a:gdLst/>
            <a:ahLst/>
            <a:rect l="l" t="t" r="r" b="b"/>
            <a:pathLst>
              <a:path w="1" h="571">
                <a:moveTo>
                  <a:pt x="1" y="0"/>
                </a:moveTo>
                <a:lnTo>
                  <a:pt x="0" y="5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20800" y="2708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38440" y="32018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11280" y="4653000"/>
                <a:ext cx="23032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,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3133800" y="1314360"/>
            <a:ext cx="71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4276800" y="1157040"/>
            <a:ext cx="71280" cy="252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186080" y="1325520"/>
            <a:ext cx="25272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14960" y="1330200"/>
            <a:ext cx="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4267080" y="128088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27400" y="1460520"/>
            <a:ext cx="150840" cy="100080"/>
          </a:xfrm>
          <a:custGeom>
            <a:avLst/>
            <a:gdLst/>
            <a:ahLst/>
            <a:rect l="l" t="t" r="r" b="b"/>
            <a:pathLst>
              <a:path w="95" h="63">
                <a:moveTo>
                  <a:pt x="0" y="0"/>
                </a:moveTo>
                <a:lnTo>
                  <a:pt x="95" y="63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76640" y="1504800"/>
            <a:ext cx="36720" cy="36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 rot="1822800">
            <a:off x="3907080" y="1353240"/>
            <a:ext cx="288720" cy="22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48014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480144"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1960" y="1415880"/>
            <a:ext cx="1800" cy="182880"/>
          </a:xfrm>
          <a:custGeom>
            <a:avLst/>
            <a:gdLst/>
            <a:ahLst/>
            <a:rect l="l" t="t" r="r" b="b"/>
            <a:pathLst>
              <a:path w="1" h="115">
                <a:moveTo>
                  <a:pt x="0" y="0"/>
                </a:moveTo>
                <a:lnTo>
                  <a:pt x="0" y="115"/>
                </a:ln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57680" y="1603440"/>
            <a:ext cx="501480" cy="1440"/>
          </a:xfrm>
          <a:custGeom>
            <a:avLst/>
            <a:gdLst/>
            <a:ahLst/>
            <a:rect l="l" t="t" r="r" b="b"/>
            <a:pathLst>
              <a:path w="316" h="1">
                <a:moveTo>
                  <a:pt x="316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06760" y="1422360"/>
            <a:ext cx="1724040" cy="911160"/>
          </a:xfrm>
          <a:custGeom>
            <a:avLst/>
            <a:gdLst/>
            <a:ahLst/>
            <a:rect l="l" t="t" r="r" b="b"/>
            <a:pathLst>
              <a:path w="1424" h="675">
                <a:moveTo>
                  <a:pt x="0" y="675"/>
                </a:moveTo>
                <a:lnTo>
                  <a:pt x="471" y="0"/>
                </a:lnTo>
                <a:lnTo>
                  <a:pt x="1424" y="0"/>
                </a:lnTo>
                <a:lnTo>
                  <a:pt x="1424" y="63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22800" y="2328840"/>
            <a:ext cx="216000" cy="7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22800" y="23385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02000" y="2333520"/>
            <a:ext cx="216000" cy="71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02000" y="23335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9380000">
            <a:off x="5295600" y="1130400"/>
            <a:ext cx="71280" cy="179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03880" y="1130400"/>
            <a:ext cx="21600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2120" y="155268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743280" y="1414440"/>
            <a:ext cx="28728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4500000" y="4717800"/>
            <a:ext cx="71280" cy="252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09640" y="488628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38520" y="4886280"/>
            <a:ext cx="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4490640" y="484200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7480" y="5153040"/>
            <a:ext cx="1724040" cy="911160"/>
          </a:xfrm>
          <a:custGeom>
            <a:avLst/>
            <a:gdLst/>
            <a:ahLst/>
            <a:rect l="l" t="t" r="r" b="b"/>
            <a:pathLst>
              <a:path w="1424" h="675">
                <a:moveTo>
                  <a:pt x="0" y="675"/>
                </a:moveTo>
                <a:lnTo>
                  <a:pt x="471" y="0"/>
                </a:lnTo>
                <a:lnTo>
                  <a:pt x="1424" y="0"/>
                </a:lnTo>
                <a:lnTo>
                  <a:pt x="1424" y="63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73880" y="6059520"/>
            <a:ext cx="215640" cy="7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3880" y="60688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52720" y="6054840"/>
            <a:ext cx="216000" cy="7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52720" y="60642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9380000">
            <a:off x="5465520" y="4861080"/>
            <a:ext cx="71280" cy="179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73800" y="4861080"/>
            <a:ext cx="21564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92800" y="511020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14880" y="48718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5692680" y="51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692680" y="5386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691240" y="5614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691240" y="58435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705280" y="60595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918040" y="5157720"/>
            <a:ext cx="1800" cy="906480"/>
          </a:xfrm>
          <a:custGeom>
            <a:avLst/>
            <a:gdLst/>
            <a:ahLst/>
            <a:rect l="l" t="t" r="r" b="b"/>
            <a:pathLst>
              <a:path w="1" h="571">
                <a:moveTo>
                  <a:pt x="1" y="0"/>
                </a:moveTo>
                <a:lnTo>
                  <a:pt x="0" y="5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79800" y="45752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72160" y="47912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40280" y="1378080"/>
            <a:ext cx="90360" cy="9036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6760" y="1627200"/>
            <a:ext cx="771480" cy="704880"/>
          </a:xfrm>
          <a:custGeom>
            <a:avLst/>
            <a:gdLst/>
            <a:ahLst/>
            <a:rect l="l" t="t" r="r" b="b"/>
            <a:pathLst>
              <a:path w="486" h="444">
                <a:moveTo>
                  <a:pt x="0" y="444"/>
                </a:moveTo>
                <a:cubicBezTo>
                  <a:pt x="6" y="433"/>
                  <a:pt x="19" y="407"/>
                  <a:pt x="39" y="381"/>
                </a:cubicBezTo>
                <a:cubicBezTo>
                  <a:pt x="59" y="355"/>
                  <a:pt x="85" y="321"/>
                  <a:pt x="117" y="288"/>
                </a:cubicBezTo>
                <a:cubicBezTo>
                  <a:pt x="149" y="255"/>
                  <a:pt x="193" y="214"/>
                  <a:pt x="234" y="180"/>
                </a:cubicBezTo>
                <a:cubicBezTo>
                  <a:pt x="275" y="146"/>
                  <a:pt x="321" y="114"/>
                  <a:pt x="363" y="84"/>
                </a:cubicBezTo>
                <a:cubicBezTo>
                  <a:pt x="405" y="54"/>
                  <a:pt x="461" y="17"/>
                  <a:pt x="486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38720" y="1427040"/>
            <a:ext cx="284040" cy="900360"/>
          </a:xfrm>
          <a:custGeom>
            <a:avLst/>
            <a:gdLst/>
            <a:ahLst/>
            <a:rect l="l" t="t" r="r" b="b"/>
            <a:pathLst>
              <a:path w="179" h="567">
                <a:moveTo>
                  <a:pt x="1" y="567"/>
                </a:moveTo>
                <a:cubicBezTo>
                  <a:pt x="2" y="554"/>
                  <a:pt x="0" y="522"/>
                  <a:pt x="9" y="487"/>
                </a:cubicBezTo>
                <a:cubicBezTo>
                  <a:pt x="18" y="452"/>
                  <a:pt x="32" y="406"/>
                  <a:pt x="53" y="359"/>
                </a:cubicBezTo>
                <a:cubicBezTo>
                  <a:pt x="74" y="312"/>
                  <a:pt x="113" y="251"/>
                  <a:pt x="133" y="203"/>
                </a:cubicBezTo>
                <a:cubicBezTo>
                  <a:pt x="153" y="155"/>
                  <a:pt x="165" y="103"/>
                  <a:pt x="172" y="69"/>
                </a:cubicBezTo>
                <a:cubicBezTo>
                  <a:pt x="179" y="35"/>
                  <a:pt x="175" y="14"/>
                  <a:pt x="17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63920" y="1425600"/>
            <a:ext cx="1162080" cy="158760"/>
          </a:xfrm>
          <a:custGeom>
            <a:avLst/>
            <a:gdLst/>
            <a:ahLst/>
            <a:rect l="l" t="t" r="r" b="b"/>
            <a:pathLst>
              <a:path w="732" h="100">
                <a:moveTo>
                  <a:pt x="0" y="100"/>
                </a:moveTo>
                <a:cubicBezTo>
                  <a:pt x="35" y="93"/>
                  <a:pt x="151" y="69"/>
                  <a:pt x="210" y="58"/>
                </a:cubicBezTo>
                <a:cubicBezTo>
                  <a:pt x="269" y="47"/>
                  <a:pt x="304" y="42"/>
                  <a:pt x="357" y="34"/>
                </a:cubicBezTo>
                <a:cubicBezTo>
                  <a:pt x="410" y="26"/>
                  <a:pt x="482" y="16"/>
                  <a:pt x="531" y="10"/>
                </a:cubicBezTo>
                <a:cubicBezTo>
                  <a:pt x="580" y="4"/>
                  <a:pt x="621" y="2"/>
                  <a:pt x="654" y="1"/>
                </a:cubicBezTo>
                <a:cubicBezTo>
                  <a:pt x="687" y="0"/>
                  <a:pt x="716" y="1"/>
                  <a:pt x="732" y="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19640" y="1650960"/>
            <a:ext cx="0" cy="36036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164200" y="1052640"/>
            <a:ext cx="223920" cy="195120"/>
          </a:xfrm>
          <a:custGeom>
            <a:avLst/>
            <a:gdLst/>
            <a:ahLst/>
            <a:rect l="l" t="t" r="r" b="b"/>
            <a:pathLst>
              <a:path w="141" h="123">
                <a:moveTo>
                  <a:pt x="1" y="123"/>
                </a:moveTo>
                <a:cubicBezTo>
                  <a:pt x="2" y="114"/>
                  <a:pt x="0" y="86"/>
                  <a:pt x="9" y="67"/>
                </a:cubicBezTo>
                <a:cubicBezTo>
                  <a:pt x="18" y="48"/>
                  <a:pt x="35" y="22"/>
                  <a:pt x="57" y="11"/>
                </a:cubicBezTo>
                <a:cubicBezTo>
                  <a:pt x="79" y="0"/>
                  <a:pt x="124" y="5"/>
                  <a:pt x="141" y="3"/>
                </a:cubicBez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21000" y="3005280"/>
            <a:ext cx="179280" cy="17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69880" y="294948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85840" y="2757600"/>
            <a:ext cx="179640" cy="17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38320" y="2708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22880" y="7160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73480" y="1890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02160" y="1738440"/>
            <a:ext cx="596880" cy="358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476600" y="1747800"/>
            <a:ext cx="67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23080" y="587520"/>
            <a:ext cx="7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049520" y="981000"/>
            <a:ext cx="71280" cy="2523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959160" y="114948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88040" y="1154160"/>
            <a:ext cx="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7039800" y="110484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516720" y="1422360"/>
            <a:ext cx="1724040" cy="911160"/>
          </a:xfrm>
          <a:custGeom>
            <a:avLst/>
            <a:gdLst/>
            <a:ahLst/>
            <a:rect l="l" t="t" r="r" b="b"/>
            <a:pathLst>
              <a:path w="1424" h="675">
                <a:moveTo>
                  <a:pt x="0" y="675"/>
                </a:moveTo>
                <a:lnTo>
                  <a:pt x="471" y="0"/>
                </a:lnTo>
                <a:lnTo>
                  <a:pt x="1424" y="0"/>
                </a:lnTo>
                <a:lnTo>
                  <a:pt x="1424" y="63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142120" y="2328840"/>
            <a:ext cx="216000" cy="7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140680" y="23385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11960" y="2333520"/>
            <a:ext cx="216000" cy="7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11960" y="23335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161200" y="1062000"/>
            <a:ext cx="71640" cy="1792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32840" y="1057320"/>
            <a:ext cx="9360" cy="350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45200" y="137628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516720" y="1455840"/>
            <a:ext cx="546120" cy="876240"/>
          </a:xfrm>
          <a:custGeom>
            <a:avLst/>
            <a:gdLst/>
            <a:ahLst/>
            <a:rect l="l" t="t" r="r" b="b"/>
            <a:pathLst>
              <a:path w="344" h="552">
                <a:moveTo>
                  <a:pt x="0" y="552"/>
                </a:moveTo>
                <a:cubicBezTo>
                  <a:pt x="57" y="460"/>
                  <a:pt x="272" y="115"/>
                  <a:pt x="34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115480" y="1422360"/>
            <a:ext cx="129960" cy="924120"/>
          </a:xfrm>
          <a:custGeom>
            <a:avLst/>
            <a:gdLst/>
            <a:ahLst/>
            <a:rect l="l" t="t" r="r" b="b"/>
            <a:pathLst>
              <a:path w="82" h="582">
                <a:moveTo>
                  <a:pt x="82" y="582"/>
                </a:moveTo>
                <a:cubicBezTo>
                  <a:pt x="81" y="572"/>
                  <a:pt x="78" y="543"/>
                  <a:pt x="74" y="522"/>
                </a:cubicBezTo>
                <a:cubicBezTo>
                  <a:pt x="70" y="501"/>
                  <a:pt x="67" y="485"/>
                  <a:pt x="58" y="454"/>
                </a:cubicBezTo>
                <a:cubicBezTo>
                  <a:pt x="49" y="423"/>
                  <a:pt x="28" y="377"/>
                  <a:pt x="18" y="338"/>
                </a:cubicBezTo>
                <a:cubicBezTo>
                  <a:pt x="8" y="299"/>
                  <a:pt x="0" y="260"/>
                  <a:pt x="0" y="222"/>
                </a:cubicBezTo>
                <a:cubicBezTo>
                  <a:pt x="0" y="184"/>
                  <a:pt x="10" y="139"/>
                  <a:pt x="18" y="108"/>
                </a:cubicBezTo>
                <a:cubicBezTo>
                  <a:pt x="26" y="77"/>
                  <a:pt x="42" y="54"/>
                  <a:pt x="51" y="36"/>
                </a:cubicBezTo>
                <a:cubicBezTo>
                  <a:pt x="60" y="18"/>
                  <a:pt x="70" y="8"/>
                  <a:pt x="7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134120" y="1249200"/>
            <a:ext cx="1109880" cy="168480"/>
          </a:xfrm>
          <a:custGeom>
            <a:avLst/>
            <a:gdLst/>
            <a:ahLst/>
            <a:rect l="l" t="t" r="r" b="b"/>
            <a:pathLst>
              <a:path w="699" h="106">
                <a:moveTo>
                  <a:pt x="0" y="94"/>
                </a:moveTo>
                <a:cubicBezTo>
                  <a:pt x="31" y="85"/>
                  <a:pt x="126" y="52"/>
                  <a:pt x="186" y="37"/>
                </a:cubicBezTo>
                <a:cubicBezTo>
                  <a:pt x="246" y="22"/>
                  <a:pt x="306" y="8"/>
                  <a:pt x="360" y="4"/>
                </a:cubicBezTo>
                <a:cubicBezTo>
                  <a:pt x="414" y="0"/>
                  <a:pt x="471" y="3"/>
                  <a:pt x="513" y="10"/>
                </a:cubicBezTo>
                <a:cubicBezTo>
                  <a:pt x="555" y="17"/>
                  <a:pt x="584" y="30"/>
                  <a:pt x="615" y="46"/>
                </a:cubicBezTo>
                <a:cubicBezTo>
                  <a:pt x="646" y="62"/>
                  <a:pt x="682" y="94"/>
                  <a:pt x="699" y="10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89840" y="1474920"/>
            <a:ext cx="0" cy="36036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97840" y="996840"/>
            <a:ext cx="257040" cy="106560"/>
          </a:xfrm>
          <a:custGeom>
            <a:avLst/>
            <a:gdLst/>
            <a:ahLst/>
            <a:rect l="l" t="t" r="r" b="b"/>
            <a:pathLst>
              <a:path w="162" h="67">
                <a:moveTo>
                  <a:pt x="0" y="52"/>
                </a:moveTo>
                <a:cubicBezTo>
                  <a:pt x="4" y="47"/>
                  <a:pt x="14" y="27"/>
                  <a:pt x="24" y="19"/>
                </a:cubicBezTo>
                <a:cubicBezTo>
                  <a:pt x="34" y="11"/>
                  <a:pt x="45" y="6"/>
                  <a:pt x="60" y="4"/>
                </a:cubicBezTo>
                <a:cubicBezTo>
                  <a:pt x="75" y="2"/>
                  <a:pt x="97" y="0"/>
                  <a:pt x="114" y="10"/>
                </a:cubicBezTo>
                <a:cubicBezTo>
                  <a:pt x="131" y="20"/>
                  <a:pt x="152" y="55"/>
                  <a:pt x="162" y="67"/>
                </a:cubicBez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24920" y="9684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46920" y="171468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321680" y="1738440"/>
            <a:ext cx="596880" cy="358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296120" y="1747800"/>
            <a:ext cx="67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24680" y="990720"/>
            <a:ext cx="290520" cy="385560"/>
          </a:xfrm>
          <a:custGeom>
            <a:avLst/>
            <a:gdLst/>
            <a:ahLst/>
            <a:rect l="l" t="t" r="r" b="b"/>
            <a:pathLst>
              <a:path w="183" h="243">
                <a:moveTo>
                  <a:pt x="0" y="0"/>
                </a:moveTo>
                <a:lnTo>
                  <a:pt x="183" y="243"/>
                </a:lnTo>
              </a:path>
            </a:pathLst>
          </a:custGeom>
          <a:noFill/>
          <a:ln w="12600">
            <a:solidFill>
              <a:srgbClr val="9900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31040" y="884160"/>
            <a:ext cx="1800" cy="182520"/>
          </a:xfrm>
          <a:custGeom>
            <a:avLst/>
            <a:gdLst/>
            <a:ahLst/>
            <a:rect l="l" t="t" r="r" b="b"/>
            <a:pathLst>
              <a:path w="1" h="115">
                <a:moveTo>
                  <a:pt x="0" y="0"/>
                </a:moveTo>
                <a:lnTo>
                  <a:pt x="0" y="115"/>
                </a:lnTo>
              </a:path>
            </a:pathLst>
          </a:custGeom>
          <a:noFill/>
          <a:ln w="648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50240" y="912960"/>
            <a:ext cx="279360" cy="110880"/>
          </a:xfrm>
          <a:custGeom>
            <a:avLst/>
            <a:gdLst/>
            <a:ahLst/>
            <a:rect l="l" t="t" r="r" b="b"/>
            <a:pathLst>
              <a:path w="176" h="70">
                <a:moveTo>
                  <a:pt x="0" y="70"/>
                </a:moveTo>
                <a:cubicBezTo>
                  <a:pt x="6" y="65"/>
                  <a:pt x="22" y="51"/>
                  <a:pt x="35" y="42"/>
                </a:cubicBezTo>
                <a:cubicBezTo>
                  <a:pt x="48" y="33"/>
                  <a:pt x="65" y="24"/>
                  <a:pt x="80" y="18"/>
                </a:cubicBezTo>
                <a:cubicBezTo>
                  <a:pt x="95" y="12"/>
                  <a:pt x="112" y="9"/>
                  <a:pt x="128" y="6"/>
                </a:cubicBezTo>
                <a:cubicBezTo>
                  <a:pt x="144" y="3"/>
                  <a:pt x="166" y="1"/>
                  <a:pt x="176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08360" y="54936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Единичные состояния основной сист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59280" y="5192640"/>
            <a:ext cx="546120" cy="876240"/>
          </a:xfrm>
          <a:custGeom>
            <a:avLst/>
            <a:gdLst/>
            <a:ahLst/>
            <a:rect l="l" t="t" r="r" b="b"/>
            <a:pathLst>
              <a:path w="344" h="552">
                <a:moveTo>
                  <a:pt x="0" y="552"/>
                </a:moveTo>
                <a:cubicBezTo>
                  <a:pt x="57" y="460"/>
                  <a:pt x="272" y="115"/>
                  <a:pt x="34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91080" y="5153040"/>
            <a:ext cx="1085760" cy="98280"/>
          </a:xfrm>
          <a:custGeom>
            <a:avLst/>
            <a:gdLst/>
            <a:ahLst/>
            <a:rect l="l" t="t" r="r" b="b"/>
            <a:pathLst>
              <a:path w="684" h="62">
                <a:moveTo>
                  <a:pt x="0" y="9"/>
                </a:moveTo>
                <a:cubicBezTo>
                  <a:pt x="24" y="15"/>
                  <a:pt x="95" y="37"/>
                  <a:pt x="144" y="45"/>
                </a:cubicBezTo>
                <a:cubicBezTo>
                  <a:pt x="193" y="53"/>
                  <a:pt x="253" y="58"/>
                  <a:pt x="297" y="60"/>
                </a:cubicBezTo>
                <a:cubicBezTo>
                  <a:pt x="341" y="62"/>
                  <a:pt x="373" y="61"/>
                  <a:pt x="411" y="57"/>
                </a:cubicBezTo>
                <a:cubicBezTo>
                  <a:pt x="449" y="53"/>
                  <a:pt x="490" y="41"/>
                  <a:pt x="525" y="33"/>
                </a:cubicBezTo>
                <a:cubicBezTo>
                  <a:pt x="560" y="25"/>
                  <a:pt x="598" y="14"/>
                  <a:pt x="624" y="9"/>
                </a:cubicBezTo>
                <a:cubicBezTo>
                  <a:pt x="650" y="4"/>
                  <a:pt x="672" y="2"/>
                  <a:pt x="68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97640" y="5143680"/>
            <a:ext cx="88920" cy="923760"/>
          </a:xfrm>
          <a:custGeom>
            <a:avLst/>
            <a:gdLst/>
            <a:ahLst/>
            <a:rect l="l" t="t" r="r" b="b"/>
            <a:pathLst>
              <a:path w="56" h="582">
                <a:moveTo>
                  <a:pt x="54" y="582"/>
                </a:moveTo>
                <a:cubicBezTo>
                  <a:pt x="53" y="571"/>
                  <a:pt x="53" y="541"/>
                  <a:pt x="46" y="514"/>
                </a:cubicBezTo>
                <a:cubicBezTo>
                  <a:pt x="39" y="487"/>
                  <a:pt x="21" y="449"/>
                  <a:pt x="14" y="422"/>
                </a:cubicBezTo>
                <a:cubicBezTo>
                  <a:pt x="7" y="395"/>
                  <a:pt x="4" y="379"/>
                  <a:pt x="2" y="354"/>
                </a:cubicBezTo>
                <a:cubicBezTo>
                  <a:pt x="0" y="329"/>
                  <a:pt x="0" y="300"/>
                  <a:pt x="2" y="274"/>
                </a:cubicBezTo>
                <a:cubicBezTo>
                  <a:pt x="4" y="248"/>
                  <a:pt x="7" y="224"/>
                  <a:pt x="14" y="198"/>
                </a:cubicBezTo>
                <a:cubicBezTo>
                  <a:pt x="21" y="172"/>
                  <a:pt x="36" y="142"/>
                  <a:pt x="42" y="118"/>
                </a:cubicBezTo>
                <a:cubicBezTo>
                  <a:pt x="48" y="94"/>
                  <a:pt x="51" y="74"/>
                  <a:pt x="53" y="54"/>
                </a:cubicBezTo>
                <a:cubicBezTo>
                  <a:pt x="55" y="34"/>
                  <a:pt x="55" y="11"/>
                  <a:pt x="56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40320" y="5203800"/>
            <a:ext cx="0" cy="36036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9524000">
            <a:off x="5326200" y="4791240"/>
            <a:ext cx="257040" cy="106200"/>
          </a:xfrm>
          <a:custGeom>
            <a:avLst/>
            <a:gdLst/>
            <a:ahLst/>
            <a:rect l="l" t="t" r="r" b="b"/>
            <a:pathLst>
              <a:path w="162" h="67">
                <a:moveTo>
                  <a:pt x="0" y="52"/>
                </a:moveTo>
                <a:cubicBezTo>
                  <a:pt x="4" y="47"/>
                  <a:pt x="14" y="27"/>
                  <a:pt x="24" y="19"/>
                </a:cubicBezTo>
                <a:cubicBezTo>
                  <a:pt x="34" y="11"/>
                  <a:pt x="45" y="6"/>
                  <a:pt x="60" y="4"/>
                </a:cubicBezTo>
                <a:cubicBezTo>
                  <a:pt x="75" y="2"/>
                  <a:pt x="97" y="0"/>
                  <a:pt x="114" y="10"/>
                </a:cubicBezTo>
                <a:cubicBezTo>
                  <a:pt x="131" y="20"/>
                  <a:pt x="152" y="55"/>
                  <a:pt x="162" y="67"/>
                </a:cubicBez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484960" y="4511520"/>
            <a:ext cx="57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17840" y="5481720"/>
            <a:ext cx="57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13280" y="5560920"/>
            <a:ext cx="406440" cy="358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894200" y="5543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30640" y="4329000"/>
            <a:ext cx="3024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рузовое состояние ОСМ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33600" y="3005280"/>
            <a:ext cx="738360" cy="914400"/>
          </a:xfrm>
          <a:custGeom>
            <a:avLst/>
            <a:gdLst/>
            <a:ahLst/>
            <a:rect l="l" t="t" r="r" b="b"/>
            <a:pathLst>
              <a:path w="465" h="576">
                <a:moveTo>
                  <a:pt x="465" y="0"/>
                </a:moveTo>
                <a:lnTo>
                  <a:pt x="0" y="525"/>
                </a:lnTo>
                <a:lnTo>
                  <a:pt x="101" y="576"/>
                </a:lnTo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68720" y="2852640"/>
            <a:ext cx="1152720" cy="150840"/>
          </a:xfrm>
          <a:custGeom>
            <a:avLst/>
            <a:gdLst/>
            <a:ahLst/>
            <a:rect l="l" t="t" r="r" b="b"/>
            <a:pathLst>
              <a:path w="726" h="182">
                <a:moveTo>
                  <a:pt x="0" y="182"/>
                </a:moveTo>
                <a:lnTo>
                  <a:pt x="726" y="0"/>
                </a:lnTo>
                <a:lnTo>
                  <a:pt x="726" y="182"/>
                </a:lnTo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48200" y="3009960"/>
            <a:ext cx="561960" cy="903240"/>
          </a:xfrm>
          <a:custGeom>
            <a:avLst/>
            <a:gdLst/>
            <a:ahLst/>
            <a:rect l="l" t="t" r="r" b="b"/>
            <a:pathLst>
              <a:path w="354" h="569">
                <a:moveTo>
                  <a:pt x="172" y="0"/>
                </a:moveTo>
                <a:lnTo>
                  <a:pt x="354" y="0"/>
                </a:lnTo>
                <a:lnTo>
                  <a:pt x="0" y="569"/>
                </a:lnTo>
                <a:lnTo>
                  <a:pt x="176" y="569"/>
                </a:lnTo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97400" y="3008160"/>
            <a:ext cx="1724040" cy="911520"/>
          </a:xfrm>
          <a:custGeom>
            <a:avLst/>
            <a:gdLst/>
            <a:ahLst/>
            <a:rect l="l" t="t" r="r" b="b"/>
            <a:pathLst>
              <a:path w="1086" h="574">
                <a:moveTo>
                  <a:pt x="0" y="574"/>
                </a:moveTo>
                <a:lnTo>
                  <a:pt x="359" y="0"/>
                </a:lnTo>
                <a:lnTo>
                  <a:pt x="1086" y="0"/>
                </a:lnTo>
                <a:lnTo>
                  <a:pt x="1086" y="5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74000" y="2492280"/>
            <a:ext cx="1152360" cy="505080"/>
          </a:xfrm>
          <a:custGeom>
            <a:avLst/>
            <a:gdLst/>
            <a:ahLst/>
            <a:rect l="l" t="t" r="r" b="b"/>
            <a:pathLst>
              <a:path w="726" h="182">
                <a:moveTo>
                  <a:pt x="0" y="182"/>
                </a:moveTo>
                <a:lnTo>
                  <a:pt x="726" y="0"/>
                </a:lnTo>
                <a:lnTo>
                  <a:pt x="726" y="182"/>
                </a:lnTo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853400" y="3009960"/>
            <a:ext cx="582480" cy="909720"/>
          </a:xfrm>
          <a:custGeom>
            <a:avLst/>
            <a:gdLst/>
            <a:ahLst/>
            <a:rect l="l" t="t" r="r" b="b"/>
            <a:pathLst>
              <a:path w="367" h="573">
                <a:moveTo>
                  <a:pt x="226" y="0"/>
                </a:moveTo>
                <a:lnTo>
                  <a:pt x="0" y="0"/>
                </a:lnTo>
                <a:lnTo>
                  <a:pt x="367" y="573"/>
                </a:lnTo>
                <a:lnTo>
                  <a:pt x="235" y="573"/>
                </a:lnTo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504120" y="3008160"/>
            <a:ext cx="1724040" cy="911520"/>
          </a:xfrm>
          <a:custGeom>
            <a:avLst/>
            <a:gdLst/>
            <a:ahLst/>
            <a:rect l="l" t="t" r="r" b="b"/>
            <a:pathLst>
              <a:path w="1086" h="574">
                <a:moveTo>
                  <a:pt x="0" y="574"/>
                </a:moveTo>
                <a:lnTo>
                  <a:pt x="359" y="0"/>
                </a:lnTo>
                <a:lnTo>
                  <a:pt x="1086" y="0"/>
                </a:lnTo>
                <a:lnTo>
                  <a:pt x="1086" y="5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86160" y="3416400"/>
            <a:ext cx="503280" cy="43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224840" y="3416400"/>
            <a:ext cx="503280" cy="43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82920" y="3409920"/>
            <a:ext cx="52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24840" y="340992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24680" y="5680080"/>
            <a:ext cx="503280" cy="43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0" y="5692680"/>
            <a:ext cx="86364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кН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778800" y="4734000"/>
            <a:ext cx="1152360" cy="658800"/>
          </a:xfrm>
          <a:custGeom>
            <a:avLst/>
            <a:gdLst/>
            <a:ahLst/>
            <a:rect l="l" t="t" r="r" b="b"/>
            <a:pathLst>
              <a:path w="726" h="289">
                <a:moveTo>
                  <a:pt x="0" y="182"/>
                </a:moveTo>
                <a:lnTo>
                  <a:pt x="358" y="289"/>
                </a:lnTo>
                <a:lnTo>
                  <a:pt x="726" y="0"/>
                </a:lnTo>
                <a:lnTo>
                  <a:pt x="726" y="182"/>
                </a:lnTo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42200" y="513864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792920" y="5146560"/>
            <a:ext cx="374760" cy="914400"/>
          </a:xfrm>
          <a:custGeom>
            <a:avLst/>
            <a:gdLst/>
            <a:ahLst/>
            <a:rect l="l" t="t" r="r" b="b"/>
            <a:pathLst>
              <a:path w="388" h="576">
                <a:moveTo>
                  <a:pt x="136" y="4"/>
                </a:moveTo>
                <a:cubicBezTo>
                  <a:pt x="175" y="3"/>
                  <a:pt x="248" y="4"/>
                  <a:pt x="372" y="0"/>
                </a:cubicBezTo>
                <a:cubicBezTo>
                  <a:pt x="280" y="40"/>
                  <a:pt x="264" y="51"/>
                  <a:pt x="224" y="72"/>
                </a:cubicBezTo>
                <a:cubicBezTo>
                  <a:pt x="184" y="93"/>
                  <a:pt x="163" y="105"/>
                  <a:pt x="132" y="128"/>
                </a:cubicBezTo>
                <a:cubicBezTo>
                  <a:pt x="101" y="151"/>
                  <a:pt x="58" y="183"/>
                  <a:pt x="36" y="212"/>
                </a:cubicBezTo>
                <a:cubicBezTo>
                  <a:pt x="14" y="241"/>
                  <a:pt x="0" y="274"/>
                  <a:pt x="0" y="304"/>
                </a:cubicBezTo>
                <a:cubicBezTo>
                  <a:pt x="0" y="334"/>
                  <a:pt x="15" y="367"/>
                  <a:pt x="36" y="392"/>
                </a:cubicBezTo>
                <a:cubicBezTo>
                  <a:pt x="57" y="417"/>
                  <a:pt x="95" y="437"/>
                  <a:pt x="128" y="456"/>
                </a:cubicBezTo>
                <a:cubicBezTo>
                  <a:pt x="161" y="475"/>
                  <a:pt x="189" y="488"/>
                  <a:pt x="232" y="508"/>
                </a:cubicBezTo>
                <a:cubicBezTo>
                  <a:pt x="275" y="528"/>
                  <a:pt x="312" y="544"/>
                  <a:pt x="388" y="576"/>
                </a:cubicBezTo>
                <a:cubicBezTo>
                  <a:pt x="268" y="572"/>
                  <a:pt x="188" y="574"/>
                  <a:pt x="136" y="574"/>
                </a:cubicBezTo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07120" y="5146560"/>
            <a:ext cx="1724040" cy="911520"/>
          </a:xfrm>
          <a:custGeom>
            <a:avLst/>
            <a:gdLst/>
            <a:ahLst/>
            <a:rect l="l" t="t" r="r" b="b"/>
            <a:pathLst>
              <a:path w="1086" h="574">
                <a:moveTo>
                  <a:pt x="0" y="574"/>
                </a:moveTo>
                <a:lnTo>
                  <a:pt x="359" y="0"/>
                </a:lnTo>
                <a:lnTo>
                  <a:pt x="1086" y="0"/>
                </a:lnTo>
                <a:lnTo>
                  <a:pt x="1086" y="5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18160" y="2257560"/>
            <a:ext cx="174600" cy="358560"/>
          </a:xfrm>
          <a:prstGeom prst="downArrow">
            <a:avLst>
              <a:gd name="adj1" fmla="val 50000"/>
              <a:gd name="adj2" fmla="val 51340"/>
            </a:avLst>
          </a:prstGeom>
          <a:solidFill>
            <a:srgbClr val="d6ece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553160" y="2260440"/>
            <a:ext cx="174960" cy="358920"/>
          </a:xfrm>
          <a:prstGeom prst="downArrow">
            <a:avLst>
              <a:gd name="adj1" fmla="val 50000"/>
              <a:gd name="adj2" fmla="val 51286"/>
            </a:avLst>
          </a:prstGeom>
          <a:solidFill>
            <a:srgbClr val="d6ece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6103800" y="5432040"/>
            <a:ext cx="174600" cy="358560"/>
          </a:xfrm>
          <a:prstGeom prst="downArrow">
            <a:avLst>
              <a:gd name="adj1" fmla="val 50000"/>
              <a:gd name="adj2" fmla="val 51340"/>
            </a:avLst>
          </a:prstGeom>
          <a:solidFill>
            <a:srgbClr val="d6ece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89120" y="1120680"/>
            <a:ext cx="1724040" cy="911160"/>
          </a:xfrm>
          <a:custGeom>
            <a:avLst/>
            <a:gdLst/>
            <a:ahLst/>
            <a:rect l="l" t="t" r="r" b="b"/>
            <a:pathLst>
              <a:path w="1086" h="574">
                <a:moveTo>
                  <a:pt x="0" y="574"/>
                </a:moveTo>
                <a:lnTo>
                  <a:pt x="359" y="0"/>
                </a:lnTo>
                <a:lnTo>
                  <a:pt x="1086" y="0"/>
                </a:lnTo>
                <a:lnTo>
                  <a:pt x="1083" y="57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05160" y="2036880"/>
            <a:ext cx="215640" cy="712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05160" y="20368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4360" y="2031840"/>
            <a:ext cx="215640" cy="716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20318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24080" y="107784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46160" y="7524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523960" y="112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523960" y="13539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2522520" y="15825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2522520" y="1811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536560" y="20271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49680" y="1125360"/>
            <a:ext cx="1440" cy="906480"/>
          </a:xfrm>
          <a:custGeom>
            <a:avLst/>
            <a:gdLst/>
            <a:ahLst/>
            <a:rect l="l" t="t" r="r" b="b"/>
            <a:pathLst>
              <a:path w="1" h="571">
                <a:moveTo>
                  <a:pt x="1" y="0"/>
                </a:moveTo>
                <a:lnTo>
                  <a:pt x="0" y="5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09640" y="4478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78080" y="7588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Н/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78200" y="20952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П р и м е 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24000" y="1446120"/>
            <a:ext cx="4320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76520" y="1116000"/>
            <a:ext cx="5760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18135000">
            <a:off x="601920" y="1355400"/>
            <a:ext cx="7207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,5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89120" y="2257560"/>
            <a:ext cx="1728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4080" y="2031840"/>
            <a:ext cx="0" cy="289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13160" y="2031840"/>
            <a:ext cx="0" cy="289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74840" y="2031840"/>
            <a:ext cx="0" cy="289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51200" y="2035080"/>
            <a:ext cx="0" cy="289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92200" y="1125360"/>
            <a:ext cx="0" cy="90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20560" y="1125360"/>
            <a:ext cx="432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23800" y="2036880"/>
            <a:ext cx="217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755640" y="222408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341360" y="222408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908000" y="2228400"/>
            <a:ext cx="7164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475000" y="2228400"/>
            <a:ext cx="712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568080" y="110016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553680" y="199404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450800" y="4097160"/>
            <a:ext cx="636840" cy="3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80920" y="2001960"/>
            <a:ext cx="4320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57280" y="2008080"/>
            <a:ext cx="4320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023920" y="2003400"/>
            <a:ext cx="4320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6200000">
            <a:off x="209880" y="1435680"/>
            <a:ext cx="5842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0640" y="2295360"/>
            <a:ext cx="216072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+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9640" y="27208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ОСМ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104840" y="3141720"/>
            <a:ext cx="216000" cy="179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58880" y="3156120"/>
            <a:ext cx="216000" cy="179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74600" y="31082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29000" y="3122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33640" y="37450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958680" y="3745080"/>
            <a:ext cx="5763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Тип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38480" y="3728880"/>
            <a:ext cx="215640" cy="21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841400" y="3429000"/>
            <a:ext cx="216000" cy="21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666800" y="3429000"/>
            <a:ext cx="5763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Тип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025720" y="3728880"/>
            <a:ext cx="5763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Тип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41440" y="331956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443320" y="3322800"/>
            <a:ext cx="0" cy="10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2455560" y="3441600"/>
            <a:ext cx="10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2452320" y="4233960"/>
            <a:ext cx="10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774720" y="4194000"/>
            <a:ext cx="100080" cy="5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1245960" y="3414240"/>
            <a:ext cx="9972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76560" y="3116160"/>
            <a:ext cx="349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18134400">
            <a:off x="553680" y="4020840"/>
            <a:ext cx="349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8134400">
            <a:off x="973080" y="3308040"/>
            <a:ext cx="349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306440" y="3116160"/>
            <a:ext cx="349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39920" y="3382920"/>
            <a:ext cx="349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201760" y="4043520"/>
            <a:ext cx="349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68360" y="443700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анонические уравне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4070160" y="1628640"/>
            <a:ext cx="215640" cy="36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4370400" y="1603440"/>
            <a:ext cx="50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529240" y="1420920"/>
            <a:ext cx="0" cy="43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235480" y="180648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842000" y="1418760"/>
            <a:ext cx="0" cy="17964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3841560" y="1787400"/>
            <a:ext cx="252360" cy="16200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786120" y="1857240"/>
            <a:ext cx="4669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781520" y="1447920"/>
            <a:ext cx="4669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00640" y="1801800"/>
            <a:ext cx="4669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778200" y="2328840"/>
            <a:ext cx="865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 5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,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 4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00440" y="2460600"/>
            <a:ext cx="907920" cy="824400"/>
          </a:xfrm>
          <a:prstGeom prst="rect">
            <a:avLst/>
          </a:prstGeom>
          <a:solidFill>
            <a:srgbClr val="dce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1,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16360" y="3870360"/>
            <a:ext cx="1441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,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032440" y="2544840"/>
            <a:ext cx="1201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545000" y="3879720"/>
            <a:ext cx="1513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,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3238560" y="3836880"/>
            <a:ext cx="92160" cy="135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62560" y="3006720"/>
            <a:ext cx="233280" cy="927000"/>
          </a:xfrm>
          <a:custGeom>
            <a:avLst/>
            <a:gdLst/>
            <a:ahLst/>
            <a:rect l="l" t="t" r="r" b="b"/>
            <a:pathLst>
              <a:path w="147" h="584">
                <a:moveTo>
                  <a:pt x="92" y="0"/>
                </a:moveTo>
                <a:cubicBezTo>
                  <a:pt x="111" y="41"/>
                  <a:pt x="130" y="83"/>
                  <a:pt x="138" y="136"/>
                </a:cubicBezTo>
                <a:cubicBezTo>
                  <a:pt x="146" y="189"/>
                  <a:pt x="147" y="260"/>
                  <a:pt x="138" y="317"/>
                </a:cubicBezTo>
                <a:cubicBezTo>
                  <a:pt x="129" y="374"/>
                  <a:pt x="107" y="432"/>
                  <a:pt x="84" y="476"/>
                </a:cubicBezTo>
                <a:cubicBezTo>
                  <a:pt x="61" y="520"/>
                  <a:pt x="17" y="562"/>
                  <a:pt x="0" y="584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879440" y="390528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175600" y="2330280"/>
            <a:ext cx="841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180200" y="2967120"/>
            <a:ext cx="841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123400" y="3875040"/>
            <a:ext cx="841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661000" y="865080"/>
                <a:ext cx="1036800" cy="14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1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1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,1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,1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,1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,1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9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5526000" y="218268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–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89720" y="2955960"/>
            <a:ext cx="1368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–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580000" y="3297240"/>
            <a:ext cx="1079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1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7567560" y="4375080"/>
                <a:ext cx="1008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8032680" y="5338800"/>
                <a:ext cx="7923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l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8163000" y="5138640"/>
            <a:ext cx="38160" cy="196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8172000" y="5892840"/>
            <a:ext cx="47880" cy="166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139160" y="53150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7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683160" y="6221520"/>
            <a:ext cx="30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7,5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кН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11280" y="5229360"/>
            <a:ext cx="29527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9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–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+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7,5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–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  25  =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65280" y="5292720"/>
            <a:ext cx="73080" cy="503280"/>
          </a:xfrm>
          <a:custGeom>
            <a:avLst/>
            <a:gdLst>
              <a:gd name="textAreaLeft" fmla="*/ 46800 w 73080"/>
              <a:gd name="textAreaRight" fmla="*/ 73440 w 7308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5280" y="5878440"/>
            <a:ext cx="3097080" cy="405720"/>
          </a:xfrm>
          <a:prstGeom prst="rect">
            <a:avLst/>
          </a:prstGeom>
          <a:solidFill>
            <a:srgbClr val="eaf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 –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,667/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–4,167/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6280" y="6230880"/>
            <a:ext cx="25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 = 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+ 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4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8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9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0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1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2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5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6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7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2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3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4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3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4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5" dur="8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4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5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6" dur="8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9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0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1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6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7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8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3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4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5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5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6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7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2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3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4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9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0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1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67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1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68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68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77800" y="326088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5400000">
            <a:off x="1332000" y="2938320"/>
            <a:ext cx="71280" cy="25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241280" y="3106800"/>
            <a:ext cx="25272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70160" y="3106800"/>
            <a:ext cx="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5400000">
            <a:off x="1322280" y="306216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665360" y="35719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409760" y="3411360"/>
            <a:ext cx="253800" cy="171720"/>
          </a:xfrm>
          <a:custGeom>
            <a:avLst/>
            <a:gdLst/>
            <a:ahLst/>
            <a:rect l="l" t="t" r="r" b="b"/>
            <a:pathLst>
              <a:path w="160" h="108">
                <a:moveTo>
                  <a:pt x="0" y="0"/>
                </a:moveTo>
                <a:lnTo>
                  <a:pt x="160" y="108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359000" y="3456000"/>
            <a:ext cx="36360" cy="36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 rot="1822800">
            <a:off x="1190160" y="3304800"/>
            <a:ext cx="288000" cy="22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48014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480144"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39960" y="3367080"/>
            <a:ext cx="0" cy="25236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880560" y="3619440"/>
            <a:ext cx="79236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274840" y="27018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89120" y="3373560"/>
            <a:ext cx="1724040" cy="911160"/>
          </a:xfrm>
          <a:custGeom>
            <a:avLst/>
            <a:gdLst/>
            <a:ahLst/>
            <a:rect l="l" t="t" r="r" b="b"/>
            <a:pathLst>
              <a:path w="1086" h="574">
                <a:moveTo>
                  <a:pt x="0" y="574"/>
                </a:moveTo>
                <a:lnTo>
                  <a:pt x="359" y="0"/>
                </a:lnTo>
                <a:lnTo>
                  <a:pt x="1086" y="0"/>
                </a:lnTo>
                <a:lnTo>
                  <a:pt x="1083" y="57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05160" y="4289400"/>
            <a:ext cx="215640" cy="7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405160" y="428940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84360" y="4284720"/>
            <a:ext cx="215640" cy="7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84360" y="42847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9620000">
            <a:off x="2239560" y="2944440"/>
            <a:ext cx="71640" cy="17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255760" y="2924280"/>
            <a:ext cx="252360" cy="4442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484360" y="3002040"/>
            <a:ext cx="39600" cy="353880"/>
          </a:xfrm>
          <a:prstGeom prst="line">
            <a:avLst/>
          </a:prstGeom>
          <a:ln w="93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343240" y="3040200"/>
            <a:ext cx="147600" cy="66600"/>
          </a:xfrm>
          <a:custGeom>
            <a:avLst/>
            <a:gdLst/>
            <a:ahLst/>
            <a:rect l="l" t="t" r="r" b="b"/>
            <a:pathLst>
              <a:path w="93" h="42">
                <a:moveTo>
                  <a:pt x="0" y="42"/>
                </a:moveTo>
                <a:cubicBezTo>
                  <a:pt x="6" y="37"/>
                  <a:pt x="21" y="22"/>
                  <a:pt x="36" y="15"/>
                </a:cubicBezTo>
                <a:cubicBezTo>
                  <a:pt x="51" y="8"/>
                  <a:pt x="81" y="3"/>
                  <a:pt x="93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479600" y="4078440"/>
                <a:ext cx="58248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  <m:sup/>
                    </m:sSubSup>
                    <m:r>
                      <m:t xml:space="preserve">≈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>
            <a:off x="1324080" y="33307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887040" y="3370320"/>
            <a:ext cx="43164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946160" y="3005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2523960" y="33782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23960" y="36068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2522520" y="38354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522520" y="40640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2536560" y="42800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749680" y="3378240"/>
            <a:ext cx="1440" cy="906480"/>
          </a:xfrm>
          <a:custGeom>
            <a:avLst/>
            <a:gdLst/>
            <a:ahLst/>
            <a:rect l="l" t="t" r="r" b="b"/>
            <a:pathLst>
              <a:path w="1" h="571">
                <a:moveTo>
                  <a:pt x="1" y="0"/>
                </a:moveTo>
                <a:lnTo>
                  <a:pt x="0" y="5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720800" y="2708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638440" y="32018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133800" y="1314360"/>
            <a:ext cx="71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5400000">
            <a:off x="4276800" y="1157040"/>
            <a:ext cx="71280" cy="252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4186080" y="1325520"/>
            <a:ext cx="25272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314960" y="1330200"/>
            <a:ext cx="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5400000">
            <a:off x="4267080" y="128088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127400" y="1460520"/>
            <a:ext cx="150840" cy="100080"/>
          </a:xfrm>
          <a:custGeom>
            <a:avLst/>
            <a:gdLst/>
            <a:ahLst/>
            <a:rect l="l" t="t" r="r" b="b"/>
            <a:pathLst>
              <a:path w="95" h="63">
                <a:moveTo>
                  <a:pt x="0" y="0"/>
                </a:moveTo>
                <a:lnTo>
                  <a:pt x="95" y="63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076640" y="1504800"/>
            <a:ext cx="36720" cy="36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 rot="1822800">
            <a:off x="3907080" y="1353240"/>
            <a:ext cx="288720" cy="22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48014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480144"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801960" y="1415880"/>
            <a:ext cx="1800" cy="182880"/>
          </a:xfrm>
          <a:custGeom>
            <a:avLst/>
            <a:gdLst/>
            <a:ahLst/>
            <a:rect l="l" t="t" r="r" b="b"/>
            <a:pathLst>
              <a:path w="1" h="115">
                <a:moveTo>
                  <a:pt x="0" y="0"/>
                </a:moveTo>
                <a:lnTo>
                  <a:pt x="0" y="115"/>
                </a:ln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757680" y="1603440"/>
            <a:ext cx="501480" cy="1440"/>
          </a:xfrm>
          <a:custGeom>
            <a:avLst/>
            <a:gdLst/>
            <a:ahLst/>
            <a:rect l="l" t="t" r="r" b="b"/>
            <a:pathLst>
              <a:path w="316" h="1">
                <a:moveTo>
                  <a:pt x="316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06760" y="1422360"/>
            <a:ext cx="1724040" cy="911160"/>
          </a:xfrm>
          <a:custGeom>
            <a:avLst/>
            <a:gdLst/>
            <a:ahLst/>
            <a:rect l="l" t="t" r="r" b="b"/>
            <a:pathLst>
              <a:path w="1424" h="675">
                <a:moveTo>
                  <a:pt x="0" y="675"/>
                </a:moveTo>
                <a:lnTo>
                  <a:pt x="471" y="0"/>
                </a:lnTo>
                <a:lnTo>
                  <a:pt x="1424" y="0"/>
                </a:lnTo>
                <a:lnTo>
                  <a:pt x="1424" y="63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122800" y="2328840"/>
            <a:ext cx="216000" cy="7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122800" y="23385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402000" y="2333520"/>
            <a:ext cx="216000" cy="71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402000" y="23335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19380000">
            <a:off x="5295600" y="1130400"/>
            <a:ext cx="71280" cy="179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303880" y="1130400"/>
            <a:ext cx="21600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272120" y="155268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3743280" y="1414440"/>
            <a:ext cx="28728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5400000">
            <a:off x="4500000" y="4717800"/>
            <a:ext cx="71280" cy="252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4409640" y="488628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538520" y="4886280"/>
            <a:ext cx="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5400000">
            <a:off x="4490640" y="484200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57480" y="5153040"/>
            <a:ext cx="1724040" cy="911160"/>
          </a:xfrm>
          <a:custGeom>
            <a:avLst/>
            <a:gdLst/>
            <a:ahLst/>
            <a:rect l="l" t="t" r="r" b="b"/>
            <a:pathLst>
              <a:path w="1424" h="675">
                <a:moveTo>
                  <a:pt x="0" y="675"/>
                </a:moveTo>
                <a:lnTo>
                  <a:pt x="471" y="0"/>
                </a:lnTo>
                <a:lnTo>
                  <a:pt x="1424" y="0"/>
                </a:lnTo>
                <a:lnTo>
                  <a:pt x="1424" y="63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573880" y="6059520"/>
            <a:ext cx="215640" cy="7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573880" y="60688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852720" y="6054840"/>
            <a:ext cx="216000" cy="7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852720" y="60642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rot="19380000">
            <a:off x="5465520" y="4861080"/>
            <a:ext cx="71280" cy="179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473800" y="4861080"/>
            <a:ext cx="21564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492800" y="511020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114880" y="48718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5692680" y="51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5692680" y="53863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5691240" y="5614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5691240" y="58435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5705280" y="60595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918040" y="5157720"/>
            <a:ext cx="1800" cy="906480"/>
          </a:xfrm>
          <a:custGeom>
            <a:avLst/>
            <a:gdLst/>
            <a:ahLst/>
            <a:rect l="l" t="t" r="r" b="b"/>
            <a:pathLst>
              <a:path w="1" h="571">
                <a:moveTo>
                  <a:pt x="1" y="0"/>
                </a:moveTo>
                <a:lnTo>
                  <a:pt x="0" y="5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879800" y="45752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672160" y="47912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040280" y="1378080"/>
            <a:ext cx="90360" cy="9036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06760" y="1627200"/>
            <a:ext cx="771480" cy="704880"/>
          </a:xfrm>
          <a:custGeom>
            <a:avLst/>
            <a:gdLst/>
            <a:ahLst/>
            <a:rect l="l" t="t" r="r" b="b"/>
            <a:pathLst>
              <a:path w="486" h="444">
                <a:moveTo>
                  <a:pt x="0" y="444"/>
                </a:moveTo>
                <a:cubicBezTo>
                  <a:pt x="6" y="433"/>
                  <a:pt x="19" y="407"/>
                  <a:pt x="39" y="381"/>
                </a:cubicBezTo>
                <a:cubicBezTo>
                  <a:pt x="59" y="355"/>
                  <a:pt x="85" y="321"/>
                  <a:pt x="117" y="288"/>
                </a:cubicBezTo>
                <a:cubicBezTo>
                  <a:pt x="149" y="255"/>
                  <a:pt x="193" y="214"/>
                  <a:pt x="234" y="180"/>
                </a:cubicBezTo>
                <a:cubicBezTo>
                  <a:pt x="275" y="146"/>
                  <a:pt x="321" y="114"/>
                  <a:pt x="363" y="84"/>
                </a:cubicBezTo>
                <a:cubicBezTo>
                  <a:pt x="405" y="54"/>
                  <a:pt x="461" y="17"/>
                  <a:pt x="486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238720" y="1427040"/>
            <a:ext cx="284040" cy="900360"/>
          </a:xfrm>
          <a:custGeom>
            <a:avLst/>
            <a:gdLst/>
            <a:ahLst/>
            <a:rect l="l" t="t" r="r" b="b"/>
            <a:pathLst>
              <a:path w="179" h="567">
                <a:moveTo>
                  <a:pt x="1" y="567"/>
                </a:moveTo>
                <a:cubicBezTo>
                  <a:pt x="2" y="554"/>
                  <a:pt x="0" y="522"/>
                  <a:pt x="9" y="487"/>
                </a:cubicBezTo>
                <a:cubicBezTo>
                  <a:pt x="18" y="452"/>
                  <a:pt x="32" y="406"/>
                  <a:pt x="53" y="359"/>
                </a:cubicBezTo>
                <a:cubicBezTo>
                  <a:pt x="74" y="312"/>
                  <a:pt x="113" y="251"/>
                  <a:pt x="133" y="203"/>
                </a:cubicBezTo>
                <a:cubicBezTo>
                  <a:pt x="153" y="155"/>
                  <a:pt x="165" y="103"/>
                  <a:pt x="172" y="69"/>
                </a:cubicBezTo>
                <a:cubicBezTo>
                  <a:pt x="179" y="35"/>
                  <a:pt x="175" y="14"/>
                  <a:pt x="17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363920" y="1425600"/>
            <a:ext cx="1162080" cy="158760"/>
          </a:xfrm>
          <a:custGeom>
            <a:avLst/>
            <a:gdLst/>
            <a:ahLst/>
            <a:rect l="l" t="t" r="r" b="b"/>
            <a:pathLst>
              <a:path w="732" h="100">
                <a:moveTo>
                  <a:pt x="0" y="100"/>
                </a:moveTo>
                <a:cubicBezTo>
                  <a:pt x="35" y="93"/>
                  <a:pt x="151" y="69"/>
                  <a:pt x="210" y="58"/>
                </a:cubicBezTo>
                <a:cubicBezTo>
                  <a:pt x="269" y="47"/>
                  <a:pt x="304" y="42"/>
                  <a:pt x="357" y="34"/>
                </a:cubicBezTo>
                <a:cubicBezTo>
                  <a:pt x="410" y="26"/>
                  <a:pt x="482" y="16"/>
                  <a:pt x="531" y="10"/>
                </a:cubicBezTo>
                <a:cubicBezTo>
                  <a:pt x="580" y="4"/>
                  <a:pt x="621" y="2"/>
                  <a:pt x="654" y="1"/>
                </a:cubicBezTo>
                <a:cubicBezTo>
                  <a:pt x="687" y="0"/>
                  <a:pt x="716" y="1"/>
                  <a:pt x="732" y="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319640" y="1650960"/>
            <a:ext cx="0" cy="36036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164200" y="1052640"/>
            <a:ext cx="223920" cy="195120"/>
          </a:xfrm>
          <a:custGeom>
            <a:avLst/>
            <a:gdLst/>
            <a:ahLst/>
            <a:rect l="l" t="t" r="r" b="b"/>
            <a:pathLst>
              <a:path w="141" h="123">
                <a:moveTo>
                  <a:pt x="1" y="123"/>
                </a:moveTo>
                <a:cubicBezTo>
                  <a:pt x="2" y="114"/>
                  <a:pt x="0" y="86"/>
                  <a:pt x="9" y="67"/>
                </a:cubicBezTo>
                <a:cubicBezTo>
                  <a:pt x="18" y="48"/>
                  <a:pt x="35" y="22"/>
                  <a:pt x="57" y="11"/>
                </a:cubicBezTo>
                <a:cubicBezTo>
                  <a:pt x="79" y="0"/>
                  <a:pt x="124" y="5"/>
                  <a:pt x="141" y="3"/>
                </a:cubicBez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21000" y="3005280"/>
            <a:ext cx="179280" cy="17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469880" y="294948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085840" y="2757600"/>
            <a:ext cx="179640" cy="17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038320" y="27082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22880" y="7160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173480" y="1890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502160" y="1738440"/>
            <a:ext cx="596880" cy="358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76600" y="1747800"/>
            <a:ext cx="67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723080" y="587520"/>
            <a:ext cx="7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rot="5400000">
            <a:off x="7049520" y="981000"/>
            <a:ext cx="71280" cy="2523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6959160" y="114948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088040" y="1154160"/>
            <a:ext cx="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5400000">
            <a:off x="7039800" y="110484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516720" y="1422360"/>
            <a:ext cx="1724040" cy="911160"/>
          </a:xfrm>
          <a:custGeom>
            <a:avLst/>
            <a:gdLst/>
            <a:ahLst/>
            <a:rect l="l" t="t" r="r" b="b"/>
            <a:pathLst>
              <a:path w="1424" h="675">
                <a:moveTo>
                  <a:pt x="0" y="675"/>
                </a:moveTo>
                <a:lnTo>
                  <a:pt x="471" y="0"/>
                </a:lnTo>
                <a:lnTo>
                  <a:pt x="1424" y="0"/>
                </a:lnTo>
                <a:lnTo>
                  <a:pt x="1424" y="63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142120" y="2328840"/>
            <a:ext cx="216000" cy="7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40680" y="23385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411960" y="2333520"/>
            <a:ext cx="216000" cy="7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411960" y="23335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161200" y="1062000"/>
            <a:ext cx="71640" cy="1792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232840" y="1057320"/>
            <a:ext cx="9360" cy="350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45200" y="137628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516720" y="1455840"/>
            <a:ext cx="546120" cy="876240"/>
          </a:xfrm>
          <a:custGeom>
            <a:avLst/>
            <a:gdLst/>
            <a:ahLst/>
            <a:rect l="l" t="t" r="r" b="b"/>
            <a:pathLst>
              <a:path w="344" h="552">
                <a:moveTo>
                  <a:pt x="0" y="552"/>
                </a:moveTo>
                <a:cubicBezTo>
                  <a:pt x="57" y="460"/>
                  <a:pt x="272" y="115"/>
                  <a:pt x="34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115480" y="1422360"/>
            <a:ext cx="129960" cy="924120"/>
          </a:xfrm>
          <a:custGeom>
            <a:avLst/>
            <a:gdLst/>
            <a:ahLst/>
            <a:rect l="l" t="t" r="r" b="b"/>
            <a:pathLst>
              <a:path w="82" h="582">
                <a:moveTo>
                  <a:pt x="82" y="582"/>
                </a:moveTo>
                <a:cubicBezTo>
                  <a:pt x="81" y="572"/>
                  <a:pt x="78" y="543"/>
                  <a:pt x="74" y="522"/>
                </a:cubicBezTo>
                <a:cubicBezTo>
                  <a:pt x="70" y="501"/>
                  <a:pt x="67" y="485"/>
                  <a:pt x="58" y="454"/>
                </a:cubicBezTo>
                <a:cubicBezTo>
                  <a:pt x="49" y="423"/>
                  <a:pt x="28" y="377"/>
                  <a:pt x="18" y="338"/>
                </a:cubicBezTo>
                <a:cubicBezTo>
                  <a:pt x="8" y="299"/>
                  <a:pt x="0" y="260"/>
                  <a:pt x="0" y="222"/>
                </a:cubicBezTo>
                <a:cubicBezTo>
                  <a:pt x="0" y="184"/>
                  <a:pt x="10" y="139"/>
                  <a:pt x="18" y="108"/>
                </a:cubicBezTo>
                <a:cubicBezTo>
                  <a:pt x="26" y="77"/>
                  <a:pt x="42" y="54"/>
                  <a:pt x="51" y="36"/>
                </a:cubicBezTo>
                <a:cubicBezTo>
                  <a:pt x="60" y="18"/>
                  <a:pt x="70" y="8"/>
                  <a:pt x="7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134120" y="1249200"/>
            <a:ext cx="1109880" cy="168480"/>
          </a:xfrm>
          <a:custGeom>
            <a:avLst/>
            <a:gdLst/>
            <a:ahLst/>
            <a:rect l="l" t="t" r="r" b="b"/>
            <a:pathLst>
              <a:path w="699" h="106">
                <a:moveTo>
                  <a:pt x="0" y="94"/>
                </a:moveTo>
                <a:cubicBezTo>
                  <a:pt x="31" y="85"/>
                  <a:pt x="126" y="52"/>
                  <a:pt x="186" y="37"/>
                </a:cubicBezTo>
                <a:cubicBezTo>
                  <a:pt x="246" y="22"/>
                  <a:pt x="306" y="8"/>
                  <a:pt x="360" y="4"/>
                </a:cubicBezTo>
                <a:cubicBezTo>
                  <a:pt x="414" y="0"/>
                  <a:pt x="471" y="3"/>
                  <a:pt x="513" y="10"/>
                </a:cubicBezTo>
                <a:cubicBezTo>
                  <a:pt x="555" y="17"/>
                  <a:pt x="584" y="30"/>
                  <a:pt x="615" y="46"/>
                </a:cubicBezTo>
                <a:cubicBezTo>
                  <a:pt x="646" y="62"/>
                  <a:pt x="682" y="94"/>
                  <a:pt x="699" y="10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089840" y="1474920"/>
            <a:ext cx="0" cy="36036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097840" y="996840"/>
            <a:ext cx="257040" cy="106560"/>
          </a:xfrm>
          <a:custGeom>
            <a:avLst/>
            <a:gdLst/>
            <a:ahLst/>
            <a:rect l="l" t="t" r="r" b="b"/>
            <a:pathLst>
              <a:path w="162" h="67">
                <a:moveTo>
                  <a:pt x="0" y="52"/>
                </a:moveTo>
                <a:cubicBezTo>
                  <a:pt x="4" y="47"/>
                  <a:pt x="14" y="27"/>
                  <a:pt x="24" y="19"/>
                </a:cubicBezTo>
                <a:cubicBezTo>
                  <a:pt x="34" y="11"/>
                  <a:pt x="45" y="6"/>
                  <a:pt x="60" y="4"/>
                </a:cubicBezTo>
                <a:cubicBezTo>
                  <a:pt x="75" y="2"/>
                  <a:pt x="97" y="0"/>
                  <a:pt x="114" y="10"/>
                </a:cubicBezTo>
                <a:cubicBezTo>
                  <a:pt x="131" y="20"/>
                  <a:pt x="152" y="55"/>
                  <a:pt x="162" y="67"/>
                </a:cubicBez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224920" y="9684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946920" y="171468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321680" y="1738440"/>
            <a:ext cx="596880" cy="358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296120" y="1747800"/>
            <a:ext cx="67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924680" y="990720"/>
            <a:ext cx="290520" cy="385560"/>
          </a:xfrm>
          <a:custGeom>
            <a:avLst/>
            <a:gdLst/>
            <a:ahLst/>
            <a:rect l="l" t="t" r="r" b="b"/>
            <a:pathLst>
              <a:path w="183" h="243">
                <a:moveTo>
                  <a:pt x="0" y="0"/>
                </a:moveTo>
                <a:lnTo>
                  <a:pt x="183" y="243"/>
                </a:lnTo>
              </a:path>
            </a:pathLst>
          </a:custGeom>
          <a:noFill/>
          <a:ln w="12600">
            <a:solidFill>
              <a:srgbClr val="9900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8231040" y="884160"/>
            <a:ext cx="1800" cy="182520"/>
          </a:xfrm>
          <a:custGeom>
            <a:avLst/>
            <a:gdLst/>
            <a:ahLst/>
            <a:rect l="l" t="t" r="r" b="b"/>
            <a:pathLst>
              <a:path w="1" h="115">
                <a:moveTo>
                  <a:pt x="0" y="0"/>
                </a:moveTo>
                <a:lnTo>
                  <a:pt x="0" y="115"/>
                </a:lnTo>
              </a:path>
            </a:pathLst>
          </a:custGeom>
          <a:noFill/>
          <a:ln w="648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950240" y="912960"/>
            <a:ext cx="279360" cy="110880"/>
          </a:xfrm>
          <a:custGeom>
            <a:avLst/>
            <a:gdLst/>
            <a:ahLst/>
            <a:rect l="l" t="t" r="r" b="b"/>
            <a:pathLst>
              <a:path w="176" h="70">
                <a:moveTo>
                  <a:pt x="0" y="70"/>
                </a:moveTo>
                <a:cubicBezTo>
                  <a:pt x="6" y="65"/>
                  <a:pt x="22" y="51"/>
                  <a:pt x="35" y="42"/>
                </a:cubicBezTo>
                <a:cubicBezTo>
                  <a:pt x="48" y="33"/>
                  <a:pt x="65" y="24"/>
                  <a:pt x="80" y="18"/>
                </a:cubicBezTo>
                <a:cubicBezTo>
                  <a:pt x="95" y="12"/>
                  <a:pt x="112" y="9"/>
                  <a:pt x="128" y="6"/>
                </a:cubicBezTo>
                <a:cubicBezTo>
                  <a:pt x="144" y="3"/>
                  <a:pt x="166" y="1"/>
                  <a:pt x="176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708360" y="54936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Единичные состояния основной сист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59280" y="5192640"/>
            <a:ext cx="546120" cy="876240"/>
          </a:xfrm>
          <a:custGeom>
            <a:avLst/>
            <a:gdLst/>
            <a:ahLst/>
            <a:rect l="l" t="t" r="r" b="b"/>
            <a:pathLst>
              <a:path w="344" h="552">
                <a:moveTo>
                  <a:pt x="0" y="552"/>
                </a:moveTo>
                <a:cubicBezTo>
                  <a:pt x="57" y="460"/>
                  <a:pt x="272" y="115"/>
                  <a:pt x="34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591080" y="5153040"/>
            <a:ext cx="1085760" cy="98280"/>
          </a:xfrm>
          <a:custGeom>
            <a:avLst/>
            <a:gdLst/>
            <a:ahLst/>
            <a:rect l="l" t="t" r="r" b="b"/>
            <a:pathLst>
              <a:path w="684" h="62">
                <a:moveTo>
                  <a:pt x="0" y="9"/>
                </a:moveTo>
                <a:cubicBezTo>
                  <a:pt x="24" y="15"/>
                  <a:pt x="95" y="37"/>
                  <a:pt x="144" y="45"/>
                </a:cubicBezTo>
                <a:cubicBezTo>
                  <a:pt x="193" y="53"/>
                  <a:pt x="253" y="58"/>
                  <a:pt x="297" y="60"/>
                </a:cubicBezTo>
                <a:cubicBezTo>
                  <a:pt x="341" y="62"/>
                  <a:pt x="373" y="61"/>
                  <a:pt x="411" y="57"/>
                </a:cubicBezTo>
                <a:cubicBezTo>
                  <a:pt x="449" y="53"/>
                  <a:pt x="490" y="41"/>
                  <a:pt x="525" y="33"/>
                </a:cubicBezTo>
                <a:cubicBezTo>
                  <a:pt x="560" y="25"/>
                  <a:pt x="598" y="14"/>
                  <a:pt x="624" y="9"/>
                </a:cubicBezTo>
                <a:cubicBezTo>
                  <a:pt x="650" y="4"/>
                  <a:pt x="672" y="2"/>
                  <a:pt x="68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97640" y="5143680"/>
            <a:ext cx="88920" cy="923760"/>
          </a:xfrm>
          <a:custGeom>
            <a:avLst/>
            <a:gdLst/>
            <a:ahLst/>
            <a:rect l="l" t="t" r="r" b="b"/>
            <a:pathLst>
              <a:path w="56" h="582">
                <a:moveTo>
                  <a:pt x="54" y="582"/>
                </a:moveTo>
                <a:cubicBezTo>
                  <a:pt x="53" y="571"/>
                  <a:pt x="53" y="541"/>
                  <a:pt x="46" y="514"/>
                </a:cubicBezTo>
                <a:cubicBezTo>
                  <a:pt x="39" y="487"/>
                  <a:pt x="21" y="449"/>
                  <a:pt x="14" y="422"/>
                </a:cubicBezTo>
                <a:cubicBezTo>
                  <a:pt x="7" y="395"/>
                  <a:pt x="4" y="379"/>
                  <a:pt x="2" y="354"/>
                </a:cubicBezTo>
                <a:cubicBezTo>
                  <a:pt x="0" y="329"/>
                  <a:pt x="0" y="300"/>
                  <a:pt x="2" y="274"/>
                </a:cubicBezTo>
                <a:cubicBezTo>
                  <a:pt x="4" y="248"/>
                  <a:pt x="7" y="224"/>
                  <a:pt x="14" y="198"/>
                </a:cubicBezTo>
                <a:cubicBezTo>
                  <a:pt x="21" y="172"/>
                  <a:pt x="36" y="142"/>
                  <a:pt x="42" y="118"/>
                </a:cubicBezTo>
                <a:cubicBezTo>
                  <a:pt x="48" y="94"/>
                  <a:pt x="51" y="74"/>
                  <a:pt x="53" y="54"/>
                </a:cubicBezTo>
                <a:cubicBezTo>
                  <a:pt x="55" y="34"/>
                  <a:pt x="55" y="11"/>
                  <a:pt x="56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540320" y="5203800"/>
            <a:ext cx="0" cy="36036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rot="19524000">
            <a:off x="5326200" y="4791240"/>
            <a:ext cx="257040" cy="106200"/>
          </a:xfrm>
          <a:custGeom>
            <a:avLst/>
            <a:gdLst/>
            <a:ahLst/>
            <a:rect l="l" t="t" r="r" b="b"/>
            <a:pathLst>
              <a:path w="162" h="67">
                <a:moveTo>
                  <a:pt x="0" y="52"/>
                </a:moveTo>
                <a:cubicBezTo>
                  <a:pt x="4" y="47"/>
                  <a:pt x="14" y="27"/>
                  <a:pt x="24" y="19"/>
                </a:cubicBezTo>
                <a:cubicBezTo>
                  <a:pt x="34" y="11"/>
                  <a:pt x="45" y="6"/>
                  <a:pt x="60" y="4"/>
                </a:cubicBezTo>
                <a:cubicBezTo>
                  <a:pt x="75" y="2"/>
                  <a:pt x="97" y="0"/>
                  <a:pt x="114" y="10"/>
                </a:cubicBezTo>
                <a:cubicBezTo>
                  <a:pt x="131" y="20"/>
                  <a:pt x="152" y="55"/>
                  <a:pt x="162" y="67"/>
                </a:cubicBez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484960" y="4511520"/>
            <a:ext cx="57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317840" y="5481720"/>
            <a:ext cx="57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913280" y="5560920"/>
            <a:ext cx="406440" cy="358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94200" y="5543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130640" y="4329000"/>
            <a:ext cx="3024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рузовое состояние ОСМ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333600" y="3005280"/>
            <a:ext cx="738360" cy="914400"/>
          </a:xfrm>
          <a:custGeom>
            <a:avLst/>
            <a:gdLst/>
            <a:ahLst/>
            <a:rect l="l" t="t" r="r" b="b"/>
            <a:pathLst>
              <a:path w="465" h="576">
                <a:moveTo>
                  <a:pt x="465" y="0"/>
                </a:moveTo>
                <a:lnTo>
                  <a:pt x="0" y="525"/>
                </a:lnTo>
                <a:lnTo>
                  <a:pt x="101" y="576"/>
                </a:lnTo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068720" y="2852640"/>
            <a:ext cx="1152720" cy="150840"/>
          </a:xfrm>
          <a:custGeom>
            <a:avLst/>
            <a:gdLst/>
            <a:ahLst/>
            <a:rect l="l" t="t" r="r" b="b"/>
            <a:pathLst>
              <a:path w="726" h="182">
                <a:moveTo>
                  <a:pt x="0" y="182"/>
                </a:moveTo>
                <a:lnTo>
                  <a:pt x="726" y="0"/>
                </a:lnTo>
                <a:lnTo>
                  <a:pt x="726" y="182"/>
                </a:lnTo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948200" y="3009960"/>
            <a:ext cx="561960" cy="903240"/>
          </a:xfrm>
          <a:custGeom>
            <a:avLst/>
            <a:gdLst/>
            <a:ahLst/>
            <a:rect l="l" t="t" r="r" b="b"/>
            <a:pathLst>
              <a:path w="354" h="569">
                <a:moveTo>
                  <a:pt x="172" y="0"/>
                </a:moveTo>
                <a:lnTo>
                  <a:pt x="354" y="0"/>
                </a:lnTo>
                <a:lnTo>
                  <a:pt x="0" y="569"/>
                </a:lnTo>
                <a:lnTo>
                  <a:pt x="176" y="569"/>
                </a:lnTo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497400" y="3008160"/>
            <a:ext cx="1724040" cy="911520"/>
          </a:xfrm>
          <a:custGeom>
            <a:avLst/>
            <a:gdLst/>
            <a:ahLst/>
            <a:rect l="l" t="t" r="r" b="b"/>
            <a:pathLst>
              <a:path w="1086" h="574">
                <a:moveTo>
                  <a:pt x="0" y="574"/>
                </a:moveTo>
                <a:lnTo>
                  <a:pt x="359" y="0"/>
                </a:lnTo>
                <a:lnTo>
                  <a:pt x="1086" y="0"/>
                </a:lnTo>
                <a:lnTo>
                  <a:pt x="1086" y="5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074000" y="2492280"/>
            <a:ext cx="1152360" cy="505080"/>
          </a:xfrm>
          <a:custGeom>
            <a:avLst/>
            <a:gdLst/>
            <a:ahLst/>
            <a:rect l="l" t="t" r="r" b="b"/>
            <a:pathLst>
              <a:path w="726" h="182">
                <a:moveTo>
                  <a:pt x="0" y="182"/>
                </a:moveTo>
                <a:lnTo>
                  <a:pt x="726" y="0"/>
                </a:lnTo>
                <a:lnTo>
                  <a:pt x="726" y="182"/>
                </a:lnTo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853400" y="3009960"/>
            <a:ext cx="582480" cy="909720"/>
          </a:xfrm>
          <a:custGeom>
            <a:avLst/>
            <a:gdLst/>
            <a:ahLst/>
            <a:rect l="l" t="t" r="r" b="b"/>
            <a:pathLst>
              <a:path w="367" h="573">
                <a:moveTo>
                  <a:pt x="226" y="0"/>
                </a:moveTo>
                <a:lnTo>
                  <a:pt x="0" y="0"/>
                </a:lnTo>
                <a:lnTo>
                  <a:pt x="367" y="573"/>
                </a:lnTo>
                <a:lnTo>
                  <a:pt x="235" y="573"/>
                </a:lnTo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504120" y="3008160"/>
            <a:ext cx="1724040" cy="911520"/>
          </a:xfrm>
          <a:custGeom>
            <a:avLst/>
            <a:gdLst/>
            <a:ahLst/>
            <a:rect l="l" t="t" r="r" b="b"/>
            <a:pathLst>
              <a:path w="1086" h="574">
                <a:moveTo>
                  <a:pt x="0" y="574"/>
                </a:moveTo>
                <a:lnTo>
                  <a:pt x="359" y="0"/>
                </a:lnTo>
                <a:lnTo>
                  <a:pt x="1086" y="0"/>
                </a:lnTo>
                <a:lnTo>
                  <a:pt x="1086" y="5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286160" y="3416400"/>
            <a:ext cx="503280" cy="43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224840" y="3416400"/>
            <a:ext cx="503280" cy="43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282920" y="3409920"/>
            <a:ext cx="52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224840" y="340992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24680" y="5680080"/>
            <a:ext cx="503280" cy="43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858000" y="5692680"/>
            <a:ext cx="86364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кН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778800" y="4734000"/>
            <a:ext cx="1152360" cy="658800"/>
          </a:xfrm>
          <a:custGeom>
            <a:avLst/>
            <a:gdLst/>
            <a:ahLst/>
            <a:rect l="l" t="t" r="r" b="b"/>
            <a:pathLst>
              <a:path w="726" h="289">
                <a:moveTo>
                  <a:pt x="0" y="182"/>
                </a:moveTo>
                <a:lnTo>
                  <a:pt x="358" y="289"/>
                </a:lnTo>
                <a:lnTo>
                  <a:pt x="726" y="0"/>
                </a:lnTo>
                <a:lnTo>
                  <a:pt x="726" y="182"/>
                </a:lnTo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342200" y="513864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792920" y="5146560"/>
            <a:ext cx="374760" cy="914400"/>
          </a:xfrm>
          <a:custGeom>
            <a:avLst/>
            <a:gdLst/>
            <a:ahLst/>
            <a:rect l="l" t="t" r="r" b="b"/>
            <a:pathLst>
              <a:path w="388" h="576">
                <a:moveTo>
                  <a:pt x="136" y="4"/>
                </a:moveTo>
                <a:cubicBezTo>
                  <a:pt x="175" y="3"/>
                  <a:pt x="248" y="4"/>
                  <a:pt x="372" y="0"/>
                </a:cubicBezTo>
                <a:cubicBezTo>
                  <a:pt x="280" y="40"/>
                  <a:pt x="264" y="51"/>
                  <a:pt x="224" y="72"/>
                </a:cubicBezTo>
                <a:cubicBezTo>
                  <a:pt x="184" y="93"/>
                  <a:pt x="163" y="105"/>
                  <a:pt x="132" y="128"/>
                </a:cubicBezTo>
                <a:cubicBezTo>
                  <a:pt x="101" y="151"/>
                  <a:pt x="58" y="183"/>
                  <a:pt x="36" y="212"/>
                </a:cubicBezTo>
                <a:cubicBezTo>
                  <a:pt x="14" y="241"/>
                  <a:pt x="0" y="274"/>
                  <a:pt x="0" y="304"/>
                </a:cubicBezTo>
                <a:cubicBezTo>
                  <a:pt x="0" y="334"/>
                  <a:pt x="15" y="367"/>
                  <a:pt x="36" y="392"/>
                </a:cubicBezTo>
                <a:cubicBezTo>
                  <a:pt x="57" y="417"/>
                  <a:pt x="95" y="437"/>
                  <a:pt x="128" y="456"/>
                </a:cubicBezTo>
                <a:cubicBezTo>
                  <a:pt x="161" y="475"/>
                  <a:pt x="189" y="488"/>
                  <a:pt x="232" y="508"/>
                </a:cubicBezTo>
                <a:cubicBezTo>
                  <a:pt x="275" y="528"/>
                  <a:pt x="312" y="544"/>
                  <a:pt x="388" y="576"/>
                </a:cubicBezTo>
                <a:cubicBezTo>
                  <a:pt x="268" y="572"/>
                  <a:pt x="188" y="574"/>
                  <a:pt x="136" y="574"/>
                </a:cubicBezTo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207120" y="5146560"/>
            <a:ext cx="1724040" cy="911520"/>
          </a:xfrm>
          <a:custGeom>
            <a:avLst/>
            <a:gdLst/>
            <a:ahLst/>
            <a:rect l="l" t="t" r="r" b="b"/>
            <a:pathLst>
              <a:path w="1086" h="574">
                <a:moveTo>
                  <a:pt x="0" y="574"/>
                </a:moveTo>
                <a:lnTo>
                  <a:pt x="359" y="0"/>
                </a:lnTo>
                <a:lnTo>
                  <a:pt x="1086" y="0"/>
                </a:lnTo>
                <a:lnTo>
                  <a:pt x="1086" y="5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718160" y="2257560"/>
            <a:ext cx="174600" cy="358560"/>
          </a:xfrm>
          <a:prstGeom prst="downArrow">
            <a:avLst>
              <a:gd name="adj1" fmla="val 50000"/>
              <a:gd name="adj2" fmla="val 51340"/>
            </a:avLst>
          </a:prstGeom>
          <a:solidFill>
            <a:srgbClr val="d6ece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553160" y="2260440"/>
            <a:ext cx="174960" cy="358920"/>
          </a:xfrm>
          <a:prstGeom prst="downArrow">
            <a:avLst>
              <a:gd name="adj1" fmla="val 50000"/>
              <a:gd name="adj2" fmla="val 51286"/>
            </a:avLst>
          </a:prstGeom>
          <a:solidFill>
            <a:srgbClr val="d6ece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16200000">
            <a:off x="6103800" y="5432040"/>
            <a:ext cx="174600" cy="358560"/>
          </a:xfrm>
          <a:prstGeom prst="downArrow">
            <a:avLst>
              <a:gd name="adj1" fmla="val 50000"/>
              <a:gd name="adj2" fmla="val 51340"/>
            </a:avLst>
          </a:prstGeom>
          <a:solidFill>
            <a:srgbClr val="d6ece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89120" y="1120680"/>
            <a:ext cx="1724040" cy="911160"/>
          </a:xfrm>
          <a:custGeom>
            <a:avLst/>
            <a:gdLst/>
            <a:ahLst/>
            <a:rect l="l" t="t" r="r" b="b"/>
            <a:pathLst>
              <a:path w="1086" h="574">
                <a:moveTo>
                  <a:pt x="0" y="574"/>
                </a:moveTo>
                <a:lnTo>
                  <a:pt x="359" y="0"/>
                </a:lnTo>
                <a:lnTo>
                  <a:pt x="1086" y="0"/>
                </a:lnTo>
                <a:lnTo>
                  <a:pt x="1083" y="57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405160" y="2036880"/>
            <a:ext cx="215640" cy="712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405160" y="20368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84360" y="2031840"/>
            <a:ext cx="215640" cy="716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20318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324080" y="107784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46160" y="7524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2523960" y="112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523960" y="13539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2522520" y="15825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2522520" y="1811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2536560" y="20271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749680" y="1125360"/>
            <a:ext cx="1440" cy="906480"/>
          </a:xfrm>
          <a:custGeom>
            <a:avLst/>
            <a:gdLst/>
            <a:ahLst/>
            <a:rect l="l" t="t" r="r" b="b"/>
            <a:pathLst>
              <a:path w="1" h="571">
                <a:moveTo>
                  <a:pt x="1" y="0"/>
                </a:moveTo>
                <a:lnTo>
                  <a:pt x="0" y="5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709640" y="4478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78080" y="7588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Н/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778200" y="20952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П р и м е 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124000" y="1446120"/>
            <a:ext cx="4320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76520" y="1116000"/>
            <a:ext cx="5760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18135000">
            <a:off x="601920" y="1355400"/>
            <a:ext cx="7207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,5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89120" y="2257560"/>
            <a:ext cx="1728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84080" y="2031840"/>
            <a:ext cx="0" cy="289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13160" y="2031840"/>
            <a:ext cx="0" cy="289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374840" y="2031840"/>
            <a:ext cx="0" cy="289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51200" y="2035080"/>
            <a:ext cx="0" cy="289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92200" y="1125360"/>
            <a:ext cx="0" cy="90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20560" y="1125360"/>
            <a:ext cx="432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23800" y="2036880"/>
            <a:ext cx="217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755640" y="222408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1341360" y="222408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1908000" y="2228400"/>
            <a:ext cx="7164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2475000" y="2228400"/>
            <a:ext cx="712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568080" y="110016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553680" y="199404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50800" y="4097160"/>
            <a:ext cx="636840" cy="3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880920" y="2001960"/>
            <a:ext cx="4320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457280" y="2008080"/>
            <a:ext cx="4320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023920" y="2003400"/>
            <a:ext cx="4320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rot="16200000">
            <a:off x="209880" y="1435680"/>
            <a:ext cx="5842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0640" y="2295360"/>
            <a:ext cx="216072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+ 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39640" y="27208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ОСМ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104840" y="3141720"/>
            <a:ext cx="216000" cy="179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558880" y="3156120"/>
            <a:ext cx="216000" cy="179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074600" y="310824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529000" y="3122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133640" y="37450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58680" y="3745080"/>
            <a:ext cx="5763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Тип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238480" y="3728880"/>
            <a:ext cx="215640" cy="21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841400" y="3429000"/>
            <a:ext cx="216000" cy="21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666800" y="3429000"/>
            <a:ext cx="5763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Тип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025720" y="3728880"/>
            <a:ext cx="5763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Тип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441440" y="331956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443320" y="3322800"/>
            <a:ext cx="0" cy="10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455560" y="3441600"/>
            <a:ext cx="10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2452320" y="4233960"/>
            <a:ext cx="10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774720" y="4194000"/>
            <a:ext cx="100080" cy="5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 flipV="1">
            <a:off x="1245960" y="3414240"/>
            <a:ext cx="9972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176560" y="3116160"/>
            <a:ext cx="349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18134400">
            <a:off x="553680" y="4020840"/>
            <a:ext cx="349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rot="18134400">
            <a:off x="973080" y="3308040"/>
            <a:ext cx="349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306440" y="3116160"/>
            <a:ext cx="349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39920" y="3382920"/>
            <a:ext cx="349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1760" y="4043520"/>
            <a:ext cx="349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4070160" y="1628640"/>
            <a:ext cx="215640" cy="36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4370400" y="1603440"/>
            <a:ext cx="50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529240" y="1420920"/>
            <a:ext cx="0" cy="43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5235480" y="180648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842000" y="1418760"/>
            <a:ext cx="0" cy="17964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3841560" y="1787400"/>
            <a:ext cx="252360" cy="16200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786120" y="1857240"/>
            <a:ext cx="4669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781520" y="1447920"/>
            <a:ext cx="4669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300640" y="1801800"/>
            <a:ext cx="4669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778200" y="2328840"/>
            <a:ext cx="865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 5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,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 4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800440" y="2460600"/>
            <a:ext cx="907920" cy="824400"/>
          </a:xfrm>
          <a:prstGeom prst="rect">
            <a:avLst/>
          </a:prstGeom>
          <a:solidFill>
            <a:srgbClr val="dce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1,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916360" y="3870360"/>
            <a:ext cx="1441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,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032440" y="2544840"/>
            <a:ext cx="1201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545000" y="3879720"/>
            <a:ext cx="1513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,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3238560" y="3836880"/>
            <a:ext cx="92160" cy="135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62560" y="3006720"/>
            <a:ext cx="233280" cy="927000"/>
          </a:xfrm>
          <a:custGeom>
            <a:avLst/>
            <a:gdLst/>
            <a:ahLst/>
            <a:rect l="l" t="t" r="r" b="b"/>
            <a:pathLst>
              <a:path w="147" h="584">
                <a:moveTo>
                  <a:pt x="92" y="0"/>
                </a:moveTo>
                <a:cubicBezTo>
                  <a:pt x="111" y="41"/>
                  <a:pt x="130" y="83"/>
                  <a:pt x="138" y="136"/>
                </a:cubicBezTo>
                <a:cubicBezTo>
                  <a:pt x="146" y="189"/>
                  <a:pt x="147" y="260"/>
                  <a:pt x="138" y="317"/>
                </a:cubicBezTo>
                <a:cubicBezTo>
                  <a:pt x="129" y="374"/>
                  <a:pt x="107" y="432"/>
                  <a:pt x="84" y="476"/>
                </a:cubicBezTo>
                <a:cubicBezTo>
                  <a:pt x="61" y="520"/>
                  <a:pt x="17" y="562"/>
                  <a:pt x="0" y="584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4879440" y="390528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8175600" y="2330280"/>
            <a:ext cx="841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180200" y="2967120"/>
            <a:ext cx="841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123400" y="3875040"/>
            <a:ext cx="841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5661000" y="865080"/>
                <a:ext cx="1036800" cy="14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1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1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,1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,1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,1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,1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9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1" name=""/>
          <p:cNvSpPr/>
          <p:nvPr/>
        </p:nvSpPr>
        <p:spPr>
          <a:xfrm>
            <a:off x="5526000" y="218268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–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589720" y="2955960"/>
            <a:ext cx="1368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–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580000" y="3297240"/>
            <a:ext cx="1079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1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7567560" y="4375080"/>
                <a:ext cx="1008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8032680" y="5338800"/>
                <a:ext cx="7923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l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8" name=""/>
          <p:cNvSpPr/>
          <p:nvPr/>
        </p:nvSpPr>
        <p:spPr>
          <a:xfrm>
            <a:off x="8163000" y="5138640"/>
            <a:ext cx="38160" cy="196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8172000" y="5892840"/>
            <a:ext cx="47880" cy="166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139160" y="53150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7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683160" y="6221520"/>
            <a:ext cx="30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7,5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кН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46280" y="6230880"/>
            <a:ext cx="25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 = 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+ 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514520" y="5565600"/>
            <a:ext cx="503280" cy="432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32000" y="5614920"/>
            <a:ext cx="86364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кН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398600" y="4726080"/>
            <a:ext cx="1154160" cy="590400"/>
          </a:xfrm>
          <a:custGeom>
            <a:avLst/>
            <a:gdLst/>
            <a:ahLst/>
            <a:rect l="l" t="t" r="r" b="b"/>
            <a:pathLst>
              <a:path w="727" h="372">
                <a:moveTo>
                  <a:pt x="0" y="35"/>
                </a:moveTo>
                <a:lnTo>
                  <a:pt x="367" y="372"/>
                </a:lnTo>
                <a:lnTo>
                  <a:pt x="727" y="0"/>
                </a:lnTo>
                <a:lnTo>
                  <a:pt x="726" y="35"/>
                </a:lnTo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981080" y="4782960"/>
            <a:ext cx="1800" cy="520920"/>
          </a:xfrm>
          <a:custGeom>
            <a:avLst/>
            <a:gdLst/>
            <a:ahLst/>
            <a:rect l="l" t="t" r="r" b="b"/>
            <a:pathLst>
              <a:path w="1" h="328">
                <a:moveTo>
                  <a:pt x="0" y="0"/>
                </a:moveTo>
                <a:lnTo>
                  <a:pt x="0" y="32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414520" y="4782960"/>
            <a:ext cx="588960" cy="908280"/>
          </a:xfrm>
          <a:custGeom>
            <a:avLst/>
            <a:gdLst/>
            <a:ahLst/>
            <a:rect l="l" t="t" r="r" b="b"/>
            <a:pathLst>
              <a:path w="371" h="572">
                <a:moveTo>
                  <a:pt x="82" y="2"/>
                </a:moveTo>
                <a:cubicBezTo>
                  <a:pt x="89" y="2"/>
                  <a:pt x="103" y="0"/>
                  <a:pt x="127" y="0"/>
                </a:cubicBezTo>
                <a:cubicBezTo>
                  <a:pt x="71" y="40"/>
                  <a:pt x="59" y="51"/>
                  <a:pt x="51" y="72"/>
                </a:cubicBezTo>
                <a:cubicBezTo>
                  <a:pt x="32" y="96"/>
                  <a:pt x="19" y="115"/>
                  <a:pt x="11" y="144"/>
                </a:cubicBezTo>
                <a:cubicBezTo>
                  <a:pt x="3" y="173"/>
                  <a:pt x="0" y="214"/>
                  <a:pt x="3" y="244"/>
                </a:cubicBezTo>
                <a:cubicBezTo>
                  <a:pt x="6" y="274"/>
                  <a:pt x="17" y="299"/>
                  <a:pt x="31" y="324"/>
                </a:cubicBezTo>
                <a:cubicBezTo>
                  <a:pt x="45" y="349"/>
                  <a:pt x="66" y="371"/>
                  <a:pt x="87" y="392"/>
                </a:cubicBezTo>
                <a:cubicBezTo>
                  <a:pt x="108" y="413"/>
                  <a:pt x="128" y="429"/>
                  <a:pt x="155" y="448"/>
                </a:cubicBezTo>
                <a:cubicBezTo>
                  <a:pt x="182" y="467"/>
                  <a:pt x="211" y="487"/>
                  <a:pt x="247" y="508"/>
                </a:cubicBezTo>
                <a:cubicBezTo>
                  <a:pt x="283" y="529"/>
                  <a:pt x="299" y="544"/>
                  <a:pt x="371" y="572"/>
                </a:cubicBezTo>
                <a:cubicBezTo>
                  <a:pt x="298" y="568"/>
                  <a:pt x="142" y="572"/>
                  <a:pt x="82" y="572"/>
                </a:cubicBezTo>
              </a:path>
            </a:pathLst>
          </a:custGeom>
          <a:blipFill rotWithShape="0">
            <a:blip r:embed="rId2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2274480" y="5230800"/>
            <a:ext cx="15732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569960" y="524844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825480" y="4773600"/>
            <a:ext cx="577800" cy="1031760"/>
          </a:xfrm>
          <a:custGeom>
            <a:avLst/>
            <a:gdLst/>
            <a:ahLst/>
            <a:rect l="l" t="t" r="r" b="b"/>
            <a:pathLst>
              <a:path w="364" h="650">
                <a:moveTo>
                  <a:pt x="364" y="0"/>
                </a:moveTo>
                <a:lnTo>
                  <a:pt x="136" y="650"/>
                </a:lnTo>
                <a:lnTo>
                  <a:pt x="0" y="576"/>
                </a:lnTo>
              </a:path>
            </a:pathLst>
          </a:custGeom>
          <a:blipFill rotWithShape="0">
            <a:blip r:embed="rId28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2423880" y="5230800"/>
            <a:ext cx="122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019240" y="539604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,8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503440" y="4514760"/>
            <a:ext cx="6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,3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941560" y="54957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857160" y="574344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826920" y="4780080"/>
            <a:ext cx="1724040" cy="911160"/>
          </a:xfrm>
          <a:custGeom>
            <a:avLst/>
            <a:gdLst/>
            <a:ahLst/>
            <a:rect l="l" t="t" r="r" b="b"/>
            <a:pathLst>
              <a:path w="1086" h="574">
                <a:moveTo>
                  <a:pt x="0" y="574"/>
                </a:moveTo>
                <a:lnTo>
                  <a:pt x="359" y="0"/>
                </a:lnTo>
                <a:lnTo>
                  <a:pt x="1086" y="0"/>
                </a:lnTo>
                <a:lnTo>
                  <a:pt x="1086" y="5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9" dur="indefinite" restart="never" nodeType="tmRoot">
          <p:childTnLst>
            <p:seq>
              <p:cTn id="1690" dur="indefinite" nodeType="mainSeq">
                <p:childTnLst>
                  <p:par>
                    <p:cTn id="1691" fill="hold">
                      <p:stCondLst>
                        <p:cond delay="0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5500"/>
                            </p:stCondLst>
                            <p:childTnLst>
                              <p:par>
                                <p:cTn id="17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6500"/>
                            </p:stCondLst>
                            <p:childTnLst>
                              <p:par>
                                <p:cTn id="17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>
            <a:hlinkClick r:id="" action="ppaction://hlinkshowjump?jump=nextslide"/>
          </p:cNvPr>
          <p:cNvSpPr/>
          <p:nvPr/>
        </p:nvSpPr>
        <p:spPr>
          <a:xfrm>
            <a:off x="1258920" y="260280"/>
            <a:ext cx="6553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 Black"/>
              </a:rPr>
              <a:t>ОСОБЕННОСТИ РАСЧЁТА ДЕФОРМИРУЕМЫХ СИСТ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 Black"/>
              </a:rPr>
              <a:t>МЕТОДОМ ПЕРЕМЕЩ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66560" y="1174680"/>
            <a:ext cx="396108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обенности, обусловл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идом воз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716360" y="1190520"/>
            <a:ext cx="424836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обенности, связ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 типом рассчитываемой сист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характером работы элемен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268360" y="958680"/>
            <a:ext cx="4680000" cy="249480"/>
          </a:xfrm>
          <a:custGeom>
            <a:avLst/>
            <a:gdLst/>
            <a:ahLst/>
            <a:rect l="l" t="t" r="r" b="b"/>
            <a:pathLst>
              <a:path w="1371" h="136">
                <a:moveTo>
                  <a:pt x="1371" y="129"/>
                </a:moveTo>
                <a:lnTo>
                  <a:pt x="1360" y="0"/>
                </a:lnTo>
                <a:lnTo>
                  <a:pt x="0" y="0"/>
                </a:lnTo>
                <a:lnTo>
                  <a:pt x="0" y="1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643280" y="755640"/>
            <a:ext cx="0" cy="2160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6" dur="indefinite" restart="never" nodeType="tmRoot">
          <p:childTnLst>
            <p:seq>
              <p:cTn id="1777" dur="indefinite" nodeType="mainSeq">
                <p:childTnLst>
                  <p:par>
                    <p:cTn id="1778" fill="hold">
                      <p:stCondLst>
                        <p:cond delay="0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2" dur="8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3" dur="8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4" dur="8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1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6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1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4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79640" y="665280"/>
            <a:ext cx="51847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 обусловленные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идом воз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63520" y="1401840"/>
            <a:ext cx="1368360" cy="482760"/>
          </a:xfrm>
          <a:prstGeom prst="rect">
            <a:avLst/>
          </a:prstGeom>
          <a:solidFill>
            <a:srgbClr val="84e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Вид воз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703520" y="1401840"/>
            <a:ext cx="1368360" cy="482760"/>
          </a:xfrm>
          <a:prstGeom prst="rect">
            <a:avLst/>
          </a:prstGeom>
          <a:solidFill>
            <a:srgbClr val="84e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Канонические урав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143160" y="1401840"/>
            <a:ext cx="1368360" cy="482760"/>
          </a:xfrm>
          <a:prstGeom prst="rect">
            <a:avLst/>
          </a:prstGeom>
          <a:solidFill>
            <a:srgbClr val="84e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Свободные члены КУМ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583160" y="1397160"/>
            <a:ext cx="1368360" cy="482760"/>
          </a:xfrm>
          <a:prstGeom prst="rect">
            <a:avLst/>
          </a:prstGeom>
          <a:solidFill>
            <a:srgbClr val="84e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сновные неизвест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024600" y="1401840"/>
            <a:ext cx="1368360" cy="482760"/>
          </a:xfrm>
          <a:prstGeom prst="rect">
            <a:avLst/>
          </a:prstGeom>
          <a:solidFill>
            <a:srgbClr val="84e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Искомые уси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464600" y="1401840"/>
            <a:ext cx="1368360" cy="482760"/>
          </a:xfrm>
          <a:prstGeom prst="rect">
            <a:avLst/>
          </a:prstGeom>
          <a:solidFill>
            <a:srgbClr val="84e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Кинематичес-кая провер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72880" y="1919160"/>
            <a:ext cx="1368720" cy="163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ил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(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712880" y="1919160"/>
            <a:ext cx="1368360" cy="1579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152880" y="1911240"/>
            <a:ext cx="1368360" cy="1579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592520" y="1914480"/>
            <a:ext cx="1368720" cy="1579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033960" y="1919160"/>
            <a:ext cx="1368720" cy="1579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473960" y="1919160"/>
            <a:ext cx="1368360" cy="1579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76120" y="3495600"/>
            <a:ext cx="1368360" cy="157536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емператур-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716120" y="3495600"/>
            <a:ext cx="1368360" cy="157932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156120" y="3495600"/>
            <a:ext cx="1368360" cy="157932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595760" y="3490920"/>
            <a:ext cx="1368360" cy="157932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037200" y="3495600"/>
            <a:ext cx="1368360" cy="157932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477200" y="3495600"/>
            <a:ext cx="1368360" cy="157932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76120" y="5062680"/>
            <a:ext cx="1368360" cy="1546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инемати-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(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716120" y="5062680"/>
            <a:ext cx="1368360" cy="1579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156120" y="5062680"/>
            <a:ext cx="1368360" cy="1579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595760" y="5070600"/>
            <a:ext cx="1368360" cy="1579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037200" y="5062680"/>
            <a:ext cx="1368360" cy="1579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477200" y="5062680"/>
            <a:ext cx="1368360" cy="1579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25360" y="979560"/>
            <a:ext cx="419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Инвариант – матрица внешней жёсткости ОСМ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4370400" y="920880"/>
                <a:ext cx="10857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K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5473800" y="961920"/>
                <a:ext cx="3346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∨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1735200" y="2548080"/>
                <a:ext cx="13208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1754280" y="4068720"/>
                <a:ext cx="13158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727280" y="5618160"/>
                <a:ext cx="1314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с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3110040" y="2166840"/>
                <a:ext cx="14112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R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nv</m:t>
                        </m:r>
                        <m:r>
                          <m:t xml:space="preserve"> 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4603680" y="1952640"/>
                <a:ext cx="1366920" cy="14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⋅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nv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ζ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7" name=""/>
          <p:cNvSpPr/>
          <p:nvPr/>
        </p:nvSpPr>
        <p:spPr>
          <a:xfrm>
            <a:off x="3386160" y="4724280"/>
            <a:ext cx="855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386160" y="6381720"/>
            <a:ext cx="8636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316480" y="3335400"/>
            <a:ext cx="3603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92360" y="3213000"/>
            <a:ext cx="719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000760" y="4941720"/>
            <a:ext cx="7491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378160" y="2936880"/>
            <a:ext cx="2793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403360" y="4449600"/>
            <a:ext cx="2793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390760" y="6000840"/>
            <a:ext cx="2793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7499520" y="2433600"/>
                <a:ext cx="13204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7524720" y="3824280"/>
                <a:ext cx="136836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т</m:t>
                            </m:r>
                          </m:sup>
                        </m:sSub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7" name=""/>
          <p:cNvSpPr/>
          <p:nvPr/>
        </p:nvSpPr>
        <p:spPr>
          <a:xfrm>
            <a:off x="8507520" y="2814480"/>
            <a:ext cx="2793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969320" y="4797360"/>
            <a:ext cx="287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6062760" y="2019240"/>
                <a:ext cx="131292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ζ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v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v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0" name=""/>
          <p:cNvSpPr/>
          <p:nvPr/>
        </p:nvSpPr>
        <p:spPr>
          <a:xfrm>
            <a:off x="6456240" y="3332160"/>
            <a:ext cx="720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423120" y="4941720"/>
            <a:ext cx="504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>
            <a:hlinkClick r:id="" action="ppaction://hlinkshowjump?jump=nextslide"/>
          </p:cNvPr>
          <p:cNvSpPr/>
          <p:nvPr/>
        </p:nvSpPr>
        <p:spPr>
          <a:xfrm>
            <a:off x="1258920" y="260280"/>
            <a:ext cx="6553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 Black"/>
              </a:rPr>
              <a:t>ОСОБЕННОСТИ РАСЧЁТА ДЕФОРМИРУЕМЫХ СИСТ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 Black"/>
              </a:rPr>
              <a:t>МЕТОДОМ ПЕРЕМЕЩ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3265560" y="3728880"/>
                <a:ext cx="119844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3290760" y="5391000"/>
                <a:ext cx="122256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4594320" y="3578400"/>
                <a:ext cx="138744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⋅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nv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6" name=""/>
          <p:cNvSpPr/>
          <p:nvPr/>
        </p:nvSpPr>
        <p:spPr>
          <a:xfrm>
            <a:off x="5003640" y="6524640"/>
            <a:ext cx="7495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4587840" y="5148360"/>
                <a:ext cx="140652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⋅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nv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5972040" y="3603600"/>
                <a:ext cx="144648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nv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6443640" y="6524640"/>
            <a:ext cx="504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5985000" y="5224320"/>
                <a:ext cx="144756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nv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7378560" y="5465880"/>
                <a:ext cx="15703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Δ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  <m:sup>
                            <m:r>
                              <m:t xml:space="preserve">т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2" name=""/>
          <p:cNvSpPr/>
          <p:nvPr/>
        </p:nvSpPr>
        <p:spPr>
          <a:xfrm>
            <a:off x="7966080" y="6402240"/>
            <a:ext cx="287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rot="5400000">
            <a:off x="3599640" y="4156920"/>
            <a:ext cx="287280" cy="216000"/>
          </a:xfrm>
          <a:prstGeom prst="rightArrow">
            <a:avLst>
              <a:gd name="adj1" fmla="val 48537"/>
              <a:gd name="adj2" fmla="val 551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rot="5400000">
            <a:off x="3643560" y="5820480"/>
            <a:ext cx="287280" cy="215640"/>
          </a:xfrm>
          <a:prstGeom prst="rightArrow">
            <a:avLst>
              <a:gd name="adj1" fmla="val 48537"/>
              <a:gd name="adj2" fmla="val 552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7" dur="indefinite" restart="never" nodeType="tmRoot">
          <p:childTnLst>
            <p:seq>
              <p:cTn id="1808" dur="indefinite" nodeType="mainSeq">
                <p:childTnLst>
                  <p:par>
                    <p:cTn id="1809" fill="hold">
                      <p:stCondLst>
                        <p:cond delay="0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3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4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5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0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9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9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2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3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9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8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9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9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4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9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0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9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0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3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7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2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7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2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5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7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0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2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7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2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7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2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7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0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2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7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0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2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5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7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0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2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9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4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7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9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4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9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2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4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7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9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4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7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9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4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9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4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9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2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4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9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2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4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7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9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6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1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6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9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1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4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6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1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4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6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1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6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1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4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6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1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4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6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9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1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4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6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1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4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6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>
            <a:hlinkClick r:id="" action="ppaction://hlinkshowjump?jump=nextslide"/>
          </p:cNvPr>
          <p:cNvSpPr/>
          <p:nvPr/>
        </p:nvSpPr>
        <p:spPr>
          <a:xfrm>
            <a:off x="1258920" y="260280"/>
            <a:ext cx="6553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 Black"/>
              </a:rPr>
              <a:t>ОСОБЕННОСТИ РАСЧЁТА ДЕФОРМИРУЕМЫХ СИСТ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 Black"/>
              </a:rPr>
              <a:t>МЕТОДОМ ПЕРЕМЕЩ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93840" y="1006560"/>
            <a:ext cx="32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Только узловые нагрузки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042920" y="1584360"/>
            <a:ext cx="1728720" cy="1150920"/>
          </a:xfrm>
          <a:custGeom>
            <a:avLst/>
            <a:gdLst/>
            <a:ahLst/>
            <a:rect l="l" t="t" r="r" b="b"/>
            <a:pathLst>
              <a:path w="1225" h="816">
                <a:moveTo>
                  <a:pt x="0" y="816"/>
                </a:moveTo>
                <a:lnTo>
                  <a:pt x="0" y="363"/>
                </a:lnTo>
                <a:lnTo>
                  <a:pt x="499" y="363"/>
                </a:lnTo>
                <a:lnTo>
                  <a:pt x="499" y="0"/>
                </a:lnTo>
                <a:lnTo>
                  <a:pt x="1225" y="0"/>
                </a:lnTo>
                <a:lnTo>
                  <a:pt x="1225" y="81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751040" y="208764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932040" y="2735280"/>
            <a:ext cx="215640" cy="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933480" y="27352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657520" y="2735280"/>
            <a:ext cx="216000" cy="7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658960" y="27352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638360" y="2735280"/>
            <a:ext cx="21600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639800" y="27352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733840" y="269388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784600" y="158436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54200" y="209376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751040" y="12891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rot="7485000">
            <a:off x="2630880" y="1429200"/>
            <a:ext cx="28836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95183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951838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rot="2726400">
            <a:off x="1604520" y="1433160"/>
            <a:ext cx="28872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95183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951838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rot="12199200">
            <a:off x="1607400" y="1956600"/>
            <a:ext cx="28836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95183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951838"/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044720" y="3240000"/>
            <a:ext cx="1728720" cy="1150920"/>
          </a:xfrm>
          <a:custGeom>
            <a:avLst/>
            <a:gdLst/>
            <a:ahLst/>
            <a:rect l="l" t="t" r="r" b="b"/>
            <a:pathLst>
              <a:path w="1225" h="816">
                <a:moveTo>
                  <a:pt x="0" y="816"/>
                </a:moveTo>
                <a:lnTo>
                  <a:pt x="0" y="363"/>
                </a:lnTo>
                <a:lnTo>
                  <a:pt x="499" y="363"/>
                </a:lnTo>
                <a:lnTo>
                  <a:pt x="499" y="0"/>
                </a:lnTo>
                <a:lnTo>
                  <a:pt x="1225" y="0"/>
                </a:lnTo>
                <a:lnTo>
                  <a:pt x="1225" y="81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752480" y="374328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933480" y="4390920"/>
            <a:ext cx="21600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934920" y="43909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658960" y="4390920"/>
            <a:ext cx="216000" cy="73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660760" y="43909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639800" y="4390920"/>
            <a:ext cx="21600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641600" y="43909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236680" y="320508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735280" y="4349880"/>
            <a:ext cx="71280" cy="7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971640" y="3525840"/>
            <a:ext cx="144360" cy="54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973080" y="35798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676520" y="2997360"/>
            <a:ext cx="144360" cy="53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677960" y="30510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193840" y="2997360"/>
            <a:ext cx="144720" cy="53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195640" y="30510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697120" y="2997360"/>
            <a:ext cx="144360" cy="536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698920" y="30510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763640" y="3519360"/>
            <a:ext cx="108000" cy="54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765440" y="357336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rot="5400000">
            <a:off x="775440" y="3721680"/>
            <a:ext cx="144360" cy="540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874800" y="367812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rot="5400000">
            <a:off x="1462680" y="3212280"/>
            <a:ext cx="144720" cy="54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562040" y="316872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rot="5400000">
            <a:off x="1992960" y="3170880"/>
            <a:ext cx="144360" cy="540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092320" y="312732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rot="5400000">
            <a:off x="1915200" y="3728160"/>
            <a:ext cx="144360" cy="540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962000" y="368460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rot="5400000">
            <a:off x="2927880" y="3218400"/>
            <a:ext cx="144360" cy="54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975040" y="317484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861840" y="3751200"/>
            <a:ext cx="14472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560600" y="3238560"/>
            <a:ext cx="144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14640" y="3206880"/>
            <a:ext cx="144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803680" y="3244680"/>
            <a:ext cx="144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789200" y="3757680"/>
            <a:ext cx="144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1751040" y="3068280"/>
            <a:ext cx="0" cy="144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2268360" y="3055680"/>
            <a:ext cx="0" cy="144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2770200" y="3062160"/>
            <a:ext cx="0" cy="14472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1797120" y="3584160"/>
            <a:ext cx="0" cy="144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1049400" y="3579480"/>
            <a:ext cx="0" cy="144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725480" y="302256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722600" y="3166920"/>
            <a:ext cx="5364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676520" y="321156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535040" y="321300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239920" y="302256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744640" y="302256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744640" y="316692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789280" y="321300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948040" y="321948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063880" y="317340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771560" y="354492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770120" y="372888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928880" y="372888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023840" y="3551400"/>
            <a:ext cx="54000" cy="5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023840" y="3683160"/>
            <a:ext cx="54000" cy="5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855720" y="372276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984240" y="372276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rot="2700000">
            <a:off x="1488600" y="3566160"/>
            <a:ext cx="144360" cy="54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rot="18900000">
            <a:off x="1187280" y="3569760"/>
            <a:ext cx="144720" cy="540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1074600" y="3529080"/>
            <a:ext cx="21600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rot="18900000">
            <a:off x="1887480" y="3057120"/>
            <a:ext cx="144360" cy="54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1768320" y="3016080"/>
            <a:ext cx="21600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522440" y="3522600"/>
            <a:ext cx="21600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rot="2700000">
            <a:off x="2501280" y="3054960"/>
            <a:ext cx="144360" cy="540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535120" y="3011400"/>
            <a:ext cx="21600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96920" y="2975040"/>
            <a:ext cx="143964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 Black"/>
              </a:rPr>
              <a:t>ОСМ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(общий случ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работы элемент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57120" y="4449600"/>
            <a:ext cx="151308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Концевые уси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rot="5400000">
            <a:off x="811800" y="4980600"/>
            <a:ext cx="252360" cy="216000"/>
          </a:xfrm>
          <a:prstGeom prst="rightArrow">
            <a:avLst>
              <a:gd name="adj1" fmla="val 48537"/>
              <a:gd name="adj2" fmla="val 48415"/>
            </a:avLst>
          </a:prstGeom>
          <a:solidFill>
            <a:srgbClr val="bbe0e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717480" y="5183280"/>
            <a:ext cx="1231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– c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т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2268360" y="12970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2771640" y="1287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235240" y="154944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671920" y="3116160"/>
            <a:ext cx="215640" cy="21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478240" y="3284640"/>
            <a:ext cx="252360" cy="215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475000" y="32418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847960" y="3305160"/>
            <a:ext cx="276120" cy="1444680"/>
          </a:xfrm>
          <a:custGeom>
            <a:avLst/>
            <a:gdLst/>
            <a:ahLst/>
            <a:rect l="l" t="t" r="r" b="b"/>
            <a:pathLst>
              <a:path w="174" h="910">
                <a:moveTo>
                  <a:pt x="0" y="0"/>
                </a:moveTo>
                <a:cubicBezTo>
                  <a:pt x="14" y="27"/>
                  <a:pt x="58" y="89"/>
                  <a:pt x="86" y="162"/>
                </a:cubicBezTo>
                <a:cubicBezTo>
                  <a:pt x="114" y="235"/>
                  <a:pt x="158" y="351"/>
                  <a:pt x="166" y="438"/>
                </a:cubicBezTo>
                <a:cubicBezTo>
                  <a:pt x="174" y="525"/>
                  <a:pt x="161" y="607"/>
                  <a:pt x="134" y="686"/>
                </a:cubicBezTo>
                <a:cubicBezTo>
                  <a:pt x="107" y="765"/>
                  <a:pt x="29" y="863"/>
                  <a:pt x="2" y="9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322360" y="5180040"/>
            <a:ext cx="287640" cy="287280"/>
          </a:xfrm>
          <a:custGeom>
            <a:avLst/>
            <a:gdLst/>
            <a:ahLst/>
            <a:rect l="l" t="t" r="r" b="b"/>
            <a:pathLst>
              <a:path w="181" h="227">
                <a:moveTo>
                  <a:pt x="0" y="0"/>
                </a:moveTo>
                <a:lnTo>
                  <a:pt x="181" y="0"/>
                </a:lnTo>
                <a:lnTo>
                  <a:pt x="181" y="227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322360" y="515160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571840" y="5467320"/>
            <a:ext cx="7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2629080" y="48927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2571840" y="4819320"/>
            <a:ext cx="0" cy="35892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619360" y="518004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614680" y="5232240"/>
            <a:ext cx="42228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rot="7770000">
            <a:off x="2448720" y="5027040"/>
            <a:ext cx="28836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95183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951838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rot="2560200">
            <a:off x="2390760" y="5026680"/>
            <a:ext cx="381600" cy="35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732" y="3470"/>
                </a:moveTo>
                <a:arcTo wR="10800" hR="10800" stAng="-2564543" swAng="9116381"/>
                <a:lnTo>
                  <a:pt x="10800" y="10800"/>
                </a:lnTo>
                <a:close/>
              </a:path>
              <a:path fill="none" w="21600" h="21600">
                <a:moveTo>
                  <a:pt x="18732" y="3470"/>
                </a:moveTo>
                <a:arcTo wR="10800" hR="10800" stAng="-2564543" swAng="9116381"/>
              </a:path>
            </a:pathLst>
          </a:custGeom>
          <a:noFill/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728800" y="4910040"/>
            <a:ext cx="43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x,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557440" y="4699080"/>
            <a:ext cx="43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y,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125800" y="4836960"/>
            <a:ext cx="423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062080" y="5211720"/>
            <a:ext cx="63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990033"/>
                </a:solidFill>
                <a:latin typeface="Times New Roman"/>
              </a:rPr>
              <a:t>F,t</a:t>
            </a:r>
            <a:r>
              <a:rPr b="1" i="1" lang="en-US" sz="8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1400" spc="-1" strike="noStrike" baseline="-25000">
                <a:solidFill>
                  <a:srgbClr val="990033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852640" y="5178600"/>
            <a:ext cx="63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990033"/>
                </a:solidFill>
                <a:latin typeface="Times New Roman"/>
              </a:rPr>
              <a:t>F,t</a:t>
            </a:r>
            <a:r>
              <a:rPr b="1" i="1" lang="en-US" sz="8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1400" spc="-1" strike="noStrike" baseline="-25000">
                <a:solidFill>
                  <a:srgbClr val="990033"/>
                </a:solidFill>
                <a:latin typeface="Times New Roman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135160" y="4525920"/>
            <a:ext cx="63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990033"/>
                </a:solidFill>
                <a:latin typeface="Times New Roman"/>
              </a:rPr>
              <a:t>F,t</a:t>
            </a:r>
            <a:r>
              <a:rPr b="1" i="1" lang="en-US" sz="8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1400" spc="-1" strike="noStrike" baseline="-25000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rot="5400000">
            <a:off x="2472480" y="5571360"/>
            <a:ext cx="287280" cy="216000"/>
          </a:xfrm>
          <a:prstGeom prst="rightArrow">
            <a:avLst>
              <a:gd name="adj1" fmla="val 48537"/>
              <a:gd name="adj2" fmla="val 55115"/>
            </a:avLst>
          </a:prstGeom>
          <a:solidFill>
            <a:srgbClr val="bbe0e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960560" y="5781600"/>
            <a:ext cx="1231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,t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u,t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63600" y="5781600"/>
            <a:ext cx="1084320" cy="343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rot="10800000">
            <a:off x="1471320" y="5824440"/>
            <a:ext cx="509400" cy="216000"/>
          </a:xfrm>
          <a:prstGeom prst="rightArrow">
            <a:avLst>
              <a:gd name="adj1" fmla="val 48537"/>
              <a:gd name="adj2" fmla="val 63184"/>
            </a:avLst>
          </a:prstGeom>
          <a:solidFill>
            <a:srgbClr val="bbe0e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rot="5400000">
            <a:off x="800640" y="5550480"/>
            <a:ext cx="287640" cy="216000"/>
          </a:xfrm>
          <a:prstGeom prst="rightArrow">
            <a:avLst>
              <a:gd name="adj1" fmla="val 48537"/>
              <a:gd name="adj2" fmla="val 55184"/>
            </a:avLst>
          </a:prstGeom>
          <a:solidFill>
            <a:srgbClr val="bbe0e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71520" y="6199200"/>
            <a:ext cx="1079280" cy="371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 = 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828720" y="6116040"/>
            <a:ext cx="287280" cy="7308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639800" y="6199200"/>
            <a:ext cx="2116080" cy="371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 = Ka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т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H="1" rot="10800000">
            <a:off x="1411920" y="6269040"/>
            <a:ext cx="269640" cy="216000"/>
          </a:xfrm>
          <a:prstGeom prst="rightArrow">
            <a:avLst>
              <a:gd name="adj1" fmla="val 48537"/>
              <a:gd name="adj2" fmla="val 51731"/>
            </a:avLst>
          </a:prstGeom>
          <a:solidFill>
            <a:srgbClr val="ffcc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780000" y="1062000"/>
            <a:ext cx="0" cy="54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851280" y="907920"/>
            <a:ext cx="49687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Приведение заданных воздейств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к расчётным узловым нагрузкам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253040" y="1947960"/>
            <a:ext cx="1728720" cy="1150920"/>
          </a:xfrm>
          <a:custGeom>
            <a:avLst/>
            <a:gdLst/>
            <a:ahLst/>
            <a:rect l="l" t="t" r="r" b="b"/>
            <a:pathLst>
              <a:path w="1225" h="816">
                <a:moveTo>
                  <a:pt x="0" y="816"/>
                </a:moveTo>
                <a:lnTo>
                  <a:pt x="0" y="363"/>
                </a:lnTo>
                <a:lnTo>
                  <a:pt x="499" y="363"/>
                </a:lnTo>
                <a:lnTo>
                  <a:pt x="499" y="0"/>
                </a:lnTo>
                <a:lnTo>
                  <a:pt x="1225" y="0"/>
                </a:lnTo>
                <a:lnTo>
                  <a:pt x="1225" y="81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960800" y="245124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141800" y="3098880"/>
            <a:ext cx="216000" cy="730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143240" y="30988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867280" y="3098880"/>
            <a:ext cx="216000" cy="730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869080" y="30988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848120" y="3098880"/>
            <a:ext cx="216000" cy="730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849920" y="30988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943600" y="305748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777000" y="2502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949560" y="24573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rot="3841200">
            <a:off x="4809240" y="2327760"/>
            <a:ext cx="288720" cy="28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604" y="2413"/>
                </a:moveTo>
                <a:arcTo wR="10800" hR="10800" stAng="-3056888" swAng="9608726"/>
                <a:lnTo>
                  <a:pt x="10800" y="10800"/>
                </a:lnTo>
                <a:close/>
              </a:path>
              <a:path fill="none" w="21600" h="21600">
                <a:moveTo>
                  <a:pt x="17604" y="2413"/>
                </a:moveTo>
                <a:arcTo wR="10800" hR="10800" stAng="-3056888" swAng="9608726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445000" y="191304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791400" y="1940040"/>
            <a:ext cx="1728720" cy="1150920"/>
          </a:xfrm>
          <a:custGeom>
            <a:avLst/>
            <a:gdLst/>
            <a:ahLst/>
            <a:rect l="l" t="t" r="r" b="b"/>
            <a:pathLst>
              <a:path w="1225" h="816">
                <a:moveTo>
                  <a:pt x="0" y="816"/>
                </a:moveTo>
                <a:lnTo>
                  <a:pt x="0" y="363"/>
                </a:lnTo>
                <a:lnTo>
                  <a:pt x="499" y="363"/>
                </a:lnTo>
                <a:lnTo>
                  <a:pt x="499" y="0"/>
                </a:lnTo>
                <a:lnTo>
                  <a:pt x="1225" y="0"/>
                </a:lnTo>
                <a:lnTo>
                  <a:pt x="1225" y="81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7499520" y="244332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680160" y="3090960"/>
            <a:ext cx="216000" cy="730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681960" y="309096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8405640" y="3090960"/>
            <a:ext cx="216000" cy="730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8407440" y="30909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386480" y="3090960"/>
            <a:ext cx="216000" cy="730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388280" y="30909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983360" y="190512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8481960" y="304956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718320" y="2225520"/>
            <a:ext cx="144360" cy="540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719760" y="2279520"/>
            <a:ext cx="1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423200" y="1697040"/>
            <a:ext cx="144360" cy="54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7424640" y="1751040"/>
            <a:ext cx="1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940520" y="1697040"/>
            <a:ext cx="144720" cy="54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942320" y="17510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8443800" y="1697040"/>
            <a:ext cx="144720" cy="540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8445600" y="17510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510320" y="2219400"/>
            <a:ext cx="108000" cy="54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512120" y="227340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rot="5400000">
            <a:off x="6522120" y="2421720"/>
            <a:ext cx="144720" cy="5400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621480" y="23781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rot="5400000">
            <a:off x="7209360" y="1911960"/>
            <a:ext cx="144360" cy="5400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308720" y="186840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rot="5400000">
            <a:off x="7739640" y="1870560"/>
            <a:ext cx="144360" cy="54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839000" y="18273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rot="5400000">
            <a:off x="7661880" y="2427840"/>
            <a:ext cx="144360" cy="54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709040" y="238428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rot="5400000">
            <a:off x="8674920" y="1918440"/>
            <a:ext cx="144720" cy="5400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8721720" y="187488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608880" y="2451240"/>
            <a:ext cx="144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307280" y="1938240"/>
            <a:ext cx="144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861320" y="1906560"/>
            <a:ext cx="144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8550360" y="1944720"/>
            <a:ext cx="144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535880" y="2457360"/>
            <a:ext cx="144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7497720" y="1768320"/>
            <a:ext cx="0" cy="14472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8015400" y="1755360"/>
            <a:ext cx="0" cy="144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8516880" y="1761840"/>
            <a:ext cx="0" cy="144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7543800" y="2284200"/>
            <a:ext cx="0" cy="144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6796080" y="2279520"/>
            <a:ext cx="0" cy="14472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472520" y="1722600"/>
            <a:ext cx="53640" cy="5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469280" y="186696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423200" y="191124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281720" y="191304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986600" y="1722600"/>
            <a:ext cx="54000" cy="5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8491680" y="1722600"/>
            <a:ext cx="54000" cy="5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8491680" y="186696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535960" y="191304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8694720" y="191916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810560" y="187308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518240" y="224460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516800" y="242892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7675560" y="242892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770520" y="225108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6770520" y="238284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602400" y="242244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730920" y="242244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rot="2700000">
            <a:off x="7235280" y="2265840"/>
            <a:ext cx="144360" cy="54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rot="18900000">
            <a:off x="6934320" y="2269800"/>
            <a:ext cx="144360" cy="5400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6821280" y="2228760"/>
            <a:ext cx="21564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rot="18900000">
            <a:off x="7634160" y="1757520"/>
            <a:ext cx="144720" cy="53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7515000" y="1716120"/>
            <a:ext cx="21564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7269120" y="2222640"/>
            <a:ext cx="216000" cy="215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rot="2700000">
            <a:off x="8247600" y="1755000"/>
            <a:ext cx="144720" cy="54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8282160" y="1711440"/>
            <a:ext cx="215640" cy="215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477040" y="19875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8016840" y="1971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584600" y="21654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143840" y="21528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092480" y="25876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094280" y="272412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4094280" y="28544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095720" y="298116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098960" y="248904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632640" y="258120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634080" y="27176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634080" y="284796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635880" y="29750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638760" y="248292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rot="3841200">
            <a:off x="7347600" y="2326320"/>
            <a:ext cx="288720" cy="28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604" y="2413"/>
                </a:moveTo>
                <a:arcTo wR="10800" hR="10800" stAng="-3056888" swAng="9608726"/>
                <a:lnTo>
                  <a:pt x="10800" y="10800"/>
                </a:lnTo>
                <a:close/>
              </a:path>
              <a:path fill="none" w="21600" h="21600">
                <a:moveTo>
                  <a:pt x="17604" y="2413"/>
                </a:moveTo>
                <a:arcTo wR="10800" hR="10800" stAng="-3056888" swAng="9608726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805200" y="2141640"/>
            <a:ext cx="406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813720" y="2465280"/>
            <a:ext cx="43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427640" y="1913040"/>
            <a:ext cx="366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310360" y="2203560"/>
            <a:ext cx="366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980400" y="1901880"/>
            <a:ext cx="366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7856640" y="2190600"/>
            <a:ext cx="366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423120" y="25718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879720" y="2571840"/>
            <a:ext cx="2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559400" y="25099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7105680" y="25146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rot="16200000">
            <a:off x="5399640" y="1327680"/>
            <a:ext cx="144720" cy="1079640"/>
          </a:xfrm>
          <a:custGeom>
            <a:avLst/>
            <a:gdLst>
              <a:gd name="textAreaLeft" fmla="*/ 0 w 144720"/>
              <a:gd name="textAreaRight" fmla="*/ 52200 w 14472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291280" y="1539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083280" y="3295800"/>
            <a:ext cx="216000" cy="7272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084720" y="32958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159600" y="325440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018120" y="3117960"/>
            <a:ext cx="144720" cy="144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8602560" y="3289320"/>
            <a:ext cx="216000" cy="7308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8604360" y="33019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8678880" y="3247920"/>
            <a:ext cx="712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8537400" y="3111480"/>
            <a:ext cx="144720" cy="144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7837560" y="129384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786720" y="2454120"/>
            <a:ext cx="71280" cy="635040"/>
          </a:xfrm>
          <a:custGeom>
            <a:avLst/>
            <a:gdLst/>
            <a:ahLst/>
            <a:rect l="l" t="t" r="r" b="b"/>
            <a:pathLst>
              <a:path w="45" h="400">
                <a:moveTo>
                  <a:pt x="4" y="0"/>
                </a:moveTo>
                <a:cubicBezTo>
                  <a:pt x="5" y="9"/>
                  <a:pt x="7" y="34"/>
                  <a:pt x="12" y="56"/>
                </a:cubicBezTo>
                <a:cubicBezTo>
                  <a:pt x="17" y="78"/>
                  <a:pt x="31" y="106"/>
                  <a:pt x="36" y="132"/>
                </a:cubicBezTo>
                <a:cubicBezTo>
                  <a:pt x="41" y="158"/>
                  <a:pt x="45" y="186"/>
                  <a:pt x="44" y="212"/>
                </a:cubicBezTo>
                <a:cubicBezTo>
                  <a:pt x="43" y="238"/>
                  <a:pt x="38" y="265"/>
                  <a:pt x="32" y="288"/>
                </a:cubicBezTo>
                <a:cubicBezTo>
                  <a:pt x="26" y="311"/>
                  <a:pt x="13" y="329"/>
                  <a:pt x="8" y="348"/>
                </a:cubicBezTo>
                <a:cubicBezTo>
                  <a:pt x="3" y="367"/>
                  <a:pt x="2" y="389"/>
                  <a:pt x="0" y="40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8526600" y="1940040"/>
            <a:ext cx="164880" cy="1301760"/>
          </a:xfrm>
          <a:custGeom>
            <a:avLst/>
            <a:gdLst/>
            <a:ahLst/>
            <a:rect l="l" t="t" r="r" b="b"/>
            <a:pathLst>
              <a:path w="104" h="820">
                <a:moveTo>
                  <a:pt x="0" y="0"/>
                </a:moveTo>
                <a:cubicBezTo>
                  <a:pt x="1" y="18"/>
                  <a:pt x="2" y="63"/>
                  <a:pt x="4" y="108"/>
                </a:cubicBezTo>
                <a:cubicBezTo>
                  <a:pt x="6" y="153"/>
                  <a:pt x="8" y="216"/>
                  <a:pt x="12" y="268"/>
                </a:cubicBezTo>
                <a:cubicBezTo>
                  <a:pt x="16" y="320"/>
                  <a:pt x="23" y="373"/>
                  <a:pt x="28" y="420"/>
                </a:cubicBezTo>
                <a:cubicBezTo>
                  <a:pt x="33" y="467"/>
                  <a:pt x="37" y="503"/>
                  <a:pt x="44" y="548"/>
                </a:cubicBezTo>
                <a:cubicBezTo>
                  <a:pt x="51" y="593"/>
                  <a:pt x="62" y="647"/>
                  <a:pt x="72" y="692"/>
                </a:cubicBezTo>
                <a:cubicBezTo>
                  <a:pt x="82" y="737"/>
                  <a:pt x="97" y="793"/>
                  <a:pt x="104" y="82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799320" y="2454120"/>
            <a:ext cx="698400" cy="39960"/>
          </a:xfrm>
          <a:custGeom>
            <a:avLst/>
            <a:gdLst/>
            <a:ahLst/>
            <a:rect l="l" t="t" r="r" b="b"/>
            <a:pathLst>
              <a:path w="440" h="25">
                <a:moveTo>
                  <a:pt x="440" y="4"/>
                </a:moveTo>
                <a:cubicBezTo>
                  <a:pt x="431" y="5"/>
                  <a:pt x="408" y="5"/>
                  <a:pt x="384" y="8"/>
                </a:cubicBezTo>
                <a:cubicBezTo>
                  <a:pt x="360" y="11"/>
                  <a:pt x="323" y="17"/>
                  <a:pt x="296" y="20"/>
                </a:cubicBezTo>
                <a:cubicBezTo>
                  <a:pt x="269" y="23"/>
                  <a:pt x="249" y="25"/>
                  <a:pt x="224" y="24"/>
                </a:cubicBezTo>
                <a:cubicBezTo>
                  <a:pt x="199" y="23"/>
                  <a:pt x="173" y="19"/>
                  <a:pt x="144" y="16"/>
                </a:cubicBezTo>
                <a:cubicBezTo>
                  <a:pt x="115" y="13"/>
                  <a:pt x="76" y="7"/>
                  <a:pt x="52" y="4"/>
                </a:cubicBezTo>
                <a:cubicBezTo>
                  <a:pt x="28" y="1"/>
                  <a:pt x="11" y="1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7485120" y="1941480"/>
            <a:ext cx="495360" cy="57240"/>
          </a:xfrm>
          <a:custGeom>
            <a:avLst/>
            <a:gdLst/>
            <a:ahLst/>
            <a:rect l="l" t="t" r="r" b="b"/>
            <a:pathLst>
              <a:path w="312" h="36">
                <a:moveTo>
                  <a:pt x="312" y="11"/>
                </a:moveTo>
                <a:cubicBezTo>
                  <a:pt x="303" y="13"/>
                  <a:pt x="283" y="23"/>
                  <a:pt x="260" y="27"/>
                </a:cubicBezTo>
                <a:cubicBezTo>
                  <a:pt x="237" y="31"/>
                  <a:pt x="199" y="36"/>
                  <a:pt x="176" y="35"/>
                </a:cubicBezTo>
                <a:cubicBezTo>
                  <a:pt x="153" y="34"/>
                  <a:pt x="142" y="28"/>
                  <a:pt x="120" y="23"/>
                </a:cubicBezTo>
                <a:cubicBezTo>
                  <a:pt x="98" y="18"/>
                  <a:pt x="61" y="11"/>
                  <a:pt x="41" y="7"/>
                </a:cubicBezTo>
                <a:cubicBezTo>
                  <a:pt x="21" y="3"/>
                  <a:pt x="9" y="2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8067600" y="1947960"/>
            <a:ext cx="432000" cy="54000"/>
          </a:xfrm>
          <a:custGeom>
            <a:avLst/>
            <a:gdLst/>
            <a:ahLst/>
            <a:rect l="l" t="t" r="r" b="b"/>
            <a:pathLst>
              <a:path w="312" h="36">
                <a:moveTo>
                  <a:pt x="312" y="11"/>
                </a:moveTo>
                <a:cubicBezTo>
                  <a:pt x="303" y="13"/>
                  <a:pt x="283" y="23"/>
                  <a:pt x="260" y="27"/>
                </a:cubicBezTo>
                <a:cubicBezTo>
                  <a:pt x="237" y="31"/>
                  <a:pt x="199" y="36"/>
                  <a:pt x="176" y="35"/>
                </a:cubicBezTo>
                <a:cubicBezTo>
                  <a:pt x="153" y="34"/>
                  <a:pt x="142" y="28"/>
                  <a:pt x="120" y="23"/>
                </a:cubicBezTo>
                <a:cubicBezTo>
                  <a:pt x="98" y="18"/>
                  <a:pt x="61" y="11"/>
                  <a:pt x="41" y="7"/>
                </a:cubicBezTo>
                <a:cubicBezTo>
                  <a:pt x="21" y="3"/>
                  <a:pt x="9" y="2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rot="16200000">
            <a:off x="7933320" y="1080000"/>
            <a:ext cx="144720" cy="1079640"/>
          </a:xfrm>
          <a:custGeom>
            <a:avLst/>
            <a:gdLst>
              <a:gd name="textAreaLeft" fmla="*/ 0 w 144720"/>
              <a:gd name="textAreaRight" fmla="*/ 52200 w 14472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804000" y="1378080"/>
            <a:ext cx="936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 Black"/>
              </a:rPr>
              <a:t>ОСМ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778800" y="3487680"/>
            <a:ext cx="19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783480" y="3165480"/>
            <a:ext cx="0" cy="36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142040" y="3165480"/>
            <a:ext cx="0" cy="36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8016840" y="3165480"/>
            <a:ext cx="0" cy="36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520120" y="3236760"/>
            <a:ext cx="0" cy="289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7497720" y="3165480"/>
            <a:ext cx="0" cy="36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442200" y="1928880"/>
            <a:ext cx="0" cy="1152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396120" y="308772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391440" y="192888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6384960" y="244620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6745320" y="345132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7466040" y="3449160"/>
            <a:ext cx="712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7977240" y="345456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8480520" y="345456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7105680" y="345456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H="1" flipV="1">
            <a:off x="6409800" y="189072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H="1" flipV="1">
            <a:off x="6404040" y="240840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 flipV="1">
            <a:off x="6404040" y="3053880"/>
            <a:ext cx="712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634160" y="3238560"/>
            <a:ext cx="2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8151840" y="3240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rot="16200000">
            <a:off x="6202440" y="26157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rot="16200000">
            <a:off x="6132960" y="1963080"/>
            <a:ext cx="43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764400" y="3238560"/>
            <a:ext cx="4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7118280" y="3238560"/>
            <a:ext cx="46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7493040" y="4156200"/>
            <a:ext cx="1025640" cy="144360"/>
          </a:xfrm>
          <a:custGeom>
            <a:avLst/>
            <a:gdLst/>
            <a:ahLst/>
            <a:rect l="l" t="t" r="r" b="b"/>
            <a:pathLst>
              <a:path w="589" h="136">
                <a:moveTo>
                  <a:pt x="0" y="136"/>
                </a:moveTo>
                <a:lnTo>
                  <a:pt x="0" y="0"/>
                </a:lnTo>
                <a:lnTo>
                  <a:pt x="317" y="136"/>
                </a:lnTo>
                <a:lnTo>
                  <a:pt x="589" y="0"/>
                </a:lnTo>
                <a:lnTo>
                  <a:pt x="589" y="136"/>
                </a:lnTo>
              </a:path>
            </a:pathLst>
          </a:custGeom>
          <a:blipFill rotWithShape="0">
            <a:blip r:embed="rId43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8375760" y="4307040"/>
            <a:ext cx="144360" cy="1152360"/>
          </a:xfrm>
          <a:custGeom>
            <a:avLst/>
            <a:gdLst/>
            <a:ahLst/>
            <a:rect l="l" t="t" r="r" b="b"/>
            <a:pathLst>
              <a:path w="91" h="726">
                <a:moveTo>
                  <a:pt x="91" y="0"/>
                </a:moveTo>
                <a:lnTo>
                  <a:pt x="0" y="0"/>
                </a:lnTo>
                <a:lnTo>
                  <a:pt x="91" y="726"/>
                </a:lnTo>
              </a:path>
            </a:pathLst>
          </a:custGeom>
          <a:blipFill rotWithShape="0">
            <a:blip r:embed="rId4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791400" y="4597560"/>
            <a:ext cx="704880" cy="431640"/>
          </a:xfrm>
          <a:custGeom>
            <a:avLst/>
            <a:gdLst/>
            <a:ahLst/>
            <a:rect l="l" t="t" r="r" b="b"/>
            <a:pathLst>
              <a:path w="454" h="272">
                <a:moveTo>
                  <a:pt x="0" y="136"/>
                </a:moveTo>
                <a:lnTo>
                  <a:pt x="0" y="0"/>
                </a:lnTo>
                <a:lnTo>
                  <a:pt x="227" y="272"/>
                </a:lnTo>
                <a:lnTo>
                  <a:pt x="454" y="0"/>
                </a:lnTo>
                <a:lnTo>
                  <a:pt x="454" y="136"/>
                </a:lnTo>
              </a:path>
            </a:pathLst>
          </a:custGeom>
          <a:blipFill rotWithShape="0">
            <a:blip r:embed="rId45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524640" y="4803840"/>
            <a:ext cx="398520" cy="654120"/>
          </a:xfrm>
          <a:custGeom>
            <a:avLst/>
            <a:gdLst/>
            <a:ahLst/>
            <a:rect l="l" t="t" r="r" b="b"/>
            <a:pathLst>
              <a:path w="251" h="412">
                <a:moveTo>
                  <a:pt x="172" y="4"/>
                </a:moveTo>
                <a:cubicBezTo>
                  <a:pt x="144" y="3"/>
                  <a:pt x="100" y="4"/>
                  <a:pt x="4" y="0"/>
                </a:cubicBezTo>
                <a:cubicBezTo>
                  <a:pt x="80" y="24"/>
                  <a:pt x="81" y="26"/>
                  <a:pt x="112" y="44"/>
                </a:cubicBezTo>
                <a:cubicBezTo>
                  <a:pt x="145" y="62"/>
                  <a:pt x="178" y="87"/>
                  <a:pt x="200" y="108"/>
                </a:cubicBezTo>
                <a:cubicBezTo>
                  <a:pt x="222" y="129"/>
                  <a:pt x="237" y="149"/>
                  <a:pt x="244" y="172"/>
                </a:cubicBezTo>
                <a:cubicBezTo>
                  <a:pt x="251" y="195"/>
                  <a:pt x="249" y="224"/>
                  <a:pt x="240" y="248"/>
                </a:cubicBezTo>
                <a:cubicBezTo>
                  <a:pt x="231" y="272"/>
                  <a:pt x="210" y="295"/>
                  <a:pt x="188" y="316"/>
                </a:cubicBezTo>
                <a:cubicBezTo>
                  <a:pt x="166" y="337"/>
                  <a:pt x="139" y="356"/>
                  <a:pt x="108" y="372"/>
                </a:cubicBezTo>
                <a:cubicBezTo>
                  <a:pt x="77" y="388"/>
                  <a:pt x="72" y="388"/>
                  <a:pt x="0" y="412"/>
                </a:cubicBezTo>
                <a:cubicBezTo>
                  <a:pt x="128" y="412"/>
                  <a:pt x="133" y="412"/>
                  <a:pt x="168" y="412"/>
                </a:cubicBezTo>
              </a:path>
            </a:pathLst>
          </a:custGeom>
          <a:blipFill rotWithShape="0">
            <a:blip r:embed="rId46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791400" y="4302000"/>
            <a:ext cx="1728720" cy="1150920"/>
          </a:xfrm>
          <a:custGeom>
            <a:avLst/>
            <a:gdLst/>
            <a:ahLst/>
            <a:rect l="l" t="t" r="r" b="b"/>
            <a:pathLst>
              <a:path w="1225" h="816">
                <a:moveTo>
                  <a:pt x="0" y="816"/>
                </a:moveTo>
                <a:lnTo>
                  <a:pt x="0" y="363"/>
                </a:lnTo>
                <a:lnTo>
                  <a:pt x="499" y="363"/>
                </a:lnTo>
                <a:lnTo>
                  <a:pt x="499" y="0"/>
                </a:lnTo>
                <a:lnTo>
                  <a:pt x="1225" y="0"/>
                </a:lnTo>
                <a:lnTo>
                  <a:pt x="1225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499520" y="480528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873840" y="4352760"/>
            <a:ext cx="576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6784920" y="4516560"/>
            <a:ext cx="14436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7361280" y="4516560"/>
            <a:ext cx="14436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175440" y="4994280"/>
            <a:ext cx="65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qH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6443640" y="4805280"/>
            <a:ext cx="87480" cy="214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6443280" y="5236920"/>
            <a:ext cx="7956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8717040" y="332100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8683560" y="345456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195960" y="3343320"/>
            <a:ext cx="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978520" y="3125880"/>
            <a:ext cx="0" cy="36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757840" y="308124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5972040" y="343692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5705640" y="3297240"/>
            <a:ext cx="379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702400" y="3094200"/>
            <a:ext cx="215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5942160" y="3403080"/>
            <a:ext cx="712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6157800" y="3409560"/>
            <a:ext cx="7164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flipH="1" flipV="1">
            <a:off x="5718240" y="3263400"/>
            <a:ext cx="712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flipH="1" flipV="1">
            <a:off x="5724000" y="305604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932440" y="3371760"/>
            <a:ext cx="477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5391000" y="2952720"/>
            <a:ext cx="47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8461440" y="3416400"/>
            <a:ext cx="477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529320" y="2178000"/>
            <a:ext cx="216000" cy="179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513480" y="21477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7585200" y="2174760"/>
            <a:ext cx="215640" cy="179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569360" y="21384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246800" y="1684440"/>
            <a:ext cx="216000" cy="179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30960" y="16542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8567640" y="1681200"/>
            <a:ext cx="216000" cy="179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535960" y="16509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7729560" y="4408560"/>
                <a:ext cx="6811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 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 flipV="1">
            <a:off x="8244000" y="4304880"/>
            <a:ext cx="12528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7437600" y="3827520"/>
            <a:ext cx="12175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,5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600" spc="-1" strike="noStrike">
                <a:solidFill>
                  <a:srgbClr val="000000"/>
                </a:solidFill>
                <a:latin typeface="Symbol"/>
                <a:ea typeface="Symbol"/>
              </a:rPr>
              <a:t>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nr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7491240" y="4076280"/>
            <a:ext cx="14472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H="1" flipV="1">
            <a:off x="8415000" y="4070160"/>
            <a:ext cx="104760" cy="83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7780320" y="5024520"/>
            <a:ext cx="43164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772400" y="5016600"/>
            <a:ext cx="50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257720" y="48672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4272120" y="4305240"/>
            <a:ext cx="1728720" cy="1150920"/>
          </a:xfrm>
          <a:custGeom>
            <a:avLst/>
            <a:gdLst/>
            <a:ahLst/>
            <a:rect l="l" t="t" r="r" b="b"/>
            <a:pathLst>
              <a:path w="1225" h="816">
                <a:moveTo>
                  <a:pt x="0" y="816"/>
                </a:moveTo>
                <a:lnTo>
                  <a:pt x="0" y="363"/>
                </a:lnTo>
                <a:lnTo>
                  <a:pt x="499" y="363"/>
                </a:lnTo>
                <a:lnTo>
                  <a:pt x="499" y="0"/>
                </a:lnTo>
                <a:lnTo>
                  <a:pt x="1225" y="0"/>
                </a:lnTo>
                <a:lnTo>
                  <a:pt x="1225" y="81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4979880" y="480852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160880" y="5456160"/>
            <a:ext cx="216000" cy="7308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162320" y="54561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886360" y="5456160"/>
            <a:ext cx="216000" cy="7308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5888160" y="545616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867200" y="5456160"/>
            <a:ext cx="216000" cy="7308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869000" y="545616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464080" y="4270320"/>
            <a:ext cx="7164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962680" y="5415120"/>
            <a:ext cx="71280" cy="7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199040" y="4591080"/>
            <a:ext cx="144360" cy="5400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200480" y="464508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903920" y="4062240"/>
            <a:ext cx="144360" cy="5400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905360" y="41162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421240" y="4062240"/>
            <a:ext cx="144360" cy="5400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423040" y="41162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924520" y="4062240"/>
            <a:ext cx="144360" cy="5400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925960" y="4116240"/>
            <a:ext cx="1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991040" y="4584600"/>
            <a:ext cx="108000" cy="5400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4992840" y="463860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rot="5400000">
            <a:off x="4002840" y="4786920"/>
            <a:ext cx="144360" cy="5400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102200" y="474336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rot="5400000">
            <a:off x="4690080" y="4277520"/>
            <a:ext cx="144720" cy="5400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789440" y="42339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rot="5400000">
            <a:off x="5220360" y="4236120"/>
            <a:ext cx="144360" cy="5400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5319720" y="41925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rot="5400000">
            <a:off x="5142600" y="4793400"/>
            <a:ext cx="144720" cy="5400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189400" y="474984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 rot="5400000">
            <a:off x="6155280" y="4283640"/>
            <a:ext cx="144360" cy="5400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202440" y="424008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089240" y="4816440"/>
            <a:ext cx="14472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788000" y="4303800"/>
            <a:ext cx="144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342040" y="4272120"/>
            <a:ext cx="144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031080" y="4309920"/>
            <a:ext cx="144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016600" y="4822920"/>
            <a:ext cx="144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978440" y="4133520"/>
            <a:ext cx="0" cy="144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5495760" y="4120920"/>
            <a:ext cx="0" cy="144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V="1">
            <a:off x="5997600" y="4127400"/>
            <a:ext cx="0" cy="14472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5024520" y="4649400"/>
            <a:ext cx="0" cy="144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276800" y="4644720"/>
            <a:ext cx="0" cy="144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4952880" y="408780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950000" y="4232160"/>
            <a:ext cx="5364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4903920" y="427680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762440" y="427824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467320" y="408780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5972040" y="408780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972040" y="423216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016680" y="427824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175440" y="428472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291280" y="423864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998960" y="461016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997520" y="479412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156280" y="479412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251240" y="461628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251240" y="474804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083120" y="478800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211640" y="478800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rot="2700000">
            <a:off x="4716000" y="4631400"/>
            <a:ext cx="144360" cy="5400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rot="18900000">
            <a:off x="4414680" y="4635000"/>
            <a:ext cx="144720" cy="5400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4302000" y="4594320"/>
            <a:ext cx="216000" cy="215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rot="18900000">
            <a:off x="5114880" y="4122360"/>
            <a:ext cx="144360" cy="5400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4995720" y="4081320"/>
            <a:ext cx="21600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749840" y="4587840"/>
            <a:ext cx="21600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rot="2700000">
            <a:off x="5728680" y="4120200"/>
            <a:ext cx="144360" cy="5400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762520" y="4076640"/>
            <a:ext cx="21600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5019840" y="388296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4929120" y="48337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rot="3841200">
            <a:off x="4828680" y="4691520"/>
            <a:ext cx="28836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604" y="2413"/>
                </a:moveTo>
                <a:arcTo wR="10800" hR="10800" stAng="-3056888" swAng="9608726"/>
                <a:lnTo>
                  <a:pt x="10800" y="10800"/>
                </a:lnTo>
                <a:close/>
              </a:path>
              <a:path fill="none" w="21600" h="21600">
                <a:moveTo>
                  <a:pt x="17604" y="2413"/>
                </a:moveTo>
                <a:arcTo wR="10800" hR="10800" stAng="-3056888" swAng="9608726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059440" y="4552920"/>
            <a:ext cx="216000" cy="179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043600" y="45226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726080" y="4037040"/>
            <a:ext cx="215640" cy="179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710240" y="40068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035760" y="4052880"/>
            <a:ext cx="215640" cy="179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004080" y="40179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530680" y="4079880"/>
            <a:ext cx="216000" cy="179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5505480" y="4049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8048520" y="1706400"/>
            <a:ext cx="216000" cy="179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8023320" y="16765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5499000" y="43322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5950080" y="388296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4332240" y="44524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984920" y="48718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5246640" y="4737240"/>
            <a:ext cx="471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6012000" y="43624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5184720" y="43671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605480" y="43671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rot="3841200">
            <a:off x="4127040" y="4717440"/>
            <a:ext cx="28872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604" y="2413"/>
                </a:moveTo>
                <a:arcTo wR="10800" hR="10800" stAng="-3056888" swAng="9608726"/>
                <a:lnTo>
                  <a:pt x="10800" y="10800"/>
                </a:lnTo>
                <a:close/>
              </a:path>
              <a:path fill="none" w="21600" h="21600">
                <a:moveTo>
                  <a:pt x="17604" y="2413"/>
                </a:moveTo>
                <a:arcTo wR="10800" hR="10800" stAng="-3056888" swAng="9608726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rot="3841200">
            <a:off x="5857560" y="4215240"/>
            <a:ext cx="28836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604" y="2413"/>
                </a:moveTo>
                <a:arcTo wR="10800" hR="10800" stAng="-3056888" swAng="9608726"/>
                <a:lnTo>
                  <a:pt x="10800" y="10800"/>
                </a:lnTo>
                <a:close/>
              </a:path>
              <a:path fill="none" w="21600" h="21600">
                <a:moveTo>
                  <a:pt x="17604" y="2413"/>
                </a:moveTo>
                <a:arcTo wR="10800" hR="10800" stAng="-3056888" swAng="9608726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4016520" y="4548240"/>
            <a:ext cx="215640" cy="179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4000680" y="45115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944960" y="4902120"/>
            <a:ext cx="503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913200" y="4911840"/>
            <a:ext cx="428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4068720" y="4203720"/>
            <a:ext cx="471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362480" y="4813200"/>
            <a:ext cx="471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354560" y="4087800"/>
            <a:ext cx="471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273720" y="4214880"/>
            <a:ext cx="471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640400" y="5078520"/>
            <a:ext cx="471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879800" y="3676680"/>
            <a:ext cx="471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rot="2800200">
            <a:off x="4808880" y="4214880"/>
            <a:ext cx="28872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604" y="2413"/>
                </a:moveTo>
                <a:arcTo wR="10800" hR="10800" stAng="-3056888" swAng="9608726"/>
                <a:lnTo>
                  <a:pt x="10800" y="10800"/>
                </a:lnTo>
                <a:close/>
              </a:path>
              <a:path fill="none" w="21600" h="21600">
                <a:moveTo>
                  <a:pt x="17604" y="2413"/>
                </a:moveTo>
                <a:arcTo wR="10800" hR="10800" stAng="-3056888" swAng="9608726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546440" y="4338720"/>
            <a:ext cx="422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813280" y="3679920"/>
            <a:ext cx="471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5340240" y="4552920"/>
            <a:ext cx="471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580000" y="4317840"/>
            <a:ext cx="503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089680" y="4311720"/>
            <a:ext cx="471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3924360" y="4149720"/>
            <a:ext cx="2303280" cy="1386000"/>
          </a:xfrm>
          <a:custGeom>
            <a:avLst/>
            <a:gdLst/>
            <a:ahLst/>
            <a:rect l="l" t="t" r="r" b="b"/>
            <a:pathLst>
              <a:path w="1451" h="998">
                <a:moveTo>
                  <a:pt x="0" y="0"/>
                </a:moveTo>
                <a:lnTo>
                  <a:pt x="0" y="998"/>
                </a:lnTo>
                <a:lnTo>
                  <a:pt x="1451" y="99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3805200" y="38847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6162840" y="536112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rot="5400000">
            <a:off x="7890840" y="3419280"/>
            <a:ext cx="268560" cy="576360"/>
          </a:xfrm>
          <a:prstGeom prst="rightArrow">
            <a:avLst>
              <a:gd name="adj1" fmla="val 38296"/>
              <a:gd name="adj2" fmla="val 41421"/>
            </a:avLst>
          </a:prstGeom>
          <a:solidFill>
            <a:srgbClr val="bbe0e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rot="10800000">
            <a:off x="6624720" y="4088880"/>
            <a:ext cx="611280" cy="287640"/>
          </a:xfrm>
          <a:prstGeom prst="rightArrow">
            <a:avLst>
              <a:gd name="adj1" fmla="val 48537"/>
              <a:gd name="adj2" fmla="val 88066"/>
            </a:avLst>
          </a:prstGeom>
          <a:solidFill>
            <a:srgbClr val="bbe0e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832200" y="3483000"/>
            <a:ext cx="208908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чётные узл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гру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3789360" y="5491080"/>
            <a:ext cx="33847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,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qH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2;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 F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,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2;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8 –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qH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789360" y="5683320"/>
            <a:ext cx="3240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,2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  F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,2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2; 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 – F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789360" y="5958000"/>
            <a:ext cx="4383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,3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600" spc="-1" strike="noStrike">
                <a:solidFill>
                  <a:srgbClr val="000000"/>
                </a:solidFill>
                <a:latin typeface="Symbol"/>
                <a:ea typeface="Symbol"/>
              </a:rPr>
              <a:t>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,3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n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h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nr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3780000" y="6173640"/>
            <a:ext cx="52290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,4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600" spc="-1" strike="noStrike">
                <a:solidFill>
                  <a:srgbClr val="000000"/>
                </a:solidFill>
                <a:latin typeface="Symbol"/>
                <a:ea typeface="Symbol"/>
              </a:rPr>
              <a:t>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H+H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,4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n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h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H+H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nr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H+</a:t>
            </a:r>
            <a:r>
              <a:rPr b="1" i="1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6588000" y="6359400"/>
            <a:ext cx="2376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,5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,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n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h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523200" y="6235560"/>
            <a:ext cx="2363760" cy="421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a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т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rot="14607600">
            <a:off x="7896240" y="5641920"/>
            <a:ext cx="1300320" cy="217440"/>
          </a:xfrm>
          <a:custGeom>
            <a:avLst/>
            <a:gdLst>
              <a:gd name="textAreaLeft" fmla="*/ 291960 w 1300320"/>
              <a:gd name="textAreaRight" fmla="*/ 943920 w 1300320"/>
              <a:gd name="textAreaTop" fmla="*/ 29160 h 217440"/>
              <a:gd name="textAreaBottom" fmla="*/ 1882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98" hR="21600" stAng="10800000" swAng="-5400000"/>
                <a:lnTo>
                  <a:pt x="10829" y="21600"/>
                </a:lnTo>
                <a:arcTo wR="9698" hR="21600" stAng="5400000" swAng="-2857129"/>
                <a:lnTo>
                  <a:pt x="20876" y="8189"/>
                </a:lnTo>
                <a:lnTo>
                  <a:pt x="19962" y="0"/>
                </a:lnTo>
                <a:lnTo>
                  <a:pt x="17599" y="8189"/>
                </a:lnTo>
                <a:lnTo>
                  <a:pt x="18672" y="8189"/>
                </a:lnTo>
                <a:arcTo wR="9698" hR="21600" stAng="2542871" swAng="2766995"/>
                <a:lnTo>
                  <a:pt x="10264" y="21563"/>
                </a:lnTo>
                <a:arcTo wR="9698" hR="21600" stAng="5490135" swAng="5309865"/>
                <a:close/>
              </a:path>
              <a:path fill="darkenLess" w="21600" h="21600">
                <a:moveTo>
                  <a:pt x="0" y="0"/>
                </a:moveTo>
                <a:arcTo wR="9698" hR="21600" stAng="10800000" swAng="-5400000"/>
                <a:lnTo>
                  <a:pt x="10829" y="21600"/>
                </a:lnTo>
                <a:arcTo wR="9698" hR="21600" stAng="5400000" swAng="90135"/>
                <a:lnTo>
                  <a:pt x="10264" y="21563"/>
                </a:lnTo>
                <a:arcTo wR="9698" hR="21600" stAng="5490135" swAng="53098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979640" y="665280"/>
            <a:ext cx="51847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 обусловленные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идом воз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7" dur="indefinite" restart="never" nodeType="tmRoot">
          <p:childTnLst>
            <p:seq>
              <p:cTn id="2128" dur="indefinite" nodeType="mainSeq">
                <p:childTnLst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5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8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0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5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8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0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3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5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8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0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3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5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8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0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3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5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8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0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3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5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0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3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5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8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0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3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5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8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0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3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5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8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0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3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5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0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1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5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6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0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1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5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6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0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1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5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6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0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1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5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6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0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1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5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0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5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6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7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0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1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5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6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7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0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1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5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6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0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1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5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6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0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1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5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6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0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1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5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6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0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1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5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6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0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1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5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6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0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5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0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1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5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6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0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1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5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6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0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1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5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6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1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5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6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0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1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5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6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0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1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5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0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1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5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6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0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1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2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5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6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0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1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2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5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6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0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1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5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6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0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1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5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6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7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0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1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5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6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0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1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2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5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6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0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1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2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5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6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0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1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5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6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0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1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2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5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6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0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1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5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6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0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1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2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5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0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1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5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6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7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2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3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4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9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0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1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4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0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2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4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0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6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6" fill="hold">
                      <p:stCondLst>
                        <p:cond delay="indefinite"/>
                      </p:stCondLst>
                      <p:childTnLst>
                        <p:par>
                          <p:cTn id="2637" fill="hold">
                            <p:stCondLst>
                              <p:cond delay="0"/>
                            </p:stCondLst>
                            <p:childTnLst>
                              <p:par>
                                <p:cTn id="26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0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5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8" fill="hold">
                      <p:stCondLst>
                        <p:cond delay="indefinite"/>
                      </p:stCondLst>
                      <p:childTnLst>
                        <p:par>
                          <p:cTn id="2649" fill="hold">
                            <p:stCondLst>
                              <p:cond delay="0"/>
                            </p:stCondLst>
                            <p:childTnLst>
                              <p:par>
                                <p:cTn id="26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2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3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4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7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8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9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2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4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9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0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1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4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5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6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1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2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3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6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8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9" fill="hold">
                      <p:stCondLst>
                        <p:cond delay="indefinite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3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4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8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9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1" fill="hold">
                      <p:stCondLst>
                        <p:cond delay="indefinite"/>
                      </p:stCondLst>
                      <p:childTnLst>
                        <p:par>
                          <p:cTn id="2702" fill="hold">
                            <p:stCondLst>
                              <p:cond delay="0"/>
                            </p:stCondLst>
                            <p:childTnLst>
                              <p:par>
                                <p:cTn id="27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5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7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6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9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2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5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8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4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7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0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3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6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9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2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7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3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5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8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1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4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7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0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3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6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9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2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5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8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6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5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8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3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9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2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8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4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0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3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6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2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4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0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3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2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5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8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1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7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6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9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2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5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8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4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0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6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8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1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3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6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5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8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1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4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7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0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3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2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0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4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7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0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9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8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4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0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9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2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5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8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7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0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3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6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9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8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1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7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0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3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6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9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2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5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8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1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4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5" fill="hold">
                      <p:stCondLst>
                        <p:cond delay="indefinite"/>
                      </p:stCondLst>
                      <p:childTnLst>
                        <p:par>
                          <p:cTn id="3216" fill="hold">
                            <p:stCondLst>
                              <p:cond delay="0"/>
                            </p:stCondLst>
                            <p:childTnLst>
                              <p:par>
                                <p:cTn id="3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0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1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4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5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6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9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0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1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4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5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6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9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0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1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5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6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9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0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1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4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5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6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9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0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1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4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5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6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9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0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1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4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5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6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9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0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4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5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6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9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0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1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4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5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6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9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0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1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4" dur="1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5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6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9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0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1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4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7" fill="hold">
                      <p:stCondLst>
                        <p:cond delay="indefinite"/>
                      </p:stCondLst>
                      <p:childTnLst>
                        <p:par>
                          <p:cTn id="3318" fill="hold">
                            <p:stCondLst>
                              <p:cond delay="0"/>
                            </p:stCondLst>
                            <p:childTnLst>
                              <p:par>
                                <p:cTn id="3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1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2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3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6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7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8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1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2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3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1" dur="1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2" dur="1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6" dur="1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7" dur="1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1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2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6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7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1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2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6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7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1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2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6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7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1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2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6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7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1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2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6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7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1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2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6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7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1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2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6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7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1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2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6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7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8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1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2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6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7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8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1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2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3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6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7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8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1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2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3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6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7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8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1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2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3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6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7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8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1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2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3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6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7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8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1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2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3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6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7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8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1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2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3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6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7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8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1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2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3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6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7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8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1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2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3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6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7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8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1" dur="10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2" dur="10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3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6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7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8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1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2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3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6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7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8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1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2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3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6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7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8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1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3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6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7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8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1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2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3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6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7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8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1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2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3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6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7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8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1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2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3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6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8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1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2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3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6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7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8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1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2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3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6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7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8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1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2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3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6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7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8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1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2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3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6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7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8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1" dur="1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2" dur="1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3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6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7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8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1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2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3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6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7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8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1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2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3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6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7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8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1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2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3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6" dur="10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7" dur="10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8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1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2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3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6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7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8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1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2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3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6" dur="10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7" dur="10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8" dur="1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1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2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3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6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7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8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1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2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3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4" fill="hold">
                      <p:stCondLst>
                        <p:cond delay="indefinite"/>
                      </p:stCondLst>
                      <p:childTnLst>
                        <p:par>
                          <p:cTn id="3705" fill="hold">
                            <p:stCondLst>
                              <p:cond delay="0"/>
                            </p:stCondLst>
                            <p:childTnLst>
                              <p:par>
                                <p:cTn id="37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8" dur="1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9" dur="1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0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3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4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5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8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9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0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1" fill="hold">
                      <p:stCondLst>
                        <p:cond delay="indefinite"/>
                      </p:stCondLst>
                      <p:childTnLst>
                        <p:par>
                          <p:cTn id="3722" fill="hold">
                            <p:stCondLst>
                              <p:cond delay="0"/>
                            </p:stCondLst>
                            <p:childTnLst>
                              <p:par>
                                <p:cTn id="3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5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8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1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4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7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1" fill="hold">
                      <p:stCondLst>
                        <p:cond delay="indefinite"/>
                      </p:stCondLst>
                      <p:childTnLst>
                        <p:par>
                          <p:cTn id="3742" fill="hold">
                            <p:stCondLst>
                              <p:cond delay="0"/>
                            </p:stCondLst>
                            <p:childTnLst>
                              <p:par>
                                <p:cTn id="3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5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1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4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7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0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3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6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9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5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8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9" fill="hold">
                      <p:stCondLst>
                        <p:cond delay="indefinite"/>
                      </p:stCondLst>
                      <p:childTnLst>
                        <p:par>
                          <p:cTn id="3780" fill="hold">
                            <p:stCondLst>
                              <p:cond delay="0"/>
                            </p:stCondLst>
                            <p:childTnLst>
                              <p:par>
                                <p:cTn id="3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3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6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3" fill="hold">
                      <p:stCondLst>
                        <p:cond delay="indefinite"/>
                      </p:stCondLst>
                      <p:childTnLst>
                        <p:par>
                          <p:cTn id="3794" fill="hold">
                            <p:stCondLst>
                              <p:cond delay="0"/>
                            </p:stCondLst>
                            <p:childTnLst>
                              <p:par>
                                <p:cTn id="37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7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0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3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9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2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3" fill="hold">
                      <p:stCondLst>
                        <p:cond delay="indefinite"/>
                      </p:stCondLst>
                      <p:childTnLst>
                        <p:par>
                          <p:cTn id="3814" fill="hold">
                            <p:stCondLst>
                              <p:cond delay="0"/>
                            </p:stCondLst>
                            <p:childTnLst>
                              <p:par>
                                <p:cTn id="38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7" dur="80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8" dur="80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9" dur="80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0" fill="hold">
                      <p:stCondLst>
                        <p:cond delay="indefinite"/>
                      </p:stCondLst>
                      <p:childTnLst>
                        <p:par>
                          <p:cTn id="3821" fill="hold">
                            <p:stCondLst>
                              <p:cond delay="0"/>
                            </p:stCondLst>
                            <p:childTnLst>
                              <p:par>
                                <p:cTn id="38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4" dur="80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5" dur="80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6" dur="80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7" fill="hold">
                      <p:stCondLst>
                        <p:cond delay="indefinite"/>
                      </p:stCondLst>
                      <p:childTnLst>
                        <p:par>
                          <p:cTn id="3828" fill="hold">
                            <p:stCondLst>
                              <p:cond delay="0"/>
                            </p:stCondLst>
                            <p:childTnLst>
                              <p:par>
                                <p:cTn id="38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1" dur="80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2" dur="80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3" dur="80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4" fill="hold">
                      <p:stCondLst>
                        <p:cond delay="indefinite"/>
                      </p:stCondLst>
                      <p:childTnLst>
                        <p:par>
                          <p:cTn id="3835" fill="hold">
                            <p:stCondLst>
                              <p:cond delay="0"/>
                            </p:stCondLst>
                            <p:childTnLst>
                              <p:par>
                                <p:cTn id="38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8" dur="80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9" dur="80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0" dur="80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1" fill="hold">
                      <p:stCondLst>
                        <p:cond delay="indefinite"/>
                      </p:stCondLst>
                      <p:childTnLst>
                        <p:par>
                          <p:cTn id="3842" fill="hold">
                            <p:stCondLst>
                              <p:cond delay="0"/>
                            </p:stCondLst>
                            <p:childTnLst>
                              <p:par>
                                <p:cTn id="3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5" dur="80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6" dur="80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7" dur="80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8" fill="hold">
                      <p:stCondLst>
                        <p:cond delay="indefinite"/>
                      </p:stCondLst>
                      <p:childTnLst>
                        <p:par>
                          <p:cTn id="3849" fill="hold">
                            <p:stCondLst>
                              <p:cond delay="0"/>
                            </p:stCondLst>
                            <p:childTnLst>
                              <p:par>
                                <p:cTn id="38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2" dur="1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3" dur="1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4" dur="1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5" fill="hold">
                      <p:stCondLst>
                        <p:cond delay="indefinite"/>
                      </p:stCondLst>
                      <p:childTnLst>
                        <p:par>
                          <p:cTn id="3856" fill="hold">
                            <p:stCondLst>
                              <p:cond delay="0"/>
                            </p:stCondLst>
                            <p:childTnLst>
                              <p:par>
                                <p:cTn id="38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9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06:55:03Z</dcterms:created>
  <dc:creator>User</dc:creator>
  <dc:description/>
  <dc:language>en-US</dc:language>
  <cp:lastModifiedBy>user</cp:lastModifiedBy>
  <dcterms:modified xsi:type="dcterms:W3CDTF">2011-02-10T13:55:55Z</dcterms:modified>
  <cp:revision>129</cp:revision>
  <dc:subject/>
  <dc:title>Слайд 1</dc:title>
</cp:coreProperties>
</file>